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CHICOTE.WAV" ContentType="audio/x-wav"/>
  <Override PartName="/ppt/media/image4.jpeg" ContentType="image/jpeg"/>
  <Override PartName="/ppt/media/image13.jpeg" ContentType="image/jpeg"/>
  <Override PartName="/ppt/media/LASER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74F-2341-45CD-BB6C-63798C4A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B83-AAA4-4E2E-8A71-0F6E47A1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B18-3C7F-4550-A2D5-37447D00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FC9-655A-449C-8717-ADDD7891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919F-46FC-4E2C-A697-9F7EBFDC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282-C3B0-4AB4-8225-9D5329D1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FF2-0041-449B-86BA-FB05F0C7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D0B-BC66-43D5-BBF3-3E8A22D8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CB0-AFD8-4ACD-B81D-2A78D656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9C0-43BB-48E7-B013-55C9E441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27E-51C5-439B-B723-667B7EB3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3AF-6681-449B-AD63-055DB28C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98D3-5F8D-4F46-8CEC-5715E9F742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COT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s Misses do Orku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40800" y="5715000"/>
            <a:ext cx="41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issexperimenta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934320" cy="5029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14600" y="5586480"/>
            <a:ext cx="384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iss Fu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6800" y="581040"/>
            <a:ext cx="7610400" cy="4905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85400" y="5791320"/>
            <a:ext cx="510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iss Doméstica Parte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23924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43200" y="5967360"/>
            <a:ext cx="42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iss Chev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386480" cy="5295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2360" y="5867280"/>
            <a:ext cx="756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Nova versão da Miss Caixa D’-águ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CO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62320" y="152280"/>
            <a:ext cx="4419360" cy="5486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47320" y="5867280"/>
            <a:ext cx="68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 pra finalizar...Miss Registro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28652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53200" y="598788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Miss Almofadin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00680" cy="501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23720" y="5773680"/>
            <a:ext cx="324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iss Bacia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152280"/>
            <a:ext cx="428652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6760" y="6019920"/>
            <a:ext cx="617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E essa, a Miss Caixa- D’-água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152280"/>
            <a:ext cx="428652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73240" y="5972040"/>
            <a:ext cx="31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iss Chuvei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20120" cy="5000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58480" y="5791320"/>
            <a:ext cx="423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iss “Bicicretinh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6800" y="581040"/>
            <a:ext cx="7610400" cy="528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24960" y="5940360"/>
            <a:ext cx="354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iss Doméstic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14600" y="5486400"/>
            <a:ext cx="42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isspanta!!!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239240" cy="5194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22400" y="5867280"/>
            <a:ext cx="29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iss Esc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23:40:49Z</dcterms:created>
  <dc:creator>Juliana</dc:creator>
  <dc:description/>
  <dc:language>en-US</dc:language>
  <cp:lastModifiedBy>Melilo</cp:lastModifiedBy>
  <dcterms:modified xsi:type="dcterms:W3CDTF">2007-10-10T14:32:49Z</dcterms:modified>
  <cp:revision>9</cp:revision>
  <dc:subject/>
  <dc:title>As Mais Belas do Orkut</dc:title>
</cp:coreProperties>
</file>