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MayItBe_Enya_LordOfTheRings135.wav" ContentType="audio/x-wav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152-2299-4E22-B36F-D90620A6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668-CE2F-41EF-B787-9739BCF6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840-A502-4D00-9230-798334BF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0FB-38C5-4AEF-9777-4F5221DB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67F0-CF8A-4F36-AF88-C289EFD8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98C-F59B-4CBC-AF0E-50F2BA18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12C-FF45-4DF3-AD48-0635C6B1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FF3-7F71-469D-B986-0A7854BD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33D-DBDC-4C19-884F-F78297C5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BFA-2A43-48F8-B7FC-C9009A0B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30D-3F11-484F-868C-4FF9BDE7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47A-58C6-452F-A6FF-450C7D62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3644-FDF6-43EE-8192-364783118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MayItBe_Enya_LordOfTheRings135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4560"/>
            <a:ext cx="9144000" cy="457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190520" cy="723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5280" y="333360"/>
            <a:ext cx="77058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 Finlândia não tem muitos recursos naturais. O hino nacional já diz: ...</a:t>
            </a:r>
            <a:r>
              <a:rPr b="1" i="1" lang="pt-BR" sz="1800" spc="-1" strike="noStrike">
                <a:solidFill>
                  <a:srgbClr val="003366"/>
                </a:solidFill>
                <a:latin typeface="Arial"/>
              </a:rPr>
              <a:t>somos um país pobre, que não tem o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3366"/>
                </a:solidFill>
                <a:latin typeface="Arial"/>
              </a:rPr>
              <a:t>O recurso que temos é o nosso po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ssim, investimos no nosso po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Toda a pessoa tem de receber formação, educaçã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para ir tão longe quanto a sua capacidade permitir. </a:t>
            </a:r>
            <a:br>
              <a:rPr sz="1800"/>
            </a:br>
            <a:br>
              <a:rPr sz="1200"/>
            </a:b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Não é suficiente que uma sociedade possua algumas pessoas muito capacitadas. Toda a sociedade tem de ter a possibilidade de formação durante toda a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Não basta que uma criança pobre receba alguma formação quando pequena. Ela tem de poder estudar o quanto qui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E a Finlândia tem sido um dos países mais competitivos nas estatísticas internacionais com só 5 milhões de habi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Imagine-se o que fariam com o dobro.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  <p:sndAc>
      <p:stSnd>
        <p:snd r:embed="rId3" name="MayItBe_Enya_LordOfTheRings135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5280" y="33336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leopatra"/>
              </a:rPr>
              <a:t>Se Portugal busca inspiração para enfrentar dois dos seus principais problemas actuais (educação e corrupção - considerado um dos países mais corruptos da Europa…), dificilmente poderíamos deixar de visitar um lugar mais apropriado que a Finlân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6748200" cy="6958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94160" y="404640"/>
            <a:ext cx="5398920" cy="64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Finlândia tem um clima inóspito - que dá as fotos lindíssimas que viram atrás. Mas possui uma economia de mercado altamente industrializada, com produção per capita maior que a do Reino Unido, França, Alemanha e Itália. O padrão de vida finlandês é elevado. O sector chave da sua economia é a indústria - principalmente madeireira, metalurgia, engenharia, telecomunicações (destaque para a Nokia) e produtos electró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comércio externo é importante, representando cerca de 1/3 do PIB. Com excepção de madeira e de vários minérios, a Finlândia depende de importações de matérias primas, energia, e alguns componentes de bens manufactu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E se comparássemos isto tudo com o nosso país?...  Não é para ficarmos deprimidos, é para fazermos alguma coisa para mudar as cois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335772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00"/>
                </a:solidFill>
                <a:latin typeface="Mouser Italic"/>
              </a:rPr>
              <a:t>F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252360" y="3444840"/>
            <a:ext cx="442764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 presidente finlandesa, Tarja Halonen, adianta algumas d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vestimento maciço em edu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6% do PIB na Finlândia, sem contar a investigação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); transparência no governo; honestidade partidária”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"É muito importante ter a coragem de alocar os recursos para a educação básica",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ressalta e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200"/>
                            </p:stCondLst>
                            <p:childTnLst>
                              <p:par>
                                <p:cTn id="5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000" y="3789360"/>
            <a:ext cx="579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Um povo educado elegerá dirigentes honestos e competentes. Estes escolherão os melhores assessores. Com um povo inculto acontece exactamente o inver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Um povo educado não tolera corrup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84720" y="1628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m povo educad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abe muito bem distinguir um discurso sério de uma verborreia demagógic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26920" y="260280"/>
            <a:ext cx="68407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Um povo ignorante desperdiça os seus recursos e empobr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Um povo ignorante vive a  iludir-se, e deixa-se ilu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189000"/>
            <a:ext cx="37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Um povo educado prospera mesmo em condições advers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7:50:04Z</dcterms:created>
  <dc:creator>IKKE</dc:creator>
  <dc:description/>
  <dc:language>en-US</dc:language>
  <cp:lastModifiedBy>Carlos Costa Almeida</cp:lastModifiedBy>
  <dcterms:modified xsi:type="dcterms:W3CDTF">2009-01-16T10:48:44Z</dcterms:modified>
  <cp:revision>12</cp:revision>
  <dc:subject/>
  <dc:title>Dia 1</dc:title>
</cp:coreProperties>
</file>