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sound%20jejej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957-CAA1-4F3C-B6DC-C68699D4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75E-8560-4C9A-ABF2-0EF84D18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668-6F0A-4D8E-986E-0799C70B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211-A315-44C6-A022-59A1B7D2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ACF-F986-43F9-9EB3-8F5C5C4E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104-C726-4A99-95A9-2E46E60B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966-8BB0-4040-99E2-9E278086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4CF-DB8E-400D-8139-8EA200B7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BC9-1F85-4349-AB0B-2102AE6F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B16-CBF5-441B-B3FE-B3B84D54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EDA-024F-4E4A-8243-8BF2C736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C04-F7D1-4DF8-821E-59E63E94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1A06-1A2A-4965-B477-BAA736628F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ound%20jejej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3000" y="5300640"/>
            <a:ext cx="896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m dia um macaquinho, pergunta para sua mã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MÃE, PORQUE É QUE NÓS SOMOS TÃO FEI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36000" y="6750000"/>
            <a:ext cx="10800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762120"/>
            <a:ext cx="87631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MAMÃE SORRI E LHE DI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VERIAS DE ESTAR FELIZ E AGRADECER A DEUS POR SERMOS ASSIM FILHINHO,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Ú DEVERÍAS DE VER A PESSOA QUE ESTÁ LE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TE E-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58:13Z</dcterms:created>
  <dc:creator/>
  <dc:description/>
  <dc:language>en-US</dc:language>
  <cp:lastModifiedBy>Microsoft</cp:lastModifiedBy>
  <dcterms:modified xsi:type="dcterms:W3CDTF">2008-06-03T17:03:42Z</dcterms:modified>
  <cp:revision>8</cp:revision>
  <dc:subject/>
  <dc:title>JAJAJAJA</dc:title>
</cp:coreProperties>
</file>