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3.jpeg" ContentType="image/jpeg"/>
  <Override PartName="/ppt/media/image1.gif" ContentType="image/gif"/>
  <Override PartName="/ppt/media/Contatos%20imediatos-17k.wav" ContentType="audio/x-wav"/>
  <Override PartName="/ppt/media/LosLobos-Tequila-Redz-0.45-134k.wav" ContentType="audio/x-wav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71C-37FA-4566-9A93-25586B11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EB0-85BE-4E40-9027-C79B262A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185-DB10-4E4E-BFFD-F47936CE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750-7F44-4614-A6FD-C66DCC60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905-DB4A-4890-8EA1-A57275EC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C07-B5EE-4C6D-BF34-7BBBBB4F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A5E-89E5-4ED3-87BD-16B79897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C7C-1C04-40CF-9248-A11DD04F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14B-BAD6-4E3A-91D0-0A2421F3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8BF-A159-4F99-94F9-7DDF91D4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F39-679F-4B87-A49B-0ACB5AAF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7D3-3D65-4858-9DCB-1020C73F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4ECE-4CB4-4F94-9C79-9F8B50E06FB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LosLobos-Tequila-Redz-0.45-134k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ontatos%20imediatos-17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Qual a diferença entre Paris e New York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24360" y="5229360"/>
            <a:ext cx="10476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7220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838080"/>
            <a:ext cx="899172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cc99"/>
                </a:solidFill>
                <a:latin typeface="Arial Unicode MS"/>
              </a:rPr>
              <a:t>Agora, a eterna questão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Arial Unicode MS"/>
              </a:rPr>
              <a:t>Por quê a mulher vive mais que o hom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7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503280"/>
            <a:ext cx="8839440" cy="59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991720" cy="60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320" y="468360"/>
            <a:ext cx="8991360" cy="60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Fw the difference between men .jpg"/>
          <p:cNvPicPr/>
          <p:nvPr/>
        </p:nvPicPr>
        <p:blipFill>
          <a:blip r:embed="rId1"/>
          <a:stretch/>
        </p:blipFill>
        <p:spPr>
          <a:xfrm>
            <a:off x="443088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765000"/>
            <a:ext cx="388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00"/>
                </a:solidFill>
                <a:latin typeface="Comic Sans MS"/>
              </a:rPr>
              <a:t>Por quê as mulheres são mais atraentes que os home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Fw the difference between me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299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9640" y="5157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Comic Sans MS"/>
              </a:rPr>
              <a:t>Alguma dúvida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Por quê as mulheres tem duas mão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1782"/>
          <a:stretch/>
        </p:blipFill>
        <p:spPr>
          <a:xfrm>
            <a:off x="826920" y="189000"/>
            <a:ext cx="763272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182520"/>
            <a:ext cx="5143320" cy="649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E por quê os homens tem duas mão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753080" cy="6337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 New York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cc99"/>
                </a:solidFill>
                <a:latin typeface="Verdana"/>
              </a:rPr>
              <a:t>Qual a diferença entre a Força aérea e o Exércit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cc99"/>
                </a:solidFill>
                <a:latin typeface="Verdana"/>
              </a:rPr>
              <a:t>Esta é a Força Aére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179064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cc99"/>
                </a:solidFill>
                <a:latin typeface="Verdana"/>
              </a:rPr>
              <a:t>E este é o Exérci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355760"/>
            <a:ext cx="769608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Qual a diferença entre um motociclista francês e um motociclista marroquino</a:t>
            </a:r>
            <a:r>
              <a:rPr b="0" lang="fr-FR" sz="3200" spc="-1" strike="noStrike">
                <a:solidFill>
                  <a:srgbClr val="000000"/>
                </a:solidFill>
                <a:latin typeface="Cooper Black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35200" y="0"/>
            <a:ext cx="56736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2:21:01Z</dcterms:created>
  <dc:creator>Muelk</dc:creator>
  <dc:description/>
  <dc:language>en-US</dc:language>
  <cp:lastModifiedBy>SetPessoal</cp:lastModifiedBy>
  <dcterms:modified xsi:type="dcterms:W3CDTF">2008-07-14T16:16:34Z</dcterms:modified>
  <cp:revision>12</cp:revision>
  <dc:subject/>
  <dc:title>PowerPoint-Präsentation</dc:title>
</cp:coreProperties>
</file>