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08%20deus%20do%20imposs%C3%ADvel.wav" ContentType="audio/x-wav"/>
  <Override PartName="/ppt/media/image17.jpeg" ContentType="image/jpeg"/>
  <Override PartName="/ppt/media/image2.jpeg" ContentType="image/jpeg"/>
  <Override PartName="/ppt/media/image32.wmf" ContentType="image/x-wmf"/>
  <Override PartName="/ppt/media/image33.jpeg" ContentType="image/jpeg"/>
  <Override PartName="/ppt/media/image43.wmf" ContentType="image/x-wmf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29.wmf" ContentType="image/x-wmf"/>
  <Override PartName="/ppt/media/image31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A0E-C42E-476F-89CF-F860A81E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C44-72E8-4110-B9E3-6A739FE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85B-6F10-4B76-A83C-14F31E59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1F5-920A-4C89-8B80-1A31A661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509-0692-46FC-956F-684921E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737-2B0E-4D35-9B75-13482D0A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C2F-D647-49B9-8FE1-FD494292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606-589C-4263-827C-7E2A06A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395-99D1-450A-89BC-EE2AEC86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FB4-F8BE-431A-86AF-59B78AA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8C2-3244-4AD4-BBBF-2ABBE707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25A-F3D4-47AC-8214-F0991331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46F-E3BE-4A64-AD38-3906EFE7C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deus%20do%20imposs&#237;v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%20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327672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M HOMEM INSUPERÁVEL!!! 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08%20deus%20do%20imposs%C3%ADv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image008118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6324480"/>
            <a:ext cx="1523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0968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vice-presidente do Hospital China Research Center em Beij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de este chinês de 39 anos tem sido tratado d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inza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3810240" cy="31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094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le é incrível é a única pessoa no mu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 sobreviver com tanto corpo amput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inza%202%20vv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cinza%201%20a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098ouqs1y1ohjx5rkqg" descr=""/>
          <p:cNvPicPr/>
          <p:nvPr/>
        </p:nvPicPr>
        <p:blipFill>
          <a:blip r:embed="rId3"/>
          <a:stretch/>
        </p:blipFill>
        <p:spPr>
          <a:xfrm>
            <a:off x="1752480" y="1371600"/>
            <a:ext cx="5238720" cy="418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58280" y="6094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 teve um enxerto de pele do seu rosto para o seu tro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age00797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9096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49880" y="762120"/>
            <a:ext cx="743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s Médicos de Reabilitação do China Research Center em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eçaram então a pensar na possibilidade de fazê-lo andar no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715000"/>
            <a:ext cx="1752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image00636" descr=""/>
          <p:cNvPicPr/>
          <p:nvPr/>
        </p:nvPicPr>
        <p:blipFill>
          <a:blip r:embed="rId2"/>
          <a:stretch/>
        </p:blipFill>
        <p:spPr>
          <a:xfrm>
            <a:off x="1676520" y="1803240"/>
            <a:ext cx="5943600" cy="397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8680" y="5562720"/>
            <a:ext cx="1905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822960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 criaram um invólucro como se fosso um 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apoiar o seu corpo com 2 pernas biônicas para ajudá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5124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990720"/>
            <a:ext cx="5867280" cy="4800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052740091_small_1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9144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99"/>
                </a:solidFill>
                <a:latin typeface="Times New Roman"/>
              </a:rPr>
              <a:t>O aparelho é semelhante a um c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16" name="340x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886200" cy="542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53960" y="1523880"/>
            <a:ext cx="3115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sti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21" name="half_man_10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alfman2_450x400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1447920"/>
            <a:ext cx="51814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gora, este lutador está em pé novamen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5720" cy="6296040"/>
          </a:xfrm>
          <a:prstGeom prst="rect">
            <a:avLst/>
          </a:prstGeom>
          <a:ln w="0">
            <a:noFill/>
          </a:ln>
        </p:spPr>
      </p:pic>
      <p:pic>
        <p:nvPicPr>
          <p:cNvPr id="131" name="miracleman01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14332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Com a ajuda dos médicos,Peng está reaprendendo a and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1320" y="1600200"/>
            <a:ext cx="638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 você tem a mania de reclamar de tu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lamar da vi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seu cabelo que esta crespo demais,ou liso dema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 sua relação amorosa que não esta dando cer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ue tem preguiça de caminhar até o mercado ou ponto de ôni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c,etc,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bia que VOCÊ É FELIZ, mas não sabe dar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 coisas que Deus lhe de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 bem,veja que diante deste fato que vou contar ag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M EXEMPLO DE SU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 como os seus problemas ficam são pequenininh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s pena que no dia a dia você se esqueça diss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m que sempre ser lemb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ce que nada pode levá-lo para baixo.</a:t>
            </a:r>
            <a:r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1fc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mage010710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8176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54864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252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2600" y="609480"/>
            <a:ext cx="6243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ece que nada deixa-o para 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3" name="573520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 sorriso diz tu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8" name="1" descr=""/>
          <p:cNvPicPr/>
          <p:nvPr/>
        </p:nvPicPr>
        <p:blipFill>
          <a:blip r:embed="rId3"/>
          <a:stretch/>
        </p:blipFill>
        <p:spPr>
          <a:xfrm>
            <a:off x="2362320" y="838080"/>
            <a:ext cx="4178160" cy="55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677600" y="228600"/>
            <a:ext cx="56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le agora esta muito b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152280"/>
            <a:ext cx="74012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 abriu seu próprio negócio 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upermarket Half Man Half-Store Pr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caee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000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80988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5240" y="3049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ai!!!! Do que você vai reclamar ag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Porque para mim tenho por certo que as aflições d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tempo presente não são para com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com a glória que em nós há de ser re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Narrow"/>
              </a:rPr>
              <a:t>Romanos 8:18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362320"/>
            <a:ext cx="4267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maze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mataçã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Cidinha  Gandolp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age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tiradas de vários sit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ús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do Impossível_Toque no a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myinterestingfiles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By Cidy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Claro/S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0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04920"/>
            <a:ext cx="5638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oje é </a:t>
            </a:r>
            <a:fld id="{77564EFB-F820-4E62-B3F2-B4EDD6944F84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gora mesmo são </a:t>
            </a:r>
            <a:fld id="{BAE44645-EEB4-401F-BC0E-0D8A3C715805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0/26</a:t>
            </a:fld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aalonelylonely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3530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1295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Você conhe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Peng Shuil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56200" y="312408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</a:rPr>
              <a:t>Não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3504960" cy="533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ccidente_901792422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75240" cy="37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0640" y="30492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 1995 ele perdeu metade do seu co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o ser cortado próximo à altura da cintura por um caminh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 médicos que o socorre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havam que ele não sobreviveria,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m milagre de Deus fez com que ele sobreviv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534160" cy="62420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362320"/>
            <a:ext cx="5486400" cy="38862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66880"/>
            <a:ext cx="91440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homem_metade1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762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le é  conhecido na China como “Half Ma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55627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Homem-Met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00161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8672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6560" y="152280"/>
            <a:ext cx="827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amado por mais de dez 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amiliares e amigos tinham pouca esperança de que ele f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ver qualquer coisa parecida com vida normal outra v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final, precisou da ajuda de vinte médicos para conseguir manter-se v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76520"/>
            <a:ext cx="5867280" cy="4876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019920"/>
            <a:ext cx="3276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alf-man-682_929573a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94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533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m as per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ulin ficou com apenas 78 cm de al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7772400" cy="45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0051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5600 w 9144000"/>
              <a:gd name="textAreaRight" fmla="*/ 8888400 w 9144000"/>
              <a:gd name="textAreaTop" fmla="*/ 255600 h 6858000"/>
              <a:gd name="textAreaBottom" fmla="*/ 660240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805" y="805"/>
                </a:moveTo>
                <a:lnTo>
                  <a:pt x="805" y="20795"/>
                </a:lnTo>
                <a:lnTo>
                  <a:pt x="27995" y="20795"/>
                </a:lnTo>
                <a:lnTo>
                  <a:pt x="27995" y="80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362320"/>
            <a:ext cx="5105520" cy="358128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791320"/>
            <a:ext cx="152388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86000"/>
            <a:ext cx="5257800" cy="373392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Mas, recentemente, começou a exercitar seus braços, para poder executar tarefas diári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como lavar seu rosto e escovar seus 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nwithahalfofthebody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a recuperação tem surpreendido os cirurgiõ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depois dele ser submetido a uma série de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28:32Z</dcterms:created>
  <dc:creator>Cidinha Gandolpho</dc:creator>
  <dc:description/>
  <dc:language>en-US</dc:language>
  <cp:lastModifiedBy>cidinha</cp:lastModifiedBy>
  <dcterms:modified xsi:type="dcterms:W3CDTF">2010-01-26T16:09:01Z</dcterms:modified>
  <cp:revision>25</cp:revision>
  <dc:subject/>
  <dc:title>Um homem insuperável</dc:title>
</cp:coreProperties>
</file>