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36A-8224-4ADA-9918-6DB95F96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854-81E9-4B7B-86C3-6FF59936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A26-8B7C-49C4-A1F8-85EAF303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8DA-5D05-4819-8C34-A7146B5B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BE4-4A85-4AC0-9E6C-41E594E7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636-1B4B-4C7E-A972-D29EA907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5E9-9012-4765-84D8-46C348F9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248-C34A-4E52-8506-3F144F30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33C-8CE5-47CA-8616-937C75EC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DA5-E109-4262-AFCD-59D3C592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AE3-CE65-4782-9521-48BE775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D8C-D33E-4198-B4F8-5DAC0302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6E48-0C91-4173-9479-ED8BB1350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fmg.br/online/arquivos/velorio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2254680"/>
            <a:ext cx="82072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O MARIDO DO ANO</a:t>
            </a:r>
            <a:br>
              <a:rPr sz="6000"/>
            </a:br>
            <a:r>
              <a:rPr b="1" lang="en-US" sz="4400" spc="-1" strike="noStrike">
                <a:solidFill>
                  <a:srgbClr val="c1bf7b"/>
                </a:solidFill>
                <a:latin typeface="Times New Roman"/>
              </a:rPr>
              <a:t>GENTE DA MELHOR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413000"/>
            <a:ext cx="3094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NÃO, ESTÃO TODOS NO VELÓRIO DELA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elori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1413000"/>
            <a:ext cx="4986360" cy="3740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324468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0880" y="3016440"/>
            <a:ext cx="874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cara tinha dois ingressos para a final da Copa do Mundo, no melh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amarote do estádio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756720"/>
            <a:ext cx="69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ARA TINHA DOIS INGRESSOS PARA A FINAL DA COPA DO MUNDO, NO MELHO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CAMAROTE DO ESTÁDIO. 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640" y="977760"/>
            <a:ext cx="691344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QUANDO ELE ESTAVA SENTADO NO SEU LUGAR, AGUARDANDO O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ICIO DO JOGO, UM TORCEDOR NOTA QUE O LUGAR AO LADO DO HOMEM ESTAVA VAG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809880"/>
            <a:ext cx="800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4240" y="944280"/>
            <a:ext cx="6126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TORCEDOR PERGUNTA ENTÃO SE O ASSENTO ESTÁ OCUPADO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- NÃO, NÃO ESTÁ OCUPADO - RESPONDE O HOMEM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3573360"/>
            <a:ext cx="8076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91296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SOMBRADO, O TORCEDOR DIZ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É INCRÍVEL!  QUEM, EM SEU JUÍZO PERFEITO, TEM UM LUGAR COMO ESTE, PARA 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NAL DA COPA, O EVENTO MAIS IMPORTANTE DO MUNDO, E NÃO O US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3573360"/>
            <a:ext cx="800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928440"/>
            <a:ext cx="6264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HOMEM FIXA O OLHAR NOS OLHOS DO CIDADÃO E RESPONDE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 BOM, NA REALIDADE, O LUGAR É MEU.  EU COMPREI O INGRESSO FAZ MUITO TEMP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669960"/>
            <a:ext cx="74883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NHA ESPOSA VIRIA COMIGO, MAS ELA FALECEU.  ESTE É O PRIMEIRO MUNDIAL A QU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ÃO ASSISTIREMOS JUNTOS, DESDE QUE NOS CASAMOS, HÁ VINTE ANOS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RPRESO, O OUTRO DIZ: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48840"/>
            <a:ext cx="817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 MAS VOCÊ NÃO ENCONTROU OUTRA PESSOA QUE PUDESSE VIR NO LUGAR DA SUA ESPOSA?  UM AMIGO, UM VIZINHO, UM PARENTE OU OUTRA PESSOA CHEGAD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6912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HOMEM NEGA COM A CABEÇA E RESPOND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0:11:33Z</dcterms:created>
  <dc:creator>Renato Bertoldi Simões</dc:creator>
  <dc:description/>
  <dc:language>en-US</dc:language>
  <cp:lastModifiedBy>Renato Bertoldi Simões</cp:lastModifiedBy>
  <dcterms:modified xsi:type="dcterms:W3CDTF">2005-12-04T10:16:39Z</dcterms:modified>
  <cp:revision>1</cp:revision>
  <dc:subject>Mulher</dc:subject>
  <dc:title>Slide 1</dc:title>
</cp:coreProperties>
</file>