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4B003-E2E6-4C5A-84B7-37ECDFD32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9F31D-072B-4C2D-910E-B650F806F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8CAED-9B9C-4692-9D7A-5044FBB2AB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6B0D7-C12E-453E-8CD6-9B654849C9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80D2B-701E-4FC5-B7A7-13E3EE3EC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A87E9-F9D2-4BE0-8CEA-1EFEAF01A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52D0C-FCBD-415E-A4C7-6C2F8D234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1F61E-08F0-4FEB-BA78-8A071CF65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953D7-A454-42F8-B9CC-9BD895739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37380-AF19-4860-A46D-F85CBA531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F9E8-2A4F-45AB-8A45-DAA461076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C852D-C64E-46CD-BB68-87CC3A004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798D-F212-453D-BC44-8C3AA3F83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337F1-7E54-43CD-B4BC-129D5FD89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B8403-1E0B-476A-8FC4-2BA53E49F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D8A8E-CCF1-4F44-BE14-8568401C3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C0C9-DB87-4B0C-B9AC-1E7C858B1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1AAAB-2A14-4BA5-A760-0C04F3BF7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DD4BF-779E-4767-8C56-7597100DAB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9B15E-A4CA-4122-940C-69D6D7B38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CAA70-2ACB-450D-89DA-EA650CFC15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20FB4-92BF-418F-9647-91013E5556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53E3B-412A-411A-B763-6A24238CE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1955C-9541-4884-B20A-A695BBB16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E617-636E-47F2-AB4B-A074C72DE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6E654-0A04-41DC-A279-82893B282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63E46-21F8-431C-9021-6F89BA7BE7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9DCEA-F0C0-4780-8C30-5C654174D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D2201-29AD-4828-82A5-DB39D595F6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E55D-B833-4197-B635-9A851F058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77D2B-3B2D-45F7-A187-3E8F20063D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ABE57-B5BF-4E5C-A551-D544B51D2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EAA5C-F1C9-4276-8A0D-2EFAFBACB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E7B1-40F5-42ED-BCFA-1FE1BD746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9A92-A7C0-4E41-A74E-1682DF23C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BFD9E-85F0-4356-BE0E-973C851FB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25B3-F950-4B3A-9E75-7975359C8A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D393-3F66-4C76-81D2-8902EBF942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2C109-B6F2-4318-92BE-96CE11019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3E13C-2A16-41C2-A716-CA82BFB93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9A6DB-9612-4B33-9B1E-06ABA594E3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F94C7-6CD9-4617-AF5E-06A3D26C75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D21AB-AF1B-4831-AC5A-015E4DB0B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21A2A-2187-43E0-9B12-10900E5F2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90AEE-79A7-4083-85E1-D12486970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712DC-D81B-4318-8792-C501E7B75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D0F1A-389C-4E6E-BC4E-F74CFC96B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EC29-D65E-4352-9AB0-FF6519514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DE12-1DBF-4A87-9B95-D6AE9E81D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8C0-325D-4026-A89D-A964A23E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877-91EE-41ED-8E1B-DB82AA9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0B7-F015-4B43-A3DF-AB6B1AF1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18F-BCAF-4909-A6FE-B615842A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F42-061C-4B2C-B6CA-053AE2A0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844-9BA6-487E-9769-80B6B52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8FC-E160-4A4C-AE8A-B66D15B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451-FBCE-4B0D-B6CF-6AC1C5FA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89B-AAC0-450E-A7B6-20BE1482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3E2-FDF9-417B-A551-2AA435B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5B3-B11B-490A-8931-5AEB029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3E9-A0FA-4450-A6D0-89B1294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45FAD8-6F5D-4733-8F10-C3E5C97D61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944720" y="1476360"/>
            <a:ext cx="5472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0" spc="-1" strike="noStrike">
                <a:solidFill>
                  <a:srgbClr val="ffffff"/>
                </a:solidFill>
                <a:latin typeface="Arial"/>
              </a:rPr>
              <a:t>In the Air 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087640" y="4643280"/>
            <a:ext cx="5400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ages rarissim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320" y="149400"/>
            <a:ext cx="10080360" cy="74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266920" y="55440"/>
            <a:ext cx="5591160" cy="750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2320" y="425520"/>
            <a:ext cx="10080360" cy="71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22320" y="425520"/>
            <a:ext cx="10080360" cy="71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00080" y="55440"/>
            <a:ext cx="9924840" cy="750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00080" y="55440"/>
            <a:ext cx="9924840" cy="750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951840" cy="753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39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10080720" cy="76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air5"/>
          <p:cNvPicPr/>
          <p:nvPr/>
        </p:nvPicPr>
        <p:blipFill>
          <a:blip r:embed="rId1"/>
          <a:stretch/>
        </p:blipFill>
        <p:spPr>
          <a:xfrm>
            <a:off x="-792000" y="0"/>
            <a:ext cx="11125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320920" y="20520"/>
            <a:ext cx="5483160" cy="753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air8"/>
          <p:cNvPicPr/>
          <p:nvPr/>
        </p:nvPicPr>
        <p:blipFill>
          <a:blip r:embed="rId1"/>
          <a:stretch/>
        </p:blipFill>
        <p:spPr>
          <a:xfrm>
            <a:off x="-739800" y="0"/>
            <a:ext cx="108205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2320" y="500040"/>
            <a:ext cx="10080360" cy="667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11480" y="55440"/>
            <a:ext cx="57006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311640" y="6012000"/>
            <a:ext cx="3095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008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320" y="174600"/>
            <a:ext cx="10080360" cy="738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port@funpps.de</dc:creator>
  <dc:description>http://www.funpps.de</dc:description>
  <dc:language>en-US</dc:language>
  <cp:lastModifiedBy>WTR</cp:lastModifiedBy>
  <dcterms:modified xsi:type="dcterms:W3CDTF">2009-08-30T09:58:53Z</dcterms:modified>
  <cp:revision>7</cp:revision>
  <dc:subject>Spaß &amp; Fun</dc:subject>
  <dc:title>PowerPoint Präsentation</dc:title>
</cp:coreProperties>
</file>