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4.jpeg" ContentType="image/jpeg"/>
  <Override PartName="/ppt/media/image27.jpeg" ContentType="image/jpeg"/>
  <Override PartName="/ppt/media/image6.jpeg" ContentType="image/jpeg"/>
  <Override PartName="/ppt/media/image22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1.jpeg" ContentType="image/jpeg"/>
  <Override PartName="/ppt/media/Alphaville_ForeverYoung.wav" ContentType="audio/x-wav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AC84-5798-4B92-9487-7BBF3E36F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EBAC-15DC-4334-8F5D-6AE681375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8EF6-1BB2-44AD-A022-221CE4DC7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E378-F6EC-443C-AE2D-F88A49DBD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5E86-FE62-4304-BF21-75E4B4A16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C716-B30D-4D97-812F-E615965FF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C9EE-FF37-4F99-BC46-E110550D6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A6C7-C31F-415B-93B7-405D8E142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13EC-83FF-493D-B814-83DF78829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5AF5-EC75-4B29-9171-7AC07C61F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7DA0-8770-48FC-B8F9-8BD2EB84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E49A-81BE-4839-A064-E0B8DEF04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3E2AB-1520-4C41-82D4-30FEBB674A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hyperlink" Target="http://images.google.com.br/imgres?imgurl=http://morte.aos.eua.vilabol.uol.com.br/images/emfa.jpg&amp;imgrefurl=http://morte.aos.eua.vilabol.uol.com.br/patriotismo-simbolos.html&amp;h=231&amp;w=310&amp;sz=25&amp;hl=pt-BR&amp;start=1&amp;um=1&amp;tbnid=Zapn-Gt7eb8RlM:&amp;tbnh=87&amp;tbnw=117&amp;prev=/images%3Fq%3Demfa%26svnum%3D10%26um%3D1%26hl%3Dpt-BR" TargetMode="External"/><Relationship Id="rId10" Type="http://schemas.openxmlformats.org/officeDocument/2006/relationships/image" Target="../media/image9.jpeg"/><Relationship Id="rId11" Type="http://schemas.openxmlformats.org/officeDocument/2006/relationships/image" Target="../media/image10.jpeg"/><Relationship Id="rId12" Type="http://schemas.openxmlformats.org/officeDocument/2006/relationships/audio" Target="../media/Alphaville_ForeverYoung.wav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0"/>
            <a:ext cx="878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O Julgamento Final de um Poli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050920" y="549360"/>
            <a:ext cx="5024520" cy="6308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95280" y="68400"/>
            <a:ext cx="1260360" cy="1203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667640" y="260280"/>
            <a:ext cx="1138320" cy="1440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7667640" y="5229360"/>
            <a:ext cx="1131840" cy="1366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395280" y="2997360"/>
            <a:ext cx="1270080" cy="1269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468360" y="436572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7740720" y="1844640"/>
            <a:ext cx="1038240" cy="1584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7596360" y="3645000"/>
            <a:ext cx="1311120" cy="1441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50920" y="5627520"/>
            <a:ext cx="1441440" cy="1071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395280" y="1484280"/>
            <a:ext cx="1114560" cy="1440000"/>
          </a:xfrm>
          <a:prstGeom prst="rect">
            <a:avLst/>
          </a:prstGeom>
          <a:ln w="0">
            <a:noFill/>
          </a:ln>
        </p:spPr>
      </p:pic>
    </p:spTree>
  </p:cSld>
  <p:transition advTm="8000">
    <p:dissolve/>
    <p:sndAc>
      <p:stSnd>
        <p:snd r:embed="rId12" name="Alphaville_ForeverYoung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4360" y="5229360"/>
            <a:ext cx="799308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nheço que não mereço estar na Tua glória; errei muito e bem sei que vários dos que ai já estão jamais me quiseram por perto, a não ser quando estavam com algum problema, e eu incondicionalmente estava pronto para ajudá-l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396360" cy="4929120"/>
          </a:xfrm>
          <a:prstGeom prst="rect">
            <a:avLst/>
          </a:prstGeom>
          <a:ln w="0">
            <a:noFill/>
          </a:ln>
        </p:spPr>
      </p:pic>
    </p:spTree>
  </p:cSld>
  <p:transition advTm="23000"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680" y="6035760"/>
            <a:ext cx="915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 tiver um lugar para mim, agradeço de coração e luxo não preciso não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caso não haja nenhum, saberei entender a Tua verda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50920" y="401760"/>
            <a:ext cx="8642160" cy="541332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tes de sua decisão amado Deus, rogo ao Senhor para que vigie com carinho e cuidado aqueles que lá deixei, pois são pessoas que amo, e que não mais poderei prote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1082520"/>
            <a:ext cx="9144000" cy="5842080"/>
          </a:xfrm>
          <a:prstGeom prst="rect">
            <a:avLst/>
          </a:prstGeom>
          <a:ln w="0">
            <a:noFill/>
          </a:ln>
        </p:spPr>
      </p:pic>
    </p:spTree>
  </p:cSld>
  <p:transition advTm="19000">
    <p:random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5877000"/>
            <a:ext cx="914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m silêncio absoluto paira ao redor do trono onde Anjos  perambulavam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4000">
    <p:random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895680" y="260280"/>
            <a:ext cx="769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o Policial, prostrando-se, espera o veredicto do SENH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826920" y="981000"/>
            <a:ext cx="7490160" cy="5616720"/>
          </a:xfrm>
          <a:prstGeom prst="rect">
            <a:avLst/>
          </a:prstGeom>
          <a:ln w="0">
            <a:noFill/>
          </a:ln>
        </p:spPr>
      </p:pic>
    </p:spTree>
  </p:cSld>
  <p:transition advTm="18000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"Teu corpo  me serviu com alma e coração... </a:t>
            </a:r>
            <a:br>
              <a:rPr sz="3600"/>
            </a:b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Amor, sentimento e dedicação...” 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1868400"/>
            <a:ext cx="9144000" cy="4989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ostes escudo para o próximo... viveu em prol da vida...”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24000" y="1127160"/>
            <a:ext cx="8604000" cy="5730840"/>
          </a:xfrm>
          <a:prstGeom prst="rect">
            <a:avLst/>
          </a:prstGeom>
          <a:ln w="0">
            <a:noFill/>
          </a:ln>
        </p:spPr>
      </p:pic>
    </p:spTree>
  </p:cSld>
  <p:transition advTm="10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6021360"/>
            <a:ext cx="9144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ortanto... vá e anda em paz pelo paraíso...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O INFERNO já foi tua missão...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588636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-387360"/>
            <a:ext cx="914400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mbre-se que cada um é um ser diferente com suas virtudes e seus defeitos, afinal perfeito só Deu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1133640"/>
            <a:ext cx="9144000" cy="572436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678200" y="0"/>
            <a:ext cx="4465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DEDICADO AO NOSSOS AMIGOS POLICIAIS MILITARES, CIVIS, FEDERAIS, RODOVIÁRIOS, FERROVIÁRIOS, PORTUÁRIOS E A TODOS OS MILITARES DAS FORÇAS ARMADA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QUE DEUS NOS PROTEJA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4130640" cy="5805360"/>
          </a:xfrm>
          <a:prstGeom prst="rect">
            <a:avLst/>
          </a:prstGeom>
          <a:ln w="0">
            <a:noFill/>
          </a:ln>
        </p:spPr>
      </p:pic>
    </p:spTree>
  </p:cSld>
  <p:transition advTm="14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9080" y="324000"/>
            <a:ext cx="9105840" cy="6210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635280" y="765000"/>
            <a:ext cx="504036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 Policial colocou-se de pé e ficou diante de DEUS, pronto para última inspeção pela qual teria que passar, apresentando-se com a fivela do cinto, distintivo de metal e seus coturnos com brilhos impecáve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8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5084280"/>
            <a:ext cx="914400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sejo a Vocês, SOLDADOS ANÔNIMOS, dias de graça e paz, dias de bênçãos inenarráveis, que a presença agradável do Espírito Santo de Deus seja sentida por seu coração a pulsar de vida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ótimo dia, ótima semana e ótima vida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403280" y="0"/>
            <a:ext cx="6769080" cy="5076720"/>
          </a:xfrm>
          <a:prstGeom prst="rect">
            <a:avLst/>
          </a:prstGeom>
          <a:ln w="0">
            <a:noFill/>
          </a:ln>
        </p:spPr>
      </p:pic>
    </p:spTree>
  </p:cSld>
  <p:transition advTm="18000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4360" y="860400"/>
            <a:ext cx="7993080" cy="59976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380988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32320" y="189000"/>
            <a:ext cx="79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Um Grande Abraço e Até a Próxima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1360440"/>
            <a:ext cx="9144000" cy="5543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-1440" y="0"/>
            <a:ext cx="4167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- Disse Deus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br>
              <a:rPr sz="2400"/>
            </a:b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"Um passo a frente, Policial!!!" </a:t>
            </a:r>
            <a:br>
              <a:rPr sz="2400"/>
            </a:b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"Como deverei julga-lo?" </a:t>
            </a:r>
            <a:br>
              <a:rPr sz="2400"/>
            </a:b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"Fostes fiel à Igreja ?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788000" y="260280"/>
            <a:ext cx="3744720" cy="773280"/>
          </a:xfrm>
          <a:prstGeom prst="rect">
            <a:avLst/>
          </a:prstGeom>
          <a:ln w="0">
            <a:noFill/>
          </a:ln>
        </p:spPr>
      </p:pic>
    </p:spTree>
  </p:cSld>
  <p:transition advTm="12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7559640" cy="60847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4360" y="6021000"/>
            <a:ext cx="77738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"Destes o outro lado de tua face ao inimigo?"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"Abençoastes teu irmão?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2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50920" y="6066000"/>
            <a:ext cx="8893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 Policial tomando posição de sentido responde: NÃO ! NÃO SENHOR!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ós que andamos fardados ou não, nem sempre podemos exteriorizar nossos sentimento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39640" y="620640"/>
            <a:ext cx="8028000" cy="512136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016600" y="765000"/>
            <a:ext cx="4127400" cy="6093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a maioria dos domingos, cumpria alguma escala de serviço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na igreja não ia Senh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1052640"/>
            <a:ext cx="4130640" cy="5805360"/>
          </a:xfrm>
          <a:prstGeom prst="rect">
            <a:avLst/>
          </a:prstGeom>
          <a:ln w="0">
            <a:noFill/>
          </a:ln>
        </p:spPr>
      </p:pic>
    </p:spTree>
  </p:cSld>
  <p:transition advTm="20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m muitos momentos falei de modo impuro... houve muitas vezes em que fui violento, mas entenda Senhor.. meu mundo é muito duro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1266840"/>
            <a:ext cx="9144000" cy="5591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5227560" cy="64342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227640" y="836640"/>
            <a:ext cx="2521080" cy="51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unca peguei um tostão que por direito não fosse meu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 quando mais uma conta se acumulava, aos trabalhos extras eu me dedicava, e de minha família me afastava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79280" y="549360"/>
            <a:ext cx="360072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nhor Deus, é Pai, és Fiel e sei que me perdoa, pois chorei por coisa a toa, por problemas que não eram meus, por pessoas que se quer conhecia, mas o choro foi de emoção e de gratidão,  me flagrava emocionado, queria um mundo melhor a todos, sem disti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859280" y="476280"/>
            <a:ext cx="3967200" cy="5950080"/>
          </a:xfrm>
          <a:prstGeom prst="rect">
            <a:avLst/>
          </a:prstGeom>
          <a:ln w="0">
            <a:noFill/>
          </a:ln>
        </p:spPr>
      </p:pic>
    </p:spTree>
  </p:cSld>
  <p:transition advTm="23000">
    <p:random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4T17:12:44Z</dcterms:created>
  <dc:creator>Csa</dc:creator>
  <dc:description/>
  <dc:language>en-US</dc:language>
  <cp:lastModifiedBy>Home</cp:lastModifiedBy>
  <dcterms:modified xsi:type="dcterms:W3CDTF">2007-12-21T20:07:57Z</dcterms:modified>
  <cp:revision>36</cp:revision>
  <dc:subject/>
  <dc:title>Titans</dc:title>
</cp:coreProperties>
</file>