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My%20Way.waw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0F0-C8B7-4519-B714-85E88767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D8A-F04F-46CD-907F-F8B40E1D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FBE-0D30-4B9F-B816-994B49A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CF6-EEAC-4ABD-8AC1-77FF4C5D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75A-2899-4201-9AC9-73E1D04F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EC2-380E-4EF1-9C57-C69C557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14A-4C47-4BF6-A8D1-D5C223C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AF4-D9A7-4779-ABCC-4E06B36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FBB-EB9C-420B-BA41-248ED70D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141-F1D0-43AB-BC4C-23DE5E9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E44-BBBC-4F55-B6C3-C79043C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274-6417-4191-99C7-E65A18A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AB4-56CD-49D1-8757-9A7648BE3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y%20Way.w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153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"...O maior erro do ser humano,                      é tentar tirar da cabeça aquilo que não sai do coração..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80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3399"/>
                </a:solidFill>
                <a:latin typeface="Tahoma"/>
              </a:rPr>
              <a:t>NADA ACONTECE POR ACAS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My%20Way.w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hamaram o Dr.Howard Kel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Quando escutou o nome do povoado de onde ela viera, uma estranha </a:t>
            </a:r>
            <a:br>
              <a:rPr sz="3200"/>
            </a:b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luz encheu seus ol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Imediatamente, vestido com a sua bata de médico, foi ver a paciente.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Reconheceu imediatamente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 aquel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terminou-se a fazer o melhor para salvar aquela vid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Passou a dedicar atenção especial àquela paciente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epois de uma demorada luta pela vida da enferma, ganhou a bata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5257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Dr. Kelly pediu a administração d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hospital que lhe enviasse a fatura total dos gastos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ara aprov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105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a conferiu, depois escreveu algo e mandou entregá-la no quarto da paci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a tinha medo de abri-la, porque sabia que levaria o resto da sua vida para pagar todos os ga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as finalmente abriu a fatura algo lhe chamou a atenção, pois estava escrito o seguinte: "Totalmente pago há muitos anos com um copo de leite ass.: Dr.Howard Kell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Lágrimas de alegria correram dos olhos da mulher e seu coração feliz rezou assim: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989000"/>
            <a:ext cx="7162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Um dia, um rapaz pobre que vendia mercadorias de port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em porta para pagar seus estudos, viu que só lhe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restava uma simples moeda de dez centavos e tinha fo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Graças meu Deus porque teu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mor se manifestou nas mãos e nos corações humano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om agora você tem duas opções: pode enviar esta mensagem e compartilhá-la com seus am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u pode ignorá-la e dizer que nada tocou o seu coraçã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is bem... esta mensagem tocou meu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 por isso estou ompartilhando-a com vocês!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"Na vida nada acontece por aca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 que você faz ho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876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de fazer a diferença em sua vida amanhã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789000"/>
            <a:ext cx="83055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Decidiu que pediria comida na próxima casa. Porém, seus nervos o traíram quando uma encantadora mulher jovem lhe abriu 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m vez de comida, pediu um copo de água. Ela pensou que jovem parecia faminto e assim lhe deu um grande copo de leite. Ele bebeu devagar e depois lhe perguntou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Quanto lhe devo?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Não me deves nada - respondeu 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continuou: - Minha mãe sempre nos ensinou a nunca aceitar pagamento por uma oferta caridos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le disse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Pois te agradeço de todo coração.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ndo Howard Kelly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aiu daquela casa, não só se sentiu mais forte fisicamente, mas também sua fé em Deus e nos homens ficou mais for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já estava resignado a se render e deixar 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nos depois, essa jovem mulher ficou gravemente doente.                             Os médicos locais estavam con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inalmente a enviaram à cidade grande, onde chamaram um especialista para estudar sua rara enfermidade.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7:30Z</dcterms:created>
  <dc:creator>Gabriel Jorge Lisboa</dc:creator>
  <dc:description/>
  <dc:language>en-US</dc:language>
  <cp:lastModifiedBy>Gabriel Jorge Lisboa</cp:lastModifiedBy>
  <dcterms:modified xsi:type="dcterms:W3CDTF">2005-11-03T23:42:33Z</dcterms:modified>
  <cp:revision>2</cp:revision>
  <dc:subject/>
  <dc:title> "...O maior erro do ser humano,                      é tentar tirar da cabeça aquilo que não sai do coração..." </dc:title>
</cp:coreProperties>
</file>