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2E71-BD25-4C96-BED8-EA60F2EB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357D-5A61-43AA-8B1E-C0DF57AE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1F92-5890-47F2-81D0-86CDCCA9B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1652-4EE5-4DC9-B270-BFEC34895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F7CF-741E-49E0-8C05-F881737E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07A3-C69D-44B9-972C-E7B2369B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76CC-8B41-4C8B-A689-E81F04FE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3899-8365-4E7A-AF48-4C7B4ABD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1D8F-7561-44EB-B3DE-51BA7F53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AFC0-28C5-497F-B8FC-C31AADB1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A0F4-75AD-4683-A166-A7E9321C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57A1-EE60-4B03-9E1C-254F1F6F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DB41-8837-463D-85AE-829BB967C8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[Insolite] Photos prises pile au bon moment !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eeeee"/>
                </a:solidFill>
                <a:latin typeface="Arial"/>
              </a:rPr>
              <a:t> 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Tout est dans le tit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 13" descr="http://zeus.perfectlytimedphotos.com/content/7228/resized/1238729878741.jpg?1267095253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 14" descr="http://ares.perfectlytimedphotos.com/content/7306/resized/1238734435930.jpg?1267084355"/>
          <p:cNvPicPr/>
          <p:nvPr/>
        </p:nvPicPr>
        <p:blipFill>
          <a:blip r:embed="rId1"/>
          <a:stretch/>
        </p:blipFill>
        <p:spPr>
          <a:xfrm>
            <a:off x="0" y="399960"/>
            <a:ext cx="9144000" cy="60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 15" descr="http://ares.perfectlytimedphotos.com/content/7294/resized/baby_01.jpg?1267018363"/>
          <p:cNvPicPr/>
          <p:nvPr/>
        </p:nvPicPr>
        <p:blipFill>
          <a:blip r:embed="rId1"/>
          <a:stretch/>
        </p:blipFill>
        <p:spPr>
          <a:xfrm>
            <a:off x="0" y="241200"/>
            <a:ext cx="914400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 16" descr="http://dionysus.perfectlytimedphotos.com/content/7247/resized/1238730493089.jpg?1267094501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 17" descr="http://ares.perfectlytimedphotos.com/content/7327/resized/1238729445558.jpg?1267011836"/>
          <p:cNvPicPr/>
          <p:nvPr/>
        </p:nvPicPr>
        <p:blipFill>
          <a:blip r:embed="rId1"/>
          <a:stretch/>
        </p:blipFill>
        <p:spPr>
          <a:xfrm>
            <a:off x="647640" y="0"/>
            <a:ext cx="788508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 18" descr="http://aphrodite.perfectlytimedphotos.com/content/7336/resized/1224002031734.jpg?1267156592"/>
          <p:cNvPicPr/>
          <p:nvPr/>
        </p:nvPicPr>
        <p:blipFill>
          <a:blip r:embed="rId1"/>
          <a:stretch/>
        </p:blipFill>
        <p:spPr>
          <a:xfrm>
            <a:off x="1476360" y="0"/>
            <a:ext cx="6451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 19" descr="http://apollo.perfectlytimedphotos.com/content/8077/resized/dog-1.jpg?1267026600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 20" descr="http://ares.perfectlytimedphotos.com/content/7320/resized/1242284448537.jpg?1267028110"/>
          <p:cNvPicPr/>
          <p:nvPr/>
        </p:nvPicPr>
        <p:blipFill>
          <a:blip r:embed="rId1"/>
          <a:stretch/>
        </p:blipFill>
        <p:spPr>
          <a:xfrm>
            <a:off x="1079640" y="0"/>
            <a:ext cx="694836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 21" descr="http://ares.perfectlytimedphotos.com/content/7289/resized/1238729407593.jpg?1267026392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6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 22" descr="http://icarus.perfectlytimedphotos.com/content/7257/resized/1224002777609.jpg?1267156580"/>
          <p:cNvPicPr/>
          <p:nvPr/>
        </p:nvPicPr>
        <p:blipFill>
          <a:blip r:embed="rId1"/>
          <a:stretch/>
        </p:blipFill>
        <p:spPr>
          <a:xfrm>
            <a:off x="2282760" y="0"/>
            <a:ext cx="466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 5" descr="http://zeus.perfectlytimedphotos.com/content/20538/resized/SICILIA_2007_32_.jpg?1268384817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 23" descr="http://aphrodite.perfectlytimedphotos.com/content/18693/resized/pew.jpg?1267030894"/>
          <p:cNvPicPr/>
          <p:nvPr/>
        </p:nvPicPr>
        <p:blipFill>
          <a:blip r:embed="rId1"/>
          <a:stretch/>
        </p:blipFill>
        <p:spPr>
          <a:xfrm>
            <a:off x="1042920" y="0"/>
            <a:ext cx="716436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 24" descr="http://dionysus.perfectlytimedphotos.com/content/21002/resized/lol.jpg?1268896888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 25" descr="http://aphrodite.perfectlytimedphotos.com/content/7280/resized/adfeeese.jpg?1267024709"/>
          <p:cNvPicPr/>
          <p:nvPr/>
        </p:nvPicPr>
        <p:blipFill>
          <a:blip r:embed="rId1"/>
          <a:stretch/>
        </p:blipFill>
        <p:spPr>
          <a:xfrm>
            <a:off x="0" y="338040"/>
            <a:ext cx="9144000" cy="61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 26" descr="http://poseidon.perfectlytimedphotos.com/content/18219/resized/ss-100207-sb-21.ss_full.jpg?1267108513"/>
          <p:cNvPicPr/>
          <p:nvPr/>
        </p:nvPicPr>
        <p:blipFill>
          <a:blip r:embed="rId1"/>
          <a:stretch/>
        </p:blipFill>
        <p:spPr>
          <a:xfrm>
            <a:off x="0" y="0"/>
            <a:ext cx="914400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 27" descr="http://hades.perfectlytimedphotos.com/content/7268/resized/1238730112986.jpg?1267156040"/>
          <p:cNvPicPr/>
          <p:nvPr/>
        </p:nvPicPr>
        <p:blipFill>
          <a:blip r:embed="rId1"/>
          <a:stretch/>
        </p:blipFill>
        <p:spPr>
          <a:xfrm>
            <a:off x="1187280" y="0"/>
            <a:ext cx="68770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 28" descr="http://icarus.perfectlytimedphotos.com/content/7334/resized/1224000485255.jpg?1267011232"/>
          <p:cNvPicPr/>
          <p:nvPr/>
        </p:nvPicPr>
        <p:blipFill>
          <a:blip r:embed="rId1"/>
          <a:stretch/>
        </p:blipFill>
        <p:spPr>
          <a:xfrm>
            <a:off x="1773360" y="0"/>
            <a:ext cx="560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 29" descr="http://dionysus.perfectlytimedphotos.com/content/21003/resized/coke.jpg?1268896938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age 30" descr="http://aphrodite.perfectlytimedphotos.com/content/7255/resized/1224003927617.jpg?1267152966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 31" descr="http://icarus.perfectlytimedphotos.com/content/7273/resized/1238725316516.jpg?1267031356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mage 32" descr="http://hades.perfectlytimedphotos.com/content/7276/resized/princecharlesandladybv9.jpg?1267018273"/>
          <p:cNvPicPr/>
          <p:nvPr/>
        </p:nvPicPr>
        <p:blipFill>
          <a:blip r:embed="rId1"/>
          <a:stretch/>
        </p:blipFill>
        <p:spPr>
          <a:xfrm>
            <a:off x="0" y="398520"/>
            <a:ext cx="9144000" cy="60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ut est dans le titre :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s rajoutées par ber59 :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5" name="Image 6" descr="http://icarus.perfectlytimedphotos.com/content/20922/resized/perfect.jpg?1268802764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 33" descr="http://aphrodite.perfectlytimedphotos.com/content/7274/resized/1242284485799.jpg?1267149685"/>
          <p:cNvPicPr/>
          <p:nvPr/>
        </p:nvPicPr>
        <p:blipFill>
          <a:blip r:embed="rId1"/>
          <a:stretch/>
        </p:blipFill>
        <p:spPr>
          <a:xfrm>
            <a:off x="0" y="352440"/>
            <a:ext cx="914400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 34" descr="http://poseidon.perfectlytimedphotos.com/content/7278/resized/headstand.jpg?1267029192"/>
          <p:cNvPicPr/>
          <p:nvPr/>
        </p:nvPicPr>
        <p:blipFill>
          <a:blip r:embed="rId1"/>
          <a:stretch/>
        </p:blipFill>
        <p:spPr>
          <a:xfrm>
            <a:off x="0" y="468360"/>
            <a:ext cx="914400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 35" descr="http://dionysus.perfectlytimedphotos.com/content/7297/resized/motor.jpg?1267073314"/>
          <p:cNvPicPr/>
          <p:nvPr/>
        </p:nvPicPr>
        <p:blipFill>
          <a:blip r:embed="rId1"/>
          <a:stretch/>
        </p:blipFill>
        <p:spPr>
          <a:xfrm>
            <a:off x="1585800" y="0"/>
            <a:ext cx="57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Image 36" descr="http://poseidon.perfectlytimedphotos.com/content/7250/resized/1224006176553.jpg?1267151060"/>
          <p:cNvPicPr/>
          <p:nvPr/>
        </p:nvPicPr>
        <p:blipFill>
          <a:blip r:embed="rId1"/>
          <a:stretch/>
        </p:blipFill>
        <p:spPr>
          <a:xfrm>
            <a:off x="1403280" y="0"/>
            <a:ext cx="6505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 37" descr="http://ares.perfectlytimedphotos.com/content/18850/resized/Picture_508.jpg?1267074589"/>
          <p:cNvPicPr/>
          <p:nvPr/>
        </p:nvPicPr>
        <p:blipFill>
          <a:blip r:embed="rId1"/>
          <a:stretch/>
        </p:blipFill>
        <p:spPr>
          <a:xfrm>
            <a:off x="2062080" y="0"/>
            <a:ext cx="495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 38" descr="http://aphrodite.perfectlytimedphotos.com/content/7307/resized/1238728180505.jpg?1267030345"/>
          <p:cNvPicPr/>
          <p:nvPr/>
        </p:nvPicPr>
        <p:blipFill>
          <a:blip r:embed="rId1"/>
          <a:stretch/>
        </p:blipFill>
        <p:spPr>
          <a:xfrm>
            <a:off x="0" y="372960"/>
            <a:ext cx="914400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 39" descr="http://ares.perfectlytimedphotos.com/content/7253/resized/1224002204804.jpg?1267010909"/>
          <p:cNvPicPr/>
          <p:nvPr/>
        </p:nvPicPr>
        <p:blipFill>
          <a:blip r:embed="rId1"/>
          <a:stretch/>
        </p:blipFill>
        <p:spPr>
          <a:xfrm>
            <a:off x="0" y="11268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age 40" descr="http://aphrodite.perfectlytimedphotos.com/content/20457/resized/gN7VS.jpg?1268259098"/>
          <p:cNvPicPr/>
          <p:nvPr/>
        </p:nvPicPr>
        <p:blipFill>
          <a:blip r:embed="rId1"/>
          <a:stretch/>
        </p:blipFill>
        <p:spPr>
          <a:xfrm>
            <a:off x="1717560" y="0"/>
            <a:ext cx="573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 41" descr="http://aphrodite.perfectlytimedphotos.com/content/8041/resized/extreme_34.jpg?1267114204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5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 42" descr="http://icarus.perfectlytimedphotos.com/content/7324/resized/1238728859690.jpg?1267100835"/>
          <p:cNvPicPr/>
          <p:nvPr/>
        </p:nvPicPr>
        <p:blipFill>
          <a:blip r:embed="rId1"/>
          <a:stretch/>
        </p:blipFill>
        <p:spPr>
          <a:xfrm>
            <a:off x="611280" y="0"/>
            <a:ext cx="788508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 7" descr="http://ares.perfectlytimedphotos.com/content/9406/resized/the_moment7.jpg?1267008559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 43" descr="http://ares.perfectlytimedphotos.com/content/7300/resized/1238729486037.jpg?1267114134"/>
          <p:cNvPicPr/>
          <p:nvPr/>
        </p:nvPicPr>
        <p:blipFill>
          <a:blip r:embed="rId1"/>
          <a:stretch/>
        </p:blipFill>
        <p:spPr>
          <a:xfrm>
            <a:off x="1835280" y="0"/>
            <a:ext cx="554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age 44" descr="http://hades.perfectlytimedphotos.com/content/7245/resized/1238726002388.jpg?1267016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 45" descr="http://hades.perfectlytimedphotos.com/content/19839/resized/Asstonhov_-_28.jpg?1267531853"/>
          <p:cNvPicPr/>
          <p:nvPr/>
        </p:nvPicPr>
        <p:blipFill>
          <a:blip r:embed="rId1"/>
          <a:stretch/>
        </p:blipFill>
        <p:spPr>
          <a:xfrm>
            <a:off x="0" y="420840"/>
            <a:ext cx="914400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e 46" descr="http://poseidon.perfectlytimedphotos.com/content/21512/resized/23805_10150163298200301_511695300_11621164_173717_n.jpg?126956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 47" descr="http://poseidon.perfectlytimedphotos.com/content/7291/resized/1238727997741.jpg?1267140056"/>
          <p:cNvPicPr/>
          <p:nvPr/>
        </p:nvPicPr>
        <p:blipFill>
          <a:blip r:embed="rId1"/>
          <a:stretch/>
        </p:blipFill>
        <p:spPr>
          <a:xfrm>
            <a:off x="647640" y="0"/>
            <a:ext cx="7812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 48" descr="http://image-photos.linternaute.com/image_photo/550/sport-insolite-touggourt-algerie-1190004881-1266423.jpg"/>
          <p:cNvPicPr/>
          <p:nvPr/>
        </p:nvPicPr>
        <p:blipFill>
          <a:blip r:embed="rId1"/>
          <a:stretch/>
        </p:blipFill>
        <p:spPr>
          <a:xfrm>
            <a:off x="2025720" y="0"/>
            <a:ext cx="506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 49" descr="http://www.parlonssports.com/img/20070712/prise-de-lutte.jpg"/>
          <p:cNvPicPr/>
          <p:nvPr/>
        </p:nvPicPr>
        <p:blipFill>
          <a:blip r:embed="rId1"/>
          <a:stretch/>
        </p:blipFill>
        <p:spPr>
          <a:xfrm>
            <a:off x="0" y="560520"/>
            <a:ext cx="914400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 50" descr="http://www.stupidocratie.net/wp-content/uploads/2009/04/Gooaaaal"/>
          <p:cNvPicPr/>
          <p:nvPr/>
        </p:nvPicPr>
        <p:blipFill>
          <a:blip r:embed="rId1"/>
          <a:stretch/>
        </p:blipFill>
        <p:spPr>
          <a:xfrm>
            <a:off x="1944720" y="0"/>
            <a:ext cx="493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 8" descr="http://aphrodite.perfectlytimedphotos.com/content/9407/resized/Fhwn4.jpg?1267096427"/>
          <p:cNvPicPr/>
          <p:nvPr/>
        </p:nvPicPr>
        <p:blipFill>
          <a:blip r:embed="rId1"/>
          <a:stretch/>
        </p:blipFill>
        <p:spPr>
          <a:xfrm>
            <a:off x="0" y="422280"/>
            <a:ext cx="91440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 9" descr="http://apollo.perfectlytimedphotos.com/content/21739/resized/pefect.jpg?1269834818"/>
          <p:cNvPicPr/>
          <p:nvPr/>
        </p:nvPicPr>
        <p:blipFill>
          <a:blip r:embed="rId1"/>
          <a:stretch/>
        </p:blipFill>
        <p:spPr>
          <a:xfrm>
            <a:off x="360360" y="0"/>
            <a:ext cx="845964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 10" descr="http://dionysus.perfectlytimedphotos.com/content/7281/resized/1238728747088.jpg?1267005442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 11" descr="http://hades.perfectlytimedphotos.com/content/21005/resized/coke2.jpg?1268897108"/>
          <p:cNvPicPr/>
          <p:nvPr/>
        </p:nvPicPr>
        <p:blipFill>
          <a:blip r:embed="rId1"/>
          <a:stretch/>
        </p:blipFill>
        <p:spPr>
          <a:xfrm>
            <a:off x="2160720" y="0"/>
            <a:ext cx="514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 12" descr="http://hades.perfectlytimedphotos.com/content/7262/resized/1242281053804.jpg?1267108454"/>
          <p:cNvPicPr/>
          <p:nvPr/>
        </p:nvPicPr>
        <p:blipFill>
          <a:blip r:embed="rId1"/>
          <a:stretch/>
        </p:blipFill>
        <p:spPr>
          <a:xfrm>
            <a:off x="0" y="262080"/>
            <a:ext cx="91440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14:59:07Z</dcterms:created>
  <dc:creator>Daniel Lioris</dc:creator>
  <dc:description/>
  <dc:language>en-US</dc:language>
  <cp:lastModifiedBy>Daniel Lioris</cp:lastModifiedBy>
  <dcterms:modified xsi:type="dcterms:W3CDTF">2011-02-03T15:30:12Z</dcterms:modified>
  <cp:revision>3</cp:revision>
  <dc:subject/>
  <dc:title>[Insolite] Photos prises pile au bon moment !</dc:title>
</cp:coreProperties>
</file>