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kennyG_dying_young1.wav" ContentType="audio/x-wav"/>
  <Override PartName="/ppt/media/image11.jpeg" ContentType="image/jpe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55C-E69E-4567-B38F-2467D4DA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FD1-E513-46CC-B3E9-AFDC30E9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8BA-1251-400B-8EF4-E59BEB2D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549-5C01-49F8-97CE-0BE8DAF1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62593-A70E-4C7D-867E-3E10BCA1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61073-2B2C-47B2-A9A9-DEFF6880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29F14-33D5-49B9-87BE-0B567E2D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512A3-7799-4153-8E18-185B81C2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2D04E-0C4E-4D8F-87D1-E6D0256F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DC1B2-93E8-4833-9025-65DF36B1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AC2FD-9CE4-4800-9FD1-79468D4B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B21-4036-4918-A9D0-32232716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D15C8-62EB-4DC8-A174-6D7AFB56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44B00-45B2-4F5A-B909-E6C0206C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DDA4C-0978-43BD-9461-8A464319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74202-B6A3-443F-ACCE-57228F4C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3835C-85D1-4392-9AFC-DB95FA6E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14D-E1A6-41C3-AB2D-B01BCCEB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D80-2777-4C11-97E8-16C2E7B6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A97-3E8B-4B6B-8E21-C0ABBD12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696-0616-41CD-BB11-283500A4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AEC-5D7A-4551-B59A-664E0F62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590-7A08-446B-9319-5927BD6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887-0C21-4780-8E9D-D2B34507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1AC4-1613-4820-B949-26DDFDC915D9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A0DD-E6B1-4AF1-80EE-93598D57CC58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kennyG_dying_young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ennyG_dying_young1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3880" y="0"/>
            <a:ext cx="62168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26920" y="38088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Bombeiros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Uma filosofia de vida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955960"/>
            <a:ext cx="861048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ahoma"/>
              </a:rPr>
              <a:t>A história que vocês irão ler já é conhecida de muitos. Ela foi publicada na “Revista Bombeiros em Emergência nº 19 – SP”, está em muitos sites especializados, já foi lida em diversas formaturas de Bombeiros, está em nossa exposição e já circula pela interne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ahoma"/>
              </a:rPr>
              <a:t>Nós, Bombeiros da BASP, apenas melhoramos a apresentação elaborada por Lidec83, incluindo algumas imagens para permitir que vocês, leitores, vivenciem a histó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ahoma"/>
              </a:rPr>
              <a:t>Vale a pena ler até o fi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ahoma"/>
              </a:rPr>
              <a:t>Henrique - Bombei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1080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do o amor e atenção que foram dispensados ao menino acabaram comovendo-o tão profundamente, que ele viveu três meses a mais que o previst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374760"/>
            <a:ext cx="831672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Uma noite, todas as suas  funções vitais começaram a cair dramaticamente e a mãe decidiu chamar ao hospital, toda família.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Então, ela lembrou a emoção que o garoto tinha passado como um Bombeiro, e pediu à  enfermeira que ligasse para o chefe da corporação, e perguntasse se seria possível enviar um Bombeiro para  o hospital, naquele momento trágico, para ficar com o menino.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476280"/>
            <a:ext cx="87487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 chefe dos Bombeiros respondeu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NÓS PODEMOS FAZER MAIS QUE ISSO!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ós estaremos aí em cinco minut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s faça-me um fav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ando você ouvir as sirenes e vir as luzes 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ssos carros,avise no sistema de som que  não 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ta de um incêndio apenas o corpo de Bombeir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indo visitar mais uma vez, um de seus ma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stintos integr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 também poderia abrir a janela do quarto dele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brigado!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3880" y="6480"/>
            <a:ext cx="7620120" cy="6851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320" y="1714680"/>
            <a:ext cx="32004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inco minutos depois, as viaturas chegaram no hospital. Estenderam a escada até o andar onde garoto estava, e 16 Bombeiros subiram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708120"/>
            <a:ext cx="386424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Com a permissão da mãe, eles o abraçaram, seguraram, e disseram que o amava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Com a voz  fraquinha, o menino olhou para o chefe e perguntou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- Chefe, eu sou mesmo um  Bombeiro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- Sim, você é um dos melhores - disse ele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41880" y="0"/>
            <a:ext cx="4902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04800"/>
            <a:ext cx="251460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m estas palavras, o menino sorriu e fechou seu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lhos para sempre.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28920" y="0"/>
            <a:ext cx="6715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763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Qualquer que seja a nossa atividade profissional, devemos ter em mente a importância de fazermos algo mais. No caso presente, que é uma história verídica, restou a revista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BOMBEIROS EM EMERGÊNCA (SP)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repassá-la a todos os leitores para que sua filosofia e princípios sejam internacionalizados. E você, diante do  pedido de seus  pais, irmãos, filhos  parentes e amigos, tem respondi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EU POSSO FAZER MAIS QUE ISSO !”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Reflita se sua vida tem sido em serviço ao próximo e tome uma decisão hoje mesm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151000" cy="2819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76720" y="5334120"/>
            <a:ext cx="5486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laboração de imag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ombeiros da Base Aérea de São Paul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1219320"/>
            <a:ext cx="73915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m amigo meu disse uma vez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or do que você querer fazer e não pode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é você poder fazer e não querer.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evi Dias de Santana – Bomb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licidades e sucesso a to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enriqu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sta mensagem não deve ficar  arquivada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bsorva-a e depois encaminhe para os seus amigos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 é para arquivar, que seja no coração de Cada um de NÓS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"A maior perda da vida é o que morre dentro de nós enquanto vivemo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us te  abençoe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9898400">
            <a:off x="6345720" y="4565520"/>
            <a:ext cx="287964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4f1b2"/>
                </a:solidFill>
                <a:latin typeface="Monotype Corsiva"/>
              </a:rPr>
              <a:t>Lidec83 </a:t>
            </a:r>
            <a:r>
              <a:rPr b="0" lang="en-US" sz="8000" spc="-1" strike="noStrike">
                <a:solidFill>
                  <a:srgbClr val="f4f1b2"/>
                </a:solidFill>
                <a:latin typeface="Monotype Corsiva"/>
              </a:rPr>
              <a:t>        </a:t>
            </a:r>
            <a:r>
              <a:rPr b="0" lang="en-US" sz="1200" spc="-1" strike="noStrike">
                <a:solidFill>
                  <a:srgbClr val="f4f1b2"/>
                </a:solidFill>
                <a:latin typeface="Arial"/>
              </a:rPr>
              <a:t>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1052640"/>
            <a:ext cx="734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mãe parou ao lado do leito de seu filhinho de 6 anos,que estava doente de  leucemi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o qualquer outra mãe,  ela gostaria que e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escesse  realizasse seus  sonh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76320"/>
            <a:ext cx="9144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gora, isso não seria mais  possível, por causa de uma   leucemia terminal. Junto dele, tomou-lhe a mão e pergunto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Filho, você alguma vez já pensou o que gostaria de ser quando crescesse?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2951280"/>
            <a:ext cx="5867640" cy="390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6417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A mãe sorriu e  disse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- Vamos ver o que podemos  fazer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05320" y="60948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272736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- Mamãe, eu sempre quis  ser um Bombeiro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79244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Mais tarde, naquele mesmo  dia, ela foi ao Corpo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de Bombeiros local e contou ao Chefe dos Bombeiros a situação de seu  filho e perguntou se seria possível o garoto dar uma volta no carro do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Bombeiros, em torno do quarteirão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 Chefe dos bombeiros, comovido, diss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 NÓS PODEMOS FAZER  MAIS QUE ISSO !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Se você estiver com o seu filho pronto às sete horas da manhã, daqui a uma   semana, nós o faremos  um Bombeiro honorário, por todo o  dia.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92280" y="3259080"/>
            <a:ext cx="587520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907920"/>
            <a:ext cx="7473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 poderá vir para o quartel,  comer conosco e sai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a   atender  às chamadas de emergênci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 se você nos d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s medidas dele, nós conseguiremos um  unifor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leto: chapéu com o emblema de nosso  batalhã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saco amarelo igual ao  que vestimos e botas  também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2000" y="533520"/>
            <a:ext cx="6912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ma semana depois, o bombeiro-chefe pegou o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garoto, vestiu-lhe o uniforme de Bombeiro e o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scoltou do  leito do hospital até o caminhão de bombeiro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O menino ficou sentado na parte de trás do caminhão, e foi até o quartel central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arecia-lhe estar no céu...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242568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1080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Comic Sans MS"/>
              </a:rPr>
              <a:t>Ocorreram três chamadas  naquele dia na cidade e o garoto acompanhou todas as três. Em cada chamada, ele foi em veículos diferentes:no auto-tanque, na van dos paramédicos e até no carro especial do chefe dos Bombeiros.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0:52:52Z</dcterms:created>
  <dc:creator>Décio Nunes</dc:creator>
  <dc:description/>
  <dc:language>en-US</dc:language>
  <cp:lastModifiedBy>mperei22</cp:lastModifiedBy>
  <dcterms:modified xsi:type="dcterms:W3CDTF">2006-06-12T10:54:08Z</dcterms:modified>
  <cp:revision>41</cp:revision>
  <dc:subject>Categoria: Reflexão</dc:subject>
  <dc:title>Slide 1</dc:title>
</cp:coreProperties>
</file>