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71AF-A23C-44A0-BFAC-EEAD4FC12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ADC9-9A2D-45B7-9687-7DC0954EB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13DC-13E6-4FD3-B597-C62AD4AAC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FA6F-1EE9-4B37-BD69-DB030CF98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938F4-B97B-4F68-9F3B-F7A96BA51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9924F-EBE9-4969-8E90-9174A7980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29838-B247-465D-A0D7-8121F669E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EEEAA-EB0C-4787-8B55-5C1AEB0D5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F8E1F-7D68-4A40-B857-36C2D6D3B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750E8-A2E6-46F4-A582-875F2CBF4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558D4-C8BC-4855-A089-BC48A02A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D657-00D6-490A-AF86-1FCF2E853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E30DA-7C6E-48DC-8504-359DE822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15447-8AE8-4AAA-A5C2-78E94D35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D867B-874A-4C21-ACA1-56AF978FB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45D01-944B-4B60-8C65-4EB0762B2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5307B-9A19-4EE9-A9AB-CAC52521A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AA75-76EE-4B70-8ADA-E3800C241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2F10-D13A-4A1C-8D16-EF03AB31A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B2AE-DC11-4B5C-AD95-1F777DEBA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D050-7CFC-411E-B25B-33EBAEF55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B44D-33AA-4B5F-BA28-6C161E1E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7A49-1D4B-463F-9D3E-F557B35D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109E-1559-412D-B7E9-A56A721BF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04EDE-DFD7-4E34-BE17-5071E2423E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560" y="63360"/>
              <a:ext cx="3623400" cy="6129000"/>
              <a:chOff x="5407560" y="63360"/>
              <a:chExt cx="362340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840"/>
                <a:ext cx="2115360" cy="2357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61280"/>
                <a:ext cx="906120" cy="843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7040" y="259344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360"/>
                <a:ext cx="388800" cy="551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720" y="2644560"/>
                <a:ext cx="16344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1320" y="1241640"/>
                <a:ext cx="19008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820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4160" y="293040"/>
              <a:ext cx="889200" cy="834120"/>
              <a:chOff x="5654160" y="293040"/>
              <a:chExt cx="889200" cy="83412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5760" y="796680"/>
                <a:ext cx="17856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4280" y="476280"/>
                <a:ext cx="30600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3560" y="393480"/>
                <a:ext cx="32004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0840" y="5253480"/>
              <a:ext cx="1062720" cy="834840"/>
              <a:chOff x="960840" y="5253480"/>
              <a:chExt cx="1062720" cy="83484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06760" y="5522040"/>
                <a:ext cx="250920" cy="300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9800" y="5733360"/>
                <a:ext cx="429480" cy="2491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52200" y="537804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BA706-FD38-4ABB-9A54-EA978EB19AE9}" type="slidenum">
              <a:rPr b="0" lang="en-US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228600" y="914400"/>
          <a:ext cx="8763120" cy="4650840"/>
        </p:xfrm>
        <a:graphic>
          <a:graphicData uri="http://schemas.openxmlformats.org/drawingml/2006/table">
            <a:tbl>
              <a:tblPr/>
              <a:tblGrid>
                <a:gridCol w="1981080"/>
                <a:gridCol w="3276720"/>
                <a:gridCol w="3505320"/>
              </a:tblGrid>
              <a:tr h="5464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99"/>
                          </a:solidFill>
                          <a:latin typeface="Albertus Medium"/>
                        </a:rPr>
                        <a:t>JADWAL PENGAJIAN SABTU SIANG MESJID AL HAKIM 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inggu / Tanggal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Nara Sumber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Tema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 / Sabtu 1 May 20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Ustd. Rikza Abdullah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Cinta Al-Quran(Diskusi)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I / Sabtu 8 May 20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Ustd. KH.Abdulah Gimnastiar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(Aa.Gim)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ersih Hati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II / Sabtu 15 May 20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Ustd. Rikza Abdullah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Cinta Al-Quran(Diskusi)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V / Sabtu 22 May 20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Ustd. Abdul Shukur     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(Majelis Adzikra)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ndahnya Hidup dengan selalu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erdzikir kepada Allah SWT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228600" y="5562720"/>
          <a:ext cx="8763120" cy="515880"/>
        </p:xfrm>
        <a:graphic>
          <a:graphicData uri="http://schemas.openxmlformats.org/drawingml/2006/table">
            <a:tbl>
              <a:tblPr/>
              <a:tblGrid>
                <a:gridCol w="1981440"/>
                <a:gridCol w="3276360"/>
                <a:gridCol w="3505320"/>
              </a:tblGrid>
              <a:tr h="57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V / Sabtu 29 May 20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Ustd. Ikhsan Hakim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Adab Berbakti kepada orang tua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6T09:09:11Z</dcterms:created>
  <dc:creator>office xp</dc:creator>
  <dc:description/>
  <dc:language>en-US</dc:language>
  <cp:lastModifiedBy>office xp</cp:lastModifiedBy>
  <dcterms:modified xsi:type="dcterms:W3CDTF">2010-05-03T01:55:19Z</dcterms:modified>
  <cp:revision>7</cp:revision>
  <dc:subject/>
  <dc:title>Slide 1</dc:title>
</cp:coreProperties>
</file>