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78A-BDB3-452F-919F-AAFEFC79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AFA-F7DC-4DD2-B690-D1488984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EA3-6349-409B-AA31-88685144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F08-BDE3-4061-8286-A82F9870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6563-5808-4E7F-BF23-FC7CBFD4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3AE3-ABFA-4EF4-B2A7-E1253E8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FD91-4529-43BE-9274-9BA31394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14C2-3E01-4DE8-B015-7A2B110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FE2-C73C-4BEF-9204-82245CE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047-05B0-4B41-B0BC-F3E0D38E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C510-44CD-458E-8A0B-87D7071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8FD-44D3-4FBA-9618-6D5F156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DF8-1984-4FE2-ADAE-0A39A07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AC0A-0BAD-457A-8A26-4E6CC09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1AE7-C319-47BD-8721-2131797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711E-7CAF-4EE6-B169-85F7E138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66F-A594-49AB-81A6-D89AB688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F16-160A-41F7-ADA2-9F545036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3DF-13B4-4581-9B8B-FB0E1B4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073-0EBA-4ADE-A79D-3CFF7A0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34A-4A90-4198-9F66-99C9C389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5B4-542E-4362-A8FE-E95918B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316-D506-4BE0-BD65-13061DF6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F48-5E8A-40EB-B604-B855E9E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AFCF-7FC6-4E7C-89DD-C53D8F527D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5E3-4BFD-45AB-B32C-4F56A3D9C9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NGAJIAN SABTU SIANG ALHAKIM</a:t>
            </a:r>
            <a:br>
              <a:rPr sz="48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ngundang rekan-rekan semua untuk menghadiri pengajian special, sabtu siang .Dengan jadwal  sbb: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2743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ri/tg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Sabtu, 08 Mei 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mpa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Mesjid Raya Alhakim, Jl. HOS. Cokroamino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ssion 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 Pukul 10.00 Wib – 12.00 Wi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td. Adiwarman Kari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eberuntungan Orang yang berinfak dijalan ALLAH 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ssion 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Pukul 12.30 Wib – 14.00 Wib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H.Abdulah Gimnastiar ( Aa Gym 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“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rsih Hati “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user</cp:lastModifiedBy>
  <dcterms:modified xsi:type="dcterms:W3CDTF">2010-04-30T13:40:45Z</dcterms:modified>
  <cp:revision>12</cp:revision>
  <dc:subject/>
  <dc:title>PENGAJIAN REMAJA ALHAKIM Mengundang rekan-rekan semua untuk menghadiri pengajian special, yang mengundang Ustad tamu.  Pengajian ini akan diadakan sbb: </dc:title>
</cp:coreProperties>
</file>