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253-7961-4A82-9FC8-965C095D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169-F637-4633-A201-FF80908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EAE-4359-4B9C-A738-49751F3C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817-D95E-4BD7-A00E-CDCCB563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64E9-54E3-4FDE-BD14-0A11095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33EE-4EC6-4888-A194-FB572A6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9B4F-4819-460C-98E8-CE50F60F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F02-469F-4C6D-BBF8-941EE7A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687F-3A8E-4468-873A-6A6BD65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0211-6437-48A5-A191-07D5CBB4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E023-CC72-4CB1-81AD-7C33B59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C92-CFEC-49CD-9E73-5D58351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491F-375E-42AD-A569-84A983EF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3F6E-D0BC-4C6A-A3CC-EC8BD79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94C-3B9A-4462-88AD-1F35672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4DD1-3414-4512-AA0A-5D708600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0708-30F5-4A53-9AEF-CDEFAF4F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572-28EB-44F5-99CE-F6CC990A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A1C-D9B9-4E82-B729-129F7375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3D9-810E-4FE7-8838-B3D2CF6E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3CE-FE16-489E-8BA2-DADD0AA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3B9-556C-4C11-BD8A-CC6EF9C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43B-AB33-4F09-81A8-0D13F18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A33-76FE-4A96-9E4C-EFFC429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5199-281F-4C7D-B142-CA92000C4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74FC-0248-4D9F-B2F2-0FD71D905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AJIAN SABTU SIANG ALHAKIM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undang rekan-rekan semua untuk menghadiri pengajian special, sabtu siang .Dengan jadwal  sbb: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i/tg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abtu, 10 April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ku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13.00 Wib / Ba’da Dzuh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Mesjid Raya Alhakim,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l. HOS. Cokroamino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t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td. Tengku Zulkarnain, M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“ MAULID NABI MUHAMMAD SAW 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office xp</cp:lastModifiedBy>
  <dcterms:modified xsi:type="dcterms:W3CDTF">2010-04-08T03:06:24Z</dcterms:modified>
  <cp:revision>8</cp:revision>
  <dc:subject/>
  <dc:title>PENGAJIAN REMAJA ALHAKIM Mengundang rekan-rekan semua untuk menghadiri pengajian special, yang mengundang Ustad tamu.  Pengajian ini akan diadakan sbb: </dc:title>
</cp:coreProperties>
</file>