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21C-CFAC-4EFC-9715-9E2A1145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DA2-C329-4944-B7BC-85EFFC8A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F72-39E1-4D12-AB55-F4220421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25E-7F14-417A-B2DF-61E66164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29E3-7E6D-435B-9E0D-544EF3C1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4254-0A2B-4A54-9594-4060B7EE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33B5-6FD6-41D1-A72A-E10548E1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A55D-2F2D-407C-82F8-5F331CC3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6EAF-E7AC-4034-A1F2-D20392C3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FA52-67F4-4C8C-BB3C-FAB00A85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1429-1343-4EE9-9451-F0706DE7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40E-C2C0-46A5-A451-502B2E51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9CC0-B2B6-4FB5-8363-B5A36CB0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F864-2ED6-45D6-96EB-CFDF70CD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E6DB-A0DF-4778-AD89-08E176A8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7294-2C01-452D-9C35-BB20976D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DA57-FB45-4D1A-BFA5-C2DD6A9A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4C7-852B-4E64-A3CC-5CD4873E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01F6-7141-49EB-BD7B-8FFC4A4A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352-6E2F-4A9E-B2AC-31DC9276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DAF-73E5-4ED7-A263-CA745C15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49B-8F76-437F-ACB4-2DEFB0E9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B96-C17E-459D-98F7-52282D29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D21-3893-4BA5-B1D9-C16C40A7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4877-27FD-4166-9DC0-771213C69C4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C245-9477-441C-9E57-705DA21D1E8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966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ADWAL PENGAJIAN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EMAJA ALHAKIM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ulan Maret 2010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Pukul 13.00 Wib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85800" y="3521160"/>
          <a:ext cx="6934320" cy="2117520"/>
        </p:xfrm>
        <a:graphic>
          <a:graphicData uri="http://schemas.openxmlformats.org/drawingml/2006/table">
            <a:tbl>
              <a:tblPr/>
              <a:tblGrid>
                <a:gridCol w="3200400"/>
                <a:gridCol w="373392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06 Maret 201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Ustd Rikza Abdullah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3 Maret 201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Ustd Harry Mukti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0 Maret 201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Ustd Rikza Abdullah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7 Maret 201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Ustd Ikhsan Hakim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0:27:18Z</dcterms:created>
  <dc:creator>oktavia</dc:creator>
  <dc:description/>
  <dc:language>en-US</dc:language>
  <cp:lastModifiedBy>oktavia</cp:lastModifiedBy>
  <dcterms:modified xsi:type="dcterms:W3CDTF">2010-02-25T10:36:45Z</dcterms:modified>
  <cp:revision>1</cp:revision>
  <dc:subject/>
  <dc:title>JADWAL PENGAJIAN REMAJA ALHAKIM Bulan Maret 2010  Pukul 13.00 Wib</dc:title>
</cp:coreProperties>
</file>