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3B5-092A-4E3E-A4B0-0DC0A68B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C3F-C709-42E5-AD5F-316A1E41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2FA-E8FC-4462-9012-30D2578C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882-B65C-4C36-83B0-748342F0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FA26-1682-4A86-B2C8-A6D40746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5335-8665-4153-B785-7AE47C51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91D1-281D-44DD-822A-F98ED8EC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A8FE-7832-4252-83FD-B4B594E3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67D8-E00B-4B82-9CD8-36F9B686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D1FD-E0D2-43AE-94F0-6D6552BF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7479-6BCC-4FEC-9613-8F559B18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C3D-B9C2-4DFF-8DC7-C0061BE0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F336-58BE-44FB-9F64-4AB834C2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5345-B1F7-4B39-B140-1C442CC8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B6BF-686B-44CF-829A-1D683F85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27D2-C2C8-4E38-98AD-108EF587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016D-1610-4D91-971D-5B373053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4EC-6E60-49A7-B953-5FC5F047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4C0-67CE-4247-B2C0-A1B4D4E2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FED-FD86-439A-BC74-671F889A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568-77FC-4F95-8870-FAE335FD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853-8B82-4A7E-9418-7412E76E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56E-219C-4712-BD59-6D4E0744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984-060C-4429-BF05-14B4503B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B969-FADB-42FD-91ED-2904CC126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BEDD-2971-4496-BC8A-24EC9A5C6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NGAJIAN SABTU SIANG ALHAKIM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undang rekan-rekan semua untuk menghadiri pengajian special, sabtu siang .Dengan jadwal  sbb: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20040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i/tg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abtu, 27 Maret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ku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13.00 Wib / Ba’da Dzuh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esjid Raya Alhakim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l. HOS. Cokroaminot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t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td. Ihksan Hak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“ Bagaimana Kita Memuliakan Orang Tua 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3:19:25Z</dcterms:created>
  <dc:creator>oktavia</dc:creator>
  <dc:description/>
  <dc:language>en-US</dc:language>
  <cp:lastModifiedBy>office xp</cp:lastModifiedBy>
  <dcterms:modified xsi:type="dcterms:W3CDTF">2010-03-23T07:45:19Z</dcterms:modified>
  <cp:revision>7</cp:revision>
  <dc:subject/>
  <dc:title>PENGAJIAN REMAJA ALHAKIM Mengundang rekan-rekan semua untuk menghadiri pengajian special, yang mengundang Ustad tamu.  Pengajian ini akan diadakan sbb: </dc:title>
</cp:coreProperties>
</file>