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979-DC82-4B94-BEE7-3A0A4CD8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7E6-7A41-48B3-8187-4740387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A84-F768-494B-9718-4E5C8EF0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BFF-B838-44AC-BCE9-B92B4B5B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D4E-C926-4B0F-B420-97303654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117F-9BB4-4EDB-A3F7-38A5039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1800-E4DB-4285-8797-21711F76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2513-9F36-4EB7-8551-3311C3C1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1A6-F2FB-4222-A8EE-4C86719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430B-1E36-41A7-B5E7-0626D69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028-2B78-4EE3-BACA-F5F6137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A2A-19DC-4F36-821B-C24E140C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1CD-68A0-4BB6-B59E-B9D85FF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E68-F7A7-40DA-876A-A5F1ECC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1A0-0E70-4D2E-B06D-EAFF24E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8B7E-8FE1-4CA9-98EB-A96992E0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9F50-7FC5-4132-AD50-DD763A40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9D4-4AC4-4783-9DB0-E72B7B04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036-3487-4AC0-A527-CBEB28D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80D-B61A-4159-9296-C60CD5D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860-5762-4B90-A37E-EB3EEF4B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435-4E57-44A9-BEFF-5C00FE7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B9-B1BD-4D14-A374-89EA8D2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858-8614-4159-B3B3-B79E8AF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1F8-59B0-4476-83FC-38918E8F9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4E4E-68A4-438E-BEF0-18A1D3B5A5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NGAJIAN SABTU SIANG ALHAKIM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Mengundang rekan-rekan semua untuk menghadiri pengajian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pecial, sabtu siang .Dengan jadwal  sbb: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i/tg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abtu, 16 Oktober 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ku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13.15 WIB / Ba’da Dzuh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mp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Mesjid Raya Alhakim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l. HOS. Cokroamino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tadz          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yekh Ali Saleh Muhammad Bin Ali Jab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 Keistimewaan Al-Quran ”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membaca alquran1"/>
          <p:cNvPicPr/>
          <p:nvPr/>
        </p:nvPicPr>
        <p:blipFill>
          <a:blip r:embed="rId2"/>
          <a:stretch/>
        </p:blipFill>
        <p:spPr>
          <a:xfrm>
            <a:off x="0" y="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ffice xp</cp:lastModifiedBy>
  <dcterms:modified xsi:type="dcterms:W3CDTF">2010-10-14T02:13:26Z</dcterms:modified>
  <cp:revision>27</cp:revision>
  <dc:subject/>
  <dc:title>PENGAJIAN REMAJA ALHAKIM Mengundang rekan-rekan semua untuk menghadiri pengajian special, yang mengundang Ustad tamu.  Pengajian ini akan diadakan sbb: </dc:title>
</cp:coreProperties>
</file>