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E8A3-810A-4149-921F-5FE0DCB5D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449E-D97F-4B2F-9955-AC9339BB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410C-56B0-43E0-B44C-35503A46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FBFB-5538-44D8-A4A5-AF7FEE0E2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FD3E-D777-42E3-A806-8D916D132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B6F0-010E-4F4C-A853-DE43CEF3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E3D0-B529-42AE-A0D4-CA61D0AE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A09A-75FB-4651-A6B0-B1CE3EFF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04C3-B041-4353-9D10-E39CF087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76C4-72FA-45C6-9764-5BB28166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E9FE-769D-4181-BE14-A7DAC2FE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0F76-4EF3-48B2-BB44-B565785B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E2D9-32E9-4865-98DB-4EA64A9F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A11E-4C05-4A05-95CF-9D2D0B7A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C582-26B5-490F-A748-71A57B7C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7989-BA39-4660-9165-EA126203F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ECD8-F9FB-4146-A253-ADEF18BC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3B25-A1F6-47DD-911C-924295CA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4AD3-859D-4821-B375-E57D907F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2967-ECE2-45D7-BA37-607AA5EF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84DB-5AC4-41B9-AB0D-418034B8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CE81-844D-45E4-83A9-72A46DB0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EDF2-1F1E-4750-AA89-DA250D95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2BEC-FCFA-43B8-85CD-02703EC0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EAC4-CD97-4D99-AD00-3286D81B5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27F3-D669-4BA9-B1CD-3ED13F09783F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28600" y="914400"/>
          <a:ext cx="8763120" cy="4650840"/>
        </p:xfrm>
        <a:graphic>
          <a:graphicData uri="http://schemas.openxmlformats.org/drawingml/2006/table">
            <a:tbl>
              <a:tblPr/>
              <a:tblGrid>
                <a:gridCol w="1981080"/>
                <a:gridCol w="3276720"/>
                <a:gridCol w="3505320"/>
              </a:tblGrid>
              <a:tr h="546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Albertus Medium"/>
                        </a:rPr>
                        <a:t>JADWAL PENGAJIAN SABTU SIANG MESJID AL HAKIM 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inggu / Tanggal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ara Sumber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ema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 / Sabtu 1 May 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Ustd. Rikza Abdulla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inta Al-Quran(Diskusi)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I / Sabtu 8 May 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Ustd. Aa Gym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ersih Hati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II / Sabtu 15 May 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Ustd. Rikza Abdulla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inta Al-Quran(Diskusi)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V / Sabtu 22 May 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Ustd. Abdul Shukur    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(Majelis Adzikra)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228600" y="5562720"/>
          <a:ext cx="8763120" cy="515880"/>
        </p:xfrm>
        <a:graphic>
          <a:graphicData uri="http://schemas.openxmlformats.org/drawingml/2006/table">
            <a:tbl>
              <a:tblPr/>
              <a:tblGrid>
                <a:gridCol w="1981440"/>
                <a:gridCol w="3276360"/>
                <a:gridCol w="3505320"/>
              </a:tblGrid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V / Sabtu 29 May 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Ustd. Ikhsan Hakim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Adab Berbakti kepada orang tua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9:09:11Z</dcterms:created>
  <dc:creator>office xp</dc:creator>
  <dc:description/>
  <dc:language>en-US</dc:language>
  <cp:lastModifiedBy>user</cp:lastModifiedBy>
  <dcterms:modified xsi:type="dcterms:W3CDTF">2010-04-30T13:20:47Z</dcterms:modified>
  <cp:revision>5</cp:revision>
  <dc:subject/>
  <dc:title>Slide 1</dc:title>
</cp:coreProperties>
</file>