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107-C12A-4807-8126-28D03C9E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E43-7B18-40BF-B736-CF9A5FA4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DA7-8FAF-4BCB-849C-9BBC3236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2EC-B29A-45B8-9714-8FC82B52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B2CD-083B-4459-98B7-F3C4D058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1150-9980-4BC9-993C-0E7E3193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C564-7E8D-4813-B4CF-5115AD99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65C6-B168-4B04-B240-499C5339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BD65-57D3-4877-B866-1A2F9431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8EE2-43E9-4DE2-A90C-C01D9E98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6061-7287-498E-9DED-163F23B4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26D-68BC-49EA-B70A-D7088600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2E3B-E258-4EB0-BBF6-79C70AB6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8C62-17D5-4B63-BAA4-C6EBD86F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A46E-BFE0-41AA-AD58-362CAD6C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546A-3B3F-48C8-B7C0-B4F659ED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2145-8A49-4E61-B43F-96869B50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D470-A7A0-4C9D-B2E0-73214D51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E344-F82A-42B9-867E-657ABCF3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3CD-8FFA-4BAD-B259-8E89BD9E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6AE-D633-4C11-BD0E-E5D9CE8E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0C6-3C9C-4114-B0F1-6A76BFCE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8C8C-5001-4C65-9198-003D8090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CE3-D105-4942-AFC1-07077DF8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16F2-FD10-4786-9C7C-A985A5D90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8513-39F3-4B64-B439-43D84E7F08B8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914400"/>
          <a:ext cx="8763120" cy="5056200"/>
        </p:xfrm>
        <a:graphic>
          <a:graphicData uri="http://schemas.openxmlformats.org/drawingml/2006/table">
            <a:tbl>
              <a:tblPr/>
              <a:tblGrid>
                <a:gridCol w="2590920"/>
                <a:gridCol w="2666880"/>
                <a:gridCol w="3505320"/>
              </a:tblGrid>
              <a:tr h="926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Albertus Medium"/>
                        </a:rPr>
                        <a:t>JADWAL PENGAJIAN SABTU SIANG MESJID AL HAKIM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Albertus Medium"/>
                        </a:rPr>
                        <a:t>PUKUL 13.15 – 15.00 WIB (waktu Ashar)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inggu / Tanggal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ara Sumber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 / Sabtu 2 Okt 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std. Rikza Abdulla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inta Al-Quran (Diskusi)”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I / Sabtu 9 Okt 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std. Habib Muhammad                        Syahah L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inta Rasulullah DenganBersalawat”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II / Sabtu 16 Okt  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std. Rikza Abdulla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inta Al-Quran (Diskusi)”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V / Sabtu 23 Okt 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std. Felix Siauw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Life Is Choice”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V / Sabtu 30 Okt 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Ustd. Fikri Toriq L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erguru Kpd Nabi &amp; Rasul dlm Menyelesaikan Masalah”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9:09:11Z</dcterms:created>
  <dc:creator>office xp</dc:creator>
  <dc:description/>
  <dc:language>en-US</dc:language>
  <cp:lastModifiedBy>office xp</cp:lastModifiedBy>
  <dcterms:modified xsi:type="dcterms:W3CDTF">2010-10-04T07:46:30Z</dcterms:modified>
  <cp:revision>15</cp:revision>
  <dc:subject/>
  <dc:title>Slide 1</dc:title>
</cp:coreProperties>
</file>