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129-7174-4068-8609-D6DA3782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DB0-D16F-490F-B445-00B627F2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B18-5CB1-4EAD-B6FA-C68F20EE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7A6-6BCB-4D7E-803D-4FA43F41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F6FF9-1E8D-4526-9109-0B734A92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85549-6541-4B78-A8EA-496BE2EF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43010-C5F8-4567-A4A2-FAE38266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BC57F-25C7-4F6C-BDAF-FE35274B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B05C2-C365-4500-961D-7BB1AA0A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D744D-5CEE-4234-9B9B-792A6B3E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84C1B-E994-4DCF-BD4F-968A320D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6B6-25E9-4F69-B694-BA657810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B728D-D97C-4D04-99A0-5D5D035B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79803-4479-4030-A3A5-FD5D49F3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7948C-C5E3-471C-B8EA-EA69D6D5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1E867-73EE-409D-9FFD-ED752A10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4D73D-6CEC-4E17-AE35-83456E83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819-1E35-4C45-9195-71480AE6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192-8B75-4ECB-96DF-F98D0C0C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A14-0E48-476F-A4D9-03EB20A8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BE8-7DD4-4322-8E84-628D88BC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228-215A-42CF-A0C2-B0B3E5B7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4DF-EAA1-485E-9D1A-41353E7F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B63-1916-4959-B909-DC28EC52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59B3-B310-4725-B51E-D803289B6C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9C89-175B-4B58-B503-811437694E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PENGAJIAN REMAJA ALHAKIM</a:t>
            </a:r>
            <a:br>
              <a:rPr sz="48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Mengundang rekan-rekan semua untuk menghadiri pengajian special, yang mengundang Ustad tamu.  Pengajian ini akan diadakan sbb:</a:t>
            </a:r>
            <a:br>
              <a:rPr sz="48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89548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i/tg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abtu, 23 Januari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ku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13.00 Wi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esjid Raya Alhak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ta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Abi Ma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Keistimewaan &amp; Keagungan Nabi Muhammad Saw,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serta Kelebihan yang Allah Berikan kpd umat Nab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Muhammad Sa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3:19:25Z</dcterms:created>
  <dc:creator>oktavia</dc:creator>
  <dc:description/>
  <dc:language>en-US</dc:language>
  <cp:lastModifiedBy>oktavia</cp:lastModifiedBy>
  <dcterms:modified xsi:type="dcterms:W3CDTF">2010-01-15T03:39:00Z</dcterms:modified>
  <cp:revision>4</cp:revision>
  <dc:subject/>
  <dc:title>PENGAJIAN REMAJA ALHAKIM Mengundang rekan-rekan semua untuk menghadiri pengajian special, yang mengundang Ustad tamu.  Pengajian ini akan diadakan sbb: </dc:title>
</cp:coreProperties>
</file>