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F0D0-98E6-4D2B-B4D4-FE0D2EB17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6CE5-9409-4470-A7D3-762F27AC7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0914-483E-4E56-A9D3-2F095B8A3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9034-EF86-4456-85D0-F4FBFC93B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946A3-FF1D-473D-AF24-FF676A4F0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4DCF5-C3F2-4F83-9775-4143F42F4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9080E-FE97-4955-9393-51945842E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660C9-94B0-4D95-BE5E-A793AF91C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EF1D7-6CFD-4700-BD5E-005C69E80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34C1E-835E-4D13-B12E-40FC8DF48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D05F6-F074-4FC0-9959-4E781F398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D9D9-59B4-41B2-AC9E-5FEE1D1AF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403E2-16D7-430E-BC04-71634B6E2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60065-35B7-4F21-9BCC-69AD43526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C6500-1B0B-4467-A7B8-CA97245DB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C54F2-C538-4431-BE6F-DF8443649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EA305-A0AA-4F29-B7E0-5FDA2981C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0E1B-9265-489A-8558-E13268C4C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0B01-E015-4735-A59C-4DC2EA0D9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6087-6D30-4C96-A29E-B47F0D9A6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CC99-CC3D-4588-93FA-E71B9112E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E314-BF69-40DE-AF51-C4D1F3E0A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307C-664C-4F55-B501-61C7F59EA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5EC7-EFB6-4749-931D-799F35DBE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18DE5-1005-4704-BDC1-72F5D558B4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CD55E-F4C8-4C12-8D39-2399CD6678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25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ENGAJIAN SABTU SIANG ALHAKIM</a:t>
            </a:r>
            <a:br>
              <a:rPr sz="4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engundang rekan-rekan semua untuk menghadiri pengajian special, sabtu siang .Dengan jadwal  sbb:</a:t>
            </a:r>
            <a:br>
              <a:rPr sz="2000"/>
            </a:b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3200400"/>
            <a:ext cx="853452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ari/tgl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Sabtu, 24 April 201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ukul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13.00 Wib / Ba’da Dzuhu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mpat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Mesjid Raya Alhakim, (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Jl. HOS. Cokroaminoto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sta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Ustd. Ahmad Taufiq Nuh, L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ma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“ Ya Allah Kabulkan lah Doa Kami ”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002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8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5T03:19:25Z</dcterms:created>
  <dc:creator>oktavia</dc:creator>
  <dc:description/>
  <dc:language>en-US</dc:language>
  <cp:lastModifiedBy>office xp</cp:lastModifiedBy>
  <dcterms:modified xsi:type="dcterms:W3CDTF">2010-04-19T08:50:44Z</dcterms:modified>
  <cp:revision>10</cp:revision>
  <dc:subject/>
  <dc:title>PENGAJIAN REMAJA ALHAKIM Mengundang rekan-rekan semua untuk menghadiri pengajian special, yang mengundang Ustad tamu.  Pengajian ini akan diadakan sbb: </dc:title>
</cp:coreProperties>
</file>