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26C-0E4C-4E3E-8D0F-C963FD8A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8B9-8E07-4E82-9027-6B159C9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8AE-EFD4-4CF7-83B3-E9129FD7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A00-E1DD-496E-8875-33122611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5FA-AB02-44A4-9060-4B5ABD0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3C3-2D83-4BF1-8C43-480494A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B6F-99D2-45A9-9936-8483BB4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4A9-05AE-466C-90F7-C5F1F73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45C-606F-4486-B332-643843E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24C-D236-4FE5-B5CE-FF028F2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069-26B2-48E7-ADC7-1BCC3E7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555-B58C-45E8-8CCE-D3353EDC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492-47C2-4110-9409-2BC70020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dwal Pengajian Sabtu Siang di Masjid Al Hakim – Mente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iode Juli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066680"/>
          <a:ext cx="8839080" cy="5257800"/>
        </p:xfrm>
        <a:graphic>
          <a:graphicData uri="http://schemas.openxmlformats.org/drawingml/2006/table">
            <a:tbl>
              <a:tblPr/>
              <a:tblGrid>
                <a:gridCol w="877680"/>
                <a:gridCol w="1706760"/>
                <a:gridCol w="2871000"/>
                <a:gridCol w="3383640"/>
              </a:tblGrid>
              <a:tr h="68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ek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nggal/Ja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ncerama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-Jul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tadz. Rikza Abdul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kusi "Cinta Al Qur'an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15 - 15.15 W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Jul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tadz. Ahmad Hadi Wibawa, SAg (Aa. Had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njadi manusia berakhlak mu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15 - 15.15 W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-Jul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tadz. Rikza Abdul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kusi "Cinta Al Qur'an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15 - 15.15 W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-Jul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tadz. Ali Sibro Malisi, 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kmah Isra Mi'raj Nabi Muhammad S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15 - 15.15 W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-Jul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tadz. Drs. Edi Abu Marw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at pembuka pintu-pintu rizki berdasarkan Al Qur'an dan Ha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15 - 15.15 W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048120" y="-2895480"/>
          <a:ext cx="2133360" cy="911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dwal Pengajian Sabtu Siang di Masjid Al Hakim - Mente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iode Juli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4:02:59Z</dcterms:created>
  <dc:creator>edidset</dc:creator>
  <dc:description/>
  <dc:language>en-US</dc:language>
  <cp:lastModifiedBy>office xp</cp:lastModifiedBy>
  <dcterms:modified xsi:type="dcterms:W3CDTF">2010-07-02T12:03:54Z</dcterms:modified>
  <cp:revision>1</cp:revision>
  <dc:subject/>
  <dc:title>Jadwal Pengajian Sabtu Siang di Masjid Al Hakim – Menteng Periode Juli 2010</dc:title>
</cp:coreProperties>
</file>