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FF1-12B0-4F35-A759-ED637279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FD8-5030-4216-9918-2C2F1D2D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9AA-685F-49BF-ACD2-33474635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BA9-3D1D-4ADE-A0E0-73054DD4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67815-5392-460E-8FD2-A006793F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AC970-C456-4E9E-B187-C8A962F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68E0B-A27B-4C7B-804B-46418A6E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DF454-055D-4599-A047-B772B25B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05537-22E1-4EDC-BBAC-E55F15C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CEECB-A919-4C9A-B38E-9307D009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627B1-3EFF-4D71-9DF5-10BF8B24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F71-017D-4AF8-B2AF-067E2716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1EE86-5138-4D29-9E0C-09F69C9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AD643-89AC-448D-8D2C-657E99CE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52249-04E8-4206-8532-5FFFA66F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184BF-E50C-4FBA-A1C2-F2F69D5F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A1F83-AC17-474D-B319-1069788A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875-A4CC-496E-B954-70F42FFC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464-F049-4820-A906-2F363827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C9C-8E2D-4CB6-B8AA-D7BA3FEB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DAE-68DC-4029-B521-30220651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642-A549-4261-8A28-715ED41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016-B217-436D-8554-36BC4A3F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651-8BE8-4BCC-ADA0-9F96681C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038E-D914-419E-A150-143B9CB66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20B1-3FA7-446F-850A-B7438BFE2E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PENGAJIAN REMAJA ALHAKIM</a:t>
            </a:r>
            <a:br>
              <a:rPr sz="48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Mengundang rekan-rekan semua untuk menghadiri pengajian special, yang mengundang Ustad tamu.  Pengajian ini akan diadakan sbb:</a:t>
            </a:r>
            <a:br>
              <a:rPr sz="48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89548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i/tg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abtu, 23 Januari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ku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13.00 Wi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esjid Raya Alhak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ta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Abi Ma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Keistimewaan &amp; Keagungan Nabi Muhammad Saw,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serta Kelebihan yang Allah Berikan kpd umat Nab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Muhammad Sa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9:25Z</dcterms:created>
  <dc:creator>oktavia</dc:creator>
  <dc:description/>
  <dc:language>en-US</dc:language>
  <cp:lastModifiedBy>oktavia</cp:lastModifiedBy>
  <dcterms:modified xsi:type="dcterms:W3CDTF">2010-01-15T03:39:00Z</dcterms:modified>
  <cp:revision>4</cp:revision>
  <dc:subject/>
  <dc:title>PENGAJIAN REMAJA ALHAKIM Mengundang rekan-rekan semua untuk menghadiri pengajian special, yang mengundang Ustad tamu.  Pengajian ini akan diadakan sbb: </dc:title>
</cp:coreProperties>
</file>