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C1F-8283-4E48-AEDD-2CC67C2B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B17-AF02-4CC7-947D-FF694EB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FB7-3F3A-417B-9F31-FB380320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567-3EEA-4A73-91B8-D81CABB6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3098-446C-4FDE-8E9E-74609B07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D0DD-2BD4-4243-A963-1223E7A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FE1B-D543-4304-B885-3FEC6B92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9CC6-A2D6-4E32-94EA-6544A3C9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874E-9AE7-461B-9E1C-FDC147C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80F2-B98E-46AB-A475-AAED4E4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604E-633A-4199-A360-4DA546A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2F4-53DA-40BD-A6B8-F8E63A71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28A9-16C5-42B3-BDA2-AAF2D9C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0D59-CC89-418E-BBDC-043B66C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8522-4BFC-43D1-8F85-930780DB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C50-E604-4B12-A401-BF759FD3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E4ED-1BCB-4FF4-9DD2-469DE626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AD8-3C6C-4FB4-9E92-D675037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4BD-05E5-48D4-AB55-C2D2CDA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5AB-2FD0-48E2-89EA-B117FA6D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D03-9B5F-4225-9C8C-1D61DCB6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3AA-CF7D-411D-AC6C-0332006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BB4-C073-48E0-925A-33D873B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5E4-DDB5-4DEC-B815-7732387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E52F-32D9-4958-96A2-696204BA52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35B-43A3-4962-9DA9-7B58E76E2E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NGAJIAN SABTU SIANG ALHAKIM</a:t>
            </a:r>
            <a:br>
              <a:rPr sz="48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ngundang rekan-rekan semua untuk menghadiri pengajian special, sabtu siang .Dengan jadwal  sbb: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2743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ri/tg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Sabtu, 08 Mei 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mpa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Mesjid Raya Alhakim, Jl. HOS. Cokroamino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ssion 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 Pukul 10.00 Wib – 12.00 Wi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td. Adiwarman Kari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eberuntungan Orang yang berinfak dijalan ALLAH 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ssion 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Pukul 12.30 Wib – 14.00 Wib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H.Abdulah Gimnastiar ( Aa Gym 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“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rsih Hati “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9:25Z</dcterms:created>
  <dc:creator>oktavia</dc:creator>
  <dc:description/>
  <dc:language>en-US</dc:language>
  <cp:lastModifiedBy>user</cp:lastModifiedBy>
  <dcterms:modified xsi:type="dcterms:W3CDTF">2010-04-30T13:40:45Z</dcterms:modified>
  <cp:revision>12</cp:revision>
  <dc:subject/>
  <dc:title>PENGAJIAN REMAJA ALHAKIM Mengundang rekan-rekan semua untuk menghadiri pengajian special, yang mengundang Ustad tamu.  Pengajian ini akan diadakan sbb: </dc:title>
</cp:coreProperties>
</file>