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924-48EA-4334-BC2B-5C5BF569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491-82A1-4E06-8CCB-8E109914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95A-C8A8-4915-99CC-A770C066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25F-2044-4603-B926-029463AA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037D-E13D-4D94-9933-C381568A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CBCB-D13C-44B3-B419-1AE40856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EFFB-8F26-4623-9B27-C5B6B3DE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3B78-3879-4C8D-B847-4322EBE2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C860-B7BD-40E7-81FD-B802ED2D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C3D2-FE12-4150-A37C-A655C3BE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AED1-12BB-425E-AF20-83A05585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41F-3D65-4593-B7CF-CF294B64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318F-0A3B-4835-95C3-A8BC5699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87A0-C26F-4B50-9849-57CA94A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CE67-EA3F-48C6-9B91-09B1B5A0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5151-AC70-4F4A-9649-A313D2C4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E4D1-40D5-4574-A2DA-7342E248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909-CF21-47EB-B731-562DC363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7BB-39CD-4810-9CFC-100E61D2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5C1-0E82-4C0E-92DF-D06F0219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BA4-FFEF-48E7-8ED6-74C316DE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DA0-C308-4310-A2C6-8A0B98FC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355-FB16-4771-A0F6-82A1388A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C9C-07E8-46C0-A928-2459DC9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0022-E1F3-427E-B276-7DE06FC3C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EF58-75E6-4C26-9026-BF1E6BFA8E50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914400"/>
          <a:ext cx="8763120" cy="4650840"/>
        </p:xfrm>
        <a:graphic>
          <a:graphicData uri="http://schemas.openxmlformats.org/drawingml/2006/table">
            <a:tbl>
              <a:tblPr/>
              <a:tblGrid>
                <a:gridCol w="1981080"/>
                <a:gridCol w="3276720"/>
                <a:gridCol w="3505320"/>
              </a:tblGrid>
              <a:tr h="54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Albertus Medium"/>
                        </a:rPr>
                        <a:t>JADWAL PENGAJIAN SABTU SIANG MESJID AL HAKIM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inggu / Tanggal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ara Sumber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 / Sabtu 1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Rikza Abdulla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inta Al-Quran(Diskusi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I / Sabtu 8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KH.Abdulah Gimnastiar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(Aa.Gim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ersih Hati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II / Sabtu 15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Rikza Abdulla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inta Al-Quran(Diskusi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V / Sabtu 22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Abdul Shukur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(Majelis Adzikra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dahnya Hidup dengan selalu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erdzikir kepada Allah SW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28600" y="5562720"/>
          <a:ext cx="8763120" cy="515880"/>
        </p:xfrm>
        <a:graphic>
          <a:graphicData uri="http://schemas.openxmlformats.org/drawingml/2006/table">
            <a:tbl>
              <a:tblPr/>
              <a:tblGrid>
                <a:gridCol w="1981440"/>
                <a:gridCol w="3276360"/>
                <a:gridCol w="35053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V / Sabtu 29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Ikhsan Hakim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Adab Berbakti kepada orang tu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9:09:11Z</dcterms:created>
  <dc:creator>office xp</dc:creator>
  <dc:description/>
  <dc:language>en-US</dc:language>
  <cp:lastModifiedBy>office xp</cp:lastModifiedBy>
  <dcterms:modified xsi:type="dcterms:W3CDTF">2010-05-03T01:55:19Z</dcterms:modified>
  <cp:revision>7</cp:revision>
  <dc:subject/>
  <dc:title>Slide 1</dc:title>
</cp:coreProperties>
</file>