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829E-1D3B-4E33-B8D2-8EC36C5E5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4800-97A6-4E25-A333-7380E3F0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50A5-C9A5-4BB2-A050-823E46A4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E492-4E9E-40C8-BAAD-EFF8FC0A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AA17-3311-4A88-B794-6C8AAEE7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DC54-6562-44E5-BC75-5562005D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83E4-5E4F-488E-A255-FCA215F3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B518-FEC9-414C-9163-432AC462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2013-3EAE-4E3D-BB05-99CC0182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658A-0E5D-4ECB-88A7-1B8610A2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2B9D-7E80-4B32-A46C-A5874919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5561-9F9A-4B9C-A7CF-5EF6389F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EE53-0CAC-44ED-B23F-8CFA2F125B7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ENGAJIAN SABTU SIANG ALHAKIM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              Mengundang rekan-rekan semua untuk menghadiri pengajian           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pecial, sabtu siang .Dengan jadwal  sbb:</a:t>
            </a:r>
            <a:br>
              <a:rPr sz="2000"/>
            </a:b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80880" y="2971440"/>
            <a:ext cx="8763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ri/tg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Sabtu, 23 Oktober  201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ku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13.15 WIB / Ba’da Dzuhu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mpa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Mesjid Raya Alhakim, Jl. HOS. Cokroamino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tadz          :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ELIX SIAU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m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 Life is Choice ”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9" name="Picture 6" descr="membaca alquran1"/>
          <p:cNvPicPr/>
          <p:nvPr/>
        </p:nvPicPr>
        <p:blipFill>
          <a:blip r:embed="rId2"/>
          <a:stretch/>
        </p:blipFill>
        <p:spPr>
          <a:xfrm>
            <a:off x="0" y="0"/>
            <a:ext cx="16002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03:19:25Z</dcterms:created>
  <dc:creator>oktavia</dc:creator>
  <dc:description/>
  <dc:language>en-US</dc:language>
  <cp:lastModifiedBy>office xp</cp:lastModifiedBy>
  <dcterms:modified xsi:type="dcterms:W3CDTF">2010-10-14T03:53:33Z</dcterms:modified>
  <cp:revision>30</cp:revision>
  <dc:subject/>
  <dc:title>PENGAJIAN REMAJA ALHAKIM Mengundang rekan-rekan semua untuk menghadiri pengajian special, yang mengundang Ustad tamu.  Pengajian ini akan diadakan sbb: </dc:title>
</cp:coreProperties>
</file>