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C286-5881-4F67-9962-5CFC93C09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568F-3637-4874-BFAE-26BE8E80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228D-073A-4820-9972-9EF0F595E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CC7B-08B1-46B5-B027-A10AA34B9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EDA3-4DEC-4806-BB2A-0305C2A13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BAB75-D4B9-4633-A7DA-46AD21CA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5A91-B0A4-4AAC-8115-FECBABB4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C209-B0F3-451D-A6A8-9880BFC6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EDB4-7D1C-44B6-9067-C37B788A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0078-5932-44B9-B8D0-68AFFD43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F11C-7CCB-43BB-85E4-DA378651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6A71-E707-4A3A-AEBB-315A712F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D3EF-2189-44E4-8ACC-30F1F7E1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3F8F-A3F9-4069-BE21-B30B99F3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DAEC-FCF0-4E05-9CF7-7A10ED6D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4870-DFB8-48F2-987A-B20478CBA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E5E84-95F4-4E6A-BE50-CFC7A4F89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7F1B-1938-480F-AE82-7F89EACC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4B19-6FA5-4BEC-8062-EFCF34CE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BD9C-0A24-4BD1-A5C9-69BD1AE3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6576-DDD9-4EB6-B388-B713F427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3D36-F8DB-4801-B6AC-2FD203E1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3AE0-4287-454C-98D8-3D6238C0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E893-8FB6-448F-87BC-F9D5626B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277D-9374-44DB-9612-173FD614129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840E-2D98-4467-A905-B86080C7505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alary Increment Surve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s year your Company has decided to give the increment as per your wish</a:t>
            </a:r>
            <a:r>
              <a:rPr b="0" lang="en-U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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lease answer the following questi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7162920" y="1143000"/>
            <a:ext cx="1752480" cy="13716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162920" y="838080"/>
            <a:ext cx="1828800" cy="762120"/>
          </a:xfrm>
          <a:prstGeom prst="wedgeRoundRectCallout">
            <a:avLst>
              <a:gd name="adj1" fmla="val -119967"/>
              <a:gd name="adj2" fmla="val 23083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y Increment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elect the Tenure with this company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1 Year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2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">
            <a:hlinkClick r:id="rId3" action="ppaction://hlinksldjump"/>
          </p:cNvPr>
          <p:cNvSpPr/>
          <p:nvPr/>
        </p:nvSpPr>
        <p:spPr>
          <a:xfrm>
            <a:off x="4648320" y="35053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3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">
            <a:hlinkClick r:id="rId4" action="ppaction://hlinksldjump"/>
          </p:cNvPr>
          <p:cNvSpPr/>
          <p:nvPr/>
        </p:nvSpPr>
        <p:spPr>
          <a:xfrm>
            <a:off x="4648320" y="41911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5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>
            <a:hlinkClick r:id="rId5" action="ppaction://hlinksldjump"/>
          </p:cNvPr>
          <p:cNvSpPr/>
          <p:nvPr/>
        </p:nvSpPr>
        <p:spPr>
          <a:xfrm>
            <a:off x="4648320" y="48769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7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>
            <a:hlinkClick r:id="rId6" action="ppaction://hlinksldjump"/>
          </p:cNvPr>
          <p:cNvSpPr/>
          <p:nvPr/>
        </p:nvSpPr>
        <p:spPr>
          <a:xfrm>
            <a:off x="4648320" y="5562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Greater than 7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arital Statu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ingle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arried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o you have children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o of children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ne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w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">
            <a:hlinkClick r:id="rId3" action="ppaction://hlinksldjump"/>
          </p:cNvPr>
          <p:cNvSpPr/>
          <p:nvPr/>
        </p:nvSpPr>
        <p:spPr>
          <a:xfrm>
            <a:off x="4648320" y="35053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ore than Tw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 do you need increment this year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">
            <a:hlinkClick r:id="rId1" action="ppaction://hlinksldjump"/>
          </p:cNvPr>
          <p:cNvSpPr/>
          <p:nvPr/>
        </p:nvSpPr>
        <p:spPr>
          <a:xfrm>
            <a:off x="76212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95288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 do you need increment this year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">
            <a:hlinkClick r:id="rId1" action="ppaction://hlinksldjump"/>
          </p:cNvPr>
          <p:cNvSpPr/>
          <p:nvPr/>
        </p:nvSpPr>
        <p:spPr>
          <a:xfrm>
            <a:off x="4876920" y="31240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95288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 do you need increment this year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">
            <a:hlinkClick r:id="rId1" action="ppaction://hlinksldjump"/>
          </p:cNvPr>
          <p:cNvSpPr/>
          <p:nvPr/>
        </p:nvSpPr>
        <p:spPr>
          <a:xfrm>
            <a:off x="609480" y="31240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95288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 am glad to know that you are happy with your current salary. We will have your increment done next year (with the same survey)……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"/>
          <p:cNvSpPr/>
          <p:nvPr/>
        </p:nvSpPr>
        <p:spPr>
          <a:xfrm>
            <a:off x="2666880" y="53341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ubmit the Survey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19:01:45Z</dcterms:created>
  <dc:creator>Stephen</dc:creator>
  <dc:description/>
  <dc:language>en-US</dc:language>
  <cp:lastModifiedBy>Stephen</cp:lastModifiedBy>
  <dcterms:modified xsi:type="dcterms:W3CDTF">2008-02-18T19:46:28Z</dcterms:modified>
  <cp:revision>2</cp:revision>
  <dc:subject/>
  <dc:title>Salary Increment</dc:title>
</cp:coreProperties>
</file>