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9820-1018-49DD-BDDD-744DB4F47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ABA7-0116-4365-B7C7-BF37978E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31EE-A350-48DB-A3BE-E14AD281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4E5A-5296-4963-BE43-1193C3C6F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39EE-E1C9-4548-9129-940D5690A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9E89-CCBD-4EA8-B82F-020264AA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3B0A-DC72-4135-9FEA-621E59E4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675B-543F-4F9D-91B7-94C5D601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8E3D-087C-4B9D-9E5C-DBF2A658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BC80-347F-46D3-BAA4-DB28A66D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FE3B-E90F-433D-905B-BD632327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0DE3-33B4-4550-80AD-9F542ED8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67BA-53F0-4BD6-BDDD-1142F3B3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D460-E8D5-41D5-9E90-BF285710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50BD-B2EF-4F2A-B059-97C62C1B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225D-241E-48F6-9FC9-5468877E1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9992-6523-49C4-9F25-0B032031A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25E9-E0E9-4C18-A9A9-6F3841D6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B380-6B42-4CEE-AD93-6C8E5B3D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D91A-D85B-4E69-B0DF-925F5DCA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4E27-9625-47BA-9AFC-C0935BB6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1FEB-A309-4787-8019-BACB88EA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6017-45FB-47C6-A824-6DBE7461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125F-8191-4D0E-B316-7DD3A761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958E-C963-437B-A10E-899F98CD2BF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7305-6EA1-45EA-B04E-27F35417ED8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alary Increment Surve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s year your Company has decided to give the increment as per your wish</a:t>
            </a:r>
            <a:r>
              <a:rPr b="0" lang="en-U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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lease answer the following quest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7162920" y="1143000"/>
            <a:ext cx="1752480" cy="1371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162920" y="838080"/>
            <a:ext cx="1828800" cy="762120"/>
          </a:xfrm>
          <a:prstGeom prst="wedgeRoundRectCallout">
            <a:avLst>
              <a:gd name="adj1" fmla="val -119967"/>
              <a:gd name="adj2" fmla="val 23083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y Increment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lect the Tenure with this company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1 Year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2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">
            <a:hlinkClick r:id="rId3" action="ppaction://hlinksldjump"/>
          </p:cNvPr>
          <p:cNvSpPr/>
          <p:nvPr/>
        </p:nvSpPr>
        <p:spPr>
          <a:xfrm>
            <a:off x="4648320" y="35053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3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">
            <a:hlinkClick r:id="rId4" action="ppaction://hlinksldjump"/>
          </p:cNvPr>
          <p:cNvSpPr/>
          <p:nvPr/>
        </p:nvSpPr>
        <p:spPr>
          <a:xfrm>
            <a:off x="4648320" y="41911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5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>
            <a:hlinkClick r:id="rId5" action="ppaction://hlinksldjump"/>
          </p:cNvPr>
          <p:cNvSpPr/>
          <p:nvPr/>
        </p:nvSpPr>
        <p:spPr>
          <a:xfrm>
            <a:off x="4648320" y="48769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7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>
            <a:hlinkClick r:id="rId6" action="ppaction://hlinksldjump"/>
          </p:cNvPr>
          <p:cNvSpPr/>
          <p:nvPr/>
        </p:nvSpPr>
        <p:spPr>
          <a:xfrm>
            <a:off x="4648320" y="5562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Greater than 7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arital Statu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ingl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arried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o you have children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o of children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n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w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>
            <a:hlinkClick r:id="rId3" action="ppaction://hlinksldjump"/>
          </p:cNvPr>
          <p:cNvSpPr/>
          <p:nvPr/>
        </p:nvSpPr>
        <p:spPr>
          <a:xfrm>
            <a:off x="4648320" y="35053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ore than Tw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 do you need increment this year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">
            <a:hlinkClick r:id="rId1" action="ppaction://hlinksldjump"/>
          </p:cNvPr>
          <p:cNvSpPr/>
          <p:nvPr/>
        </p:nvSpPr>
        <p:spPr>
          <a:xfrm>
            <a:off x="76212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95288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 do you need increment this year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">
            <a:hlinkClick r:id="rId1" action="ppaction://hlinksldjump"/>
          </p:cNvPr>
          <p:cNvSpPr/>
          <p:nvPr/>
        </p:nvSpPr>
        <p:spPr>
          <a:xfrm>
            <a:off x="4876920" y="31240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95288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 do you need increment this year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">
            <a:hlinkClick r:id="rId1" action="ppaction://hlinksldjump"/>
          </p:cNvPr>
          <p:cNvSpPr/>
          <p:nvPr/>
        </p:nvSpPr>
        <p:spPr>
          <a:xfrm>
            <a:off x="609480" y="31240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95288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 am glad to know that you are happy with your current salary. We will have your increment done next year (with the same survey)……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"/>
          <p:cNvSpPr/>
          <p:nvPr/>
        </p:nvSpPr>
        <p:spPr>
          <a:xfrm>
            <a:off x="2666880" y="53341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ubmit the Survey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19:01:45Z</dcterms:created>
  <dc:creator>Stephen</dc:creator>
  <dc:description/>
  <dc:language>en-US</dc:language>
  <cp:lastModifiedBy>Stephen</cp:lastModifiedBy>
  <dcterms:modified xsi:type="dcterms:W3CDTF">2008-02-18T19:46:28Z</dcterms:modified>
  <cp:revision>2</cp:revision>
  <dc:subject/>
  <dc:title>Salary Increment</dc:title>
</cp:coreProperties>
</file>