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0AA5-8010-4A77-B128-A030742B461F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1E03-923A-4AB1-B1FB-667E107A9C6B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D320-2B86-4BC2-9C86-80F9CE2BD39C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9904-2EAB-4CFB-AF1F-1DC169B48F4B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6481-444B-41A5-B6DE-C5596529E7BC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8667-0AE2-4362-B1B7-B3998BC9439C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A3F5-3CB7-4D73-AAB5-A90A12DDB5B2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8031-FA4C-44CA-9528-D34FC486A057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5FAD-EA08-42B6-8D3E-4B0E9EEC7934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2271-97C7-4EBD-B9C8-9D1CEAD68663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ABB3-D061-4517-ABE0-C37565FE451E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3C54-70A9-47B7-BEE3-C3EE6F9DA1E9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E7CD-05DC-4C28-917B-2792B4271F9A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710-95E6-4F3B-A499-EBB8AACB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0D5-8B12-416A-AA27-964B0F69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16B-DABC-46D0-B6CE-E70690F6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A09-788F-4AFD-948C-B7AD0851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6E0-C5B2-4346-A1B4-3A7A5AC5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8A7-E603-4055-9631-39FDB6FE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C0D-9A71-41F5-84FA-578BA6A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9F6-F7D9-45AD-AB9A-2BEE055A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8D9-A971-4168-AF7F-69884EFE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AD5-F78E-4C0E-9D66-D7DC485F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E70-27EA-4010-AC62-B7F4E59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892-32AD-4679-B4C5-6508F6D9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335B-5F6D-4625-BE13-D06B2D8A389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200" spc="-1" strike="noStrike">
                <a:solidFill>
                  <a:srgbClr val="000000"/>
                </a:solidFill>
                <a:latin typeface="Calibri"/>
              </a:rPr>
              <a:t>Cuanto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7200" spc="-1" strike="noStrike">
                <a:solidFill>
                  <a:srgbClr val="000000"/>
                </a:solidFill>
                <a:latin typeface="Calibri"/>
              </a:rPr>
              <a:t>valés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17375e"/>
                </a:solidFill>
                <a:latin typeface="Calibri"/>
              </a:rPr>
              <a:t>Veamos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DESEMPOLVÁ LA CACEROLA, HACE SONAR LA BOCINA DE TU AUTO, O SIMPLEMENTE SALI A LA CALLE, PERO NO TE ESCONDAS, QUE DE UNA VEZ POR TODAS SEAN ELLOS LOS QUE SE ESCONDAN Y SE ENCIER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NO TE OLVI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200" spc="-1" strike="noStrike">
                <a:solidFill>
                  <a:srgbClr val="17375e"/>
                </a:solidFill>
                <a:latin typeface="Calibri"/>
              </a:rPr>
              <a:t>30 DE NOVIEMBRE A LAS 19 HORA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AMBIEMOS LA HISTORIA, SEAMOS PROTAGONISTAS DE NUESTRO PROPIO FUTU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Si querés que la historia cambie manda este mail a todos tus conocidos, envialo como COPIA OCULTA Y BORRA LA DIRECCION DE QUIEN TE LO ENVIÓ, si un país es el reflejo de su pueblo, mostremosle al mundo que no todos somos asesinos, violadores, ladrones o estafadores, y que no es esa la sociedad que deseam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Hagamos un rápido cálcul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Tenés un celular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Tenés una campera mas o menos linda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Tenés un auto (no importa lo viejo que sea)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Tenés familia (hermanos, hijos, padres, tios)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Trabajás honestamente para vivir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Pagás los impuestos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Si alguna de las respuestas fuese 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ntonces no vales nada, o peor aun veamos cuanto vale tu vi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elular: $20 o dos porr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Zapatillas: $50 o un par de por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ampera: $10 con su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uto: algunos mangos después del desgu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Familia: NADA, es más, tu familia tampoco vale 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Te parece indignante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600" spc="-1" strike="noStrike">
                <a:solidFill>
                  <a:srgbClr val="000000"/>
                </a:solidFill>
                <a:latin typeface="Calibri"/>
              </a:rPr>
              <a:t>BASTA !!!!!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600" spc="-1" strike="noStrike">
                <a:solidFill>
                  <a:srgbClr val="000000"/>
                </a:solidFill>
                <a:latin typeface="Calibri"/>
              </a:rPr>
              <a:t>NO ES SENSACION, ES REALIDAD !!!!!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600" spc="-1" strike="noStrike">
                <a:solidFill>
                  <a:srgbClr val="000000"/>
                </a:solidFill>
                <a:latin typeface="Calibri"/>
              </a:rPr>
              <a:t>NADIE TE CUIDA, NO VALES NADA MAS QUE UN VOTO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Si pensás que vos o tu familia valen mas que un par de mangos o un poco de droga, entonces HACE ALGO, HAGAMOS ALGO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Nadie, pero nadie del gobierno te va a golpear la puerta si te roban o te matan un familiar, pero eso no quita que vos les puedas golpear la puerta exigiendo justicia y seguridad, es tu derecho y tu obligació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No tengas miedo, pensá en tu futuro, en el de tus hijos, nietos, hermanos, padres, vecinos, etc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Si nos unimos somos más que los delincuentes, ello tienen que tener miedo de nosotros, son ellos los que tienen que vivir entre rejas, no vos o tu famil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Pensá por un segund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Si te quedás escondido, no vas a ser mas que una macabra anécdota cuando te maten por un paquete de cigarrilos o por puro placer y tu asesino se siente a tomar porrones con sus complices a reirse de tu cara mientras te desangrabas, o peor aun…… un ser querido tuyo va a ser parte de esa anécdo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Ese mundo querés para tu vida y la de los tuyos???, ese es el país en el que querés vivir, no hace falta irse para vivir mejor, no te acostumbres al terror, ellos quieren eso, sacá coraje y salgamos todos a ponerle un freno a ést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Elijamos una fecha.... </a:t>
            </a: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El 30 de NOVIEMBRE A LAS 19 HORAS</a:t>
            </a: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 hacé que te escuchen, hagamos todos que nos escuchen. En el 2001 lo logramos, juntos, sin miedo, hoy mas que nunca lo podemos volver a logr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Basta de lagrimas, madres sin hijos, hijos sin padres, abuelos sin nietos, familias destruidas y delincuentes suel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1:36:01Z</dcterms:created>
  <dc:creator/>
  <dc:description/>
  <dc:language>en-US</dc:language>
  <cp:lastModifiedBy/>
  <dcterms:modified xsi:type="dcterms:W3CDTF">2009-11-06T18:42:36Z</dcterms:modified>
  <cp:revision>1</cp:revision>
  <dc:subject/>
  <dc:title/>
</cp:coreProperties>
</file>