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EL%20PASTOR%20SOLITARIO.wav" ContentType="audio/x-wav"/>
  <Override PartName="/ppt/media/image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2300-B9E1-4B22-9427-BB6A586217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5D05-6390-48D8-AC2C-6A3C109C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B1F7-629D-4926-A42A-EBD3E3A7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2457-94FE-4534-A131-A85A41CE60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7490B-145C-4192-8FE0-847E1CD8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B662F-342B-45AE-93ED-22BF26A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8B40B-A5FB-4E3F-AAD0-51891C38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BAD82-3A95-45CA-A0AB-AFB92096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2E241-698E-43AD-8CA6-46922A3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3BB0-E1CB-498F-9F67-A5E3F8E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9C107-892D-4F00-B087-765F6D5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C91A-6ACB-4962-9ABE-1CD1BC14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48C40-BB2D-460A-88ED-B4FA258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3EBA5-045C-47F3-A97D-3EDA699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FF3BB-DFA7-42C8-B8B9-882E3B6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E1B60-B792-4071-BE08-D9100D82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575C9-D52A-4A51-BB6C-A5462CD4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21AA-74E1-4C0E-A3B3-DB88C096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0507-C08F-4FCF-9D4C-EFFBB3BE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62EB-4B33-4A51-ADA1-4087F59B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4332-4B52-4C97-9327-5FE30426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1FD6-95DC-4EC3-8E60-8E0B3AEB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606F-4B7E-4BD5-929A-4812A685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7508-F39C-4D02-BE31-92D4A539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74F7-8973-44CE-BF95-BABD1C23A3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6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FE8F-39D3-40A3-B842-614EECABF0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L%20PASTOR%20SOLITARI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80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ORACIÓN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QUE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CAUSÓ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CONTROVERSIA....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 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EL%20PASTOR%20SOLITARI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125360"/>
            <a:ext cx="3733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48769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903960"/>
            <a:ext cx="37213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sta Iglesia recibe ahora peticiones del mundo entero, la India, África, Asia, para que el Padre Farinello ore por ellos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L Negro Gonzalez Oro famoso Conductor radial difundió esta oración en su emisión de radio y ha recibido una acogida mucho  más favorable por esta emisión, que por cualquier otra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68580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1055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9640" y="1783800"/>
            <a:ext cx="36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 la ayuda de Dios, quisiéramos que esta oración se derrame sobre la nación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y que nazca en nuestros corazones el deseo de llegar a ser una '’Argentin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bajo la mirada de Dios".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638680" y="692280"/>
            <a:ext cx="3505320" cy="5333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3292560"/>
            <a:ext cx="468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843920"/>
            <a:ext cx="446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Si puedes hacerlo, envía esta oración a tus amigos y en un espacio de 30 días el mundo entero lo habrá  leíd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Si no tenemos el valor de mantenernos firmes en  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nuestras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convicciones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, entonces caeremos delante de  cualquier otro argumento, o enemigo.    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449568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256720"/>
            <a:ext cx="75614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Oración polemica  </a:t>
            </a:r>
            <a:br>
              <a:rPr sz="2000"/>
            </a:b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Tal vez quieras leer esta oración que fue dich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 la apertura del 129 Período Ordinario de Sesiones del año 2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29200" y="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uando se le pidió al religioso padre Luis Farinello que relizara la oración de apertura en el Senado de la Nacion, todo el mundo esperaba  una oración ordinaria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ero esto es lo que ellos escucharon: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33920" y="2602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89080"/>
            <a:ext cx="91440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"Señor, venimos delante de Ti este día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ara pedirte  perdón y para pedir tu dirección.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abemos que tu Palabra dice: 'Maldición a aquellos que  llaman "bien" lo que está "mal" y es exactamente lo que hemos hecho.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emos perdido el equilibrio espiritual y hemos cambiado nuestros valores.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38280" y="22860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989640"/>
            <a:ext cx="58672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explotado al pobre y hemos llamado a eso ”distribucion de la riqueza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recompensado la pereza y la hemos llamado ”Planes  Sociales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matado a nuestros hijos que aun no han nacido y lo hemos llamado "la libre elección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dejado que maten y roben y lo hemos llamado ”derechos humanos"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29988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477120" y="1600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1280" y="1337400"/>
            <a:ext cx="5761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12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sido negligentes al disciplinar a nuestros hijos y lo hemos llamado "desarrollar su autoestima".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sido corruptos y abusado del poder y hemos llamado a eso: "Política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codiciado los bienes de nuestro vecino y a eso lo hemos llamado "tener ambición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contaminado las ondas de radio y televisión con  mucha grosería y pornografía y lo  hemos llamado "libertad de expresión"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838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400960" y="14479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772400" y="2819520"/>
            <a:ext cx="743040" cy="761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7010280" y="3200400"/>
            <a:ext cx="74304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6172200" y="36576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5640" y="1850400"/>
            <a:ext cx="4248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ridiculizado los valores establecidos desde hace mucho tiempo por nuestros ancestros y a esto lo hemos llamado "obsoleto y pasado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¡Oh Dios!, mira en lo profundo de nuestros corazones; purifícanos y líbranos de nuestros  pecados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Amén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219320"/>
            <a:ext cx="44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077320" y="685800"/>
            <a:ext cx="74268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391520" y="25146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6705720" y="32004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5943600" y="38862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9640" y="2469600"/>
            <a:ext cx="4103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La reacción fue inmediata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Un Senador abandonó la sala durante la oración. Tres más criticaron la oración del Padre calificando la oración como 'un mensaje de intolerancia'‘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1066680" y="914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95480" y="533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304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858000" y="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87280" y="4417560"/>
            <a:ext cx="7488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urante las semanas siguientes, la Iglesia  donde trabaja el Padre Farinello recibió más de 5,000 llamadas telefónicas, de las cuales sólo 7 fueron desfavorab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20:53:53Z</dcterms:created>
  <dc:creator>pfizer</dc:creator>
  <dc:description/>
  <dc:language>en-US</dc:language>
  <cp:lastModifiedBy>paula</cp:lastModifiedBy>
  <dcterms:modified xsi:type="dcterms:W3CDTF">2011-03-27T20:37:08Z</dcterms:modified>
  <cp:revision>15</cp:revision>
  <dc:subject/>
  <dc:title>Slide 1</dc:title>
</cp:coreProperties>
</file>