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E9-3F20-4D25-AEDB-5C50CF6C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B27-287E-4D26-8B0D-B2163DB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A6B-5B14-45C8-BFE6-F131A912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983F-FFEA-47E1-AE10-3517666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612-6A66-4A53-9C78-81B115E0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E8B-1A20-47DA-B179-F01687E7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FA9-2BC0-4DAF-BEB7-3A9C2AF4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22E-197C-476D-A4F9-7FE71E96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54D-504C-4AAB-AC72-F417399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7DE-DE4B-40C4-9159-AAB411B7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93B-F30C-40AF-9AA2-71438D9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A54-9F66-40BF-BA5E-E39D64E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45FC-C7A0-43AB-86DD-CF70A2C5E62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56840"/>
            <a:ext cx="8101080" cy="2243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0" spc="-1" strike="noStrike">
                <a:solidFill>
                  <a:srgbClr val="c00000"/>
                </a:solidFill>
                <a:latin typeface="Calibri"/>
                <a:cs typeface="2  Titr"/>
              </a:rPr>
              <a:t>ايمني </a:t>
            </a:r>
            <a:r>
              <a:rPr b="0" lang="fa-IR" sz="10000" spc="-1" strike="noStrike">
                <a:solidFill>
                  <a:srgbClr val="c00000"/>
                </a:solidFill>
                <a:latin typeface="Calibri"/>
                <a:ea typeface="2  Titr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2  Titr"/>
              </a:rPr>
              <a:t>مهندس موس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000" spc="-1" strike="noStrike">
                <a:solidFill>
                  <a:srgbClr val="002060"/>
                </a:solidFill>
                <a:latin typeface="Wingdings 3"/>
                <a:ea typeface="Wingdings 3"/>
              </a:rPr>
              <a:t></a:t>
            </a:r>
            <a:r>
              <a:rPr b="0" lang="fa-IR" sz="5000" spc="-1" strike="noStrike">
                <a:solidFill>
                  <a:srgbClr val="002060"/>
                </a:solidFill>
                <a:latin typeface="Calibri"/>
                <a:cs typeface="2  Titr"/>
              </a:rPr>
              <a:t>وظيفه مديران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1404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همه موارد بالا را فراهم كند تا كارگر با احساس آرامش و اطمينان كار كن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ديريت بايد به فكر صيانت كارگران باشد و در مقابل آنان احساس مسئوليت كند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حوادث ناشی از کار در بيمارست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نيروي انساني شاغل در بیمارستانها را مي توان به دو دسته عمده تقسيم کرد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پرسنل پزشکي و پيراپزشکي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پرسنل غير پزشکي ( اداری – مالي- خدماتي و ...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مهمترين نکاتي که در ارتباط با حوادث شغلي در بيمارستانها از نظر محيط فيزيکي باید رعايت گردد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تناسب ساختمان با فعاليت واحد و پيش بيني فضاهاي لاز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سهولت گردش کار درساختما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رعایت نکات ايمني ، بهداشتي و رفاهي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</a:rPr>
              <a:t>پيش بيني طرح توسعه ساختماني برحسب گسترش هاي آتي در سازمان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حوادث ناشی از کاردرمورد پرسنل </a:t>
            </a:r>
            <a:br>
              <a:rPr sz="4000"/>
            </a:br>
            <a:r>
              <a:rPr b="1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غير پزشک مربوط به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کنان لنرژ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گران نظافتي و باغبانه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باربران و بيماربرا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پرسنل تأسيسات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پرسنل نگهبان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مندان ادار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alibri"/>
              </a:rPr>
              <a:t>کارکنان آشپزخانه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1280" y="857160"/>
          <a:ext cx="8929800" cy="5911920"/>
        </p:xfrm>
        <a:graphic>
          <a:graphicData uri="http://schemas.openxmlformats.org/drawingml/2006/table">
            <a:tbl>
              <a:tblPr/>
              <a:tblGrid>
                <a:gridCol w="2524320"/>
                <a:gridCol w="3971880"/>
                <a:gridCol w="125280"/>
                <a:gridCol w="230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ف- سرويس غذايي بيمارست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زخم هاي عفون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مردرد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بريدگي در اثر وسايل تيز و نوكدار جراحت در اثر خرده هاي استخو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قصاب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فونتهاي استافيلوكوك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پوس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م نانواي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سوختگ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نانوا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ي ايجاد شده توسط مواد ظرفشوي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وختگي 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در اثر وسايل تيز و نوك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آشپزها و كمك آشپز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ي ايجاد شده توسط مواد ظرفشوي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فتادن و زمين خورد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قوط اشياء سنگين رو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سمتي از بد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شويندگان ظروف و متصديان توزيع غذ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4200" y="785880"/>
          <a:ext cx="8786880" cy="5973840"/>
        </p:xfrm>
        <a:graphic>
          <a:graphicData uri="http://schemas.openxmlformats.org/drawingml/2006/table">
            <a:tbl>
              <a:tblPr/>
              <a:tblGrid>
                <a:gridCol w="2860920"/>
                <a:gridCol w="3647880"/>
                <a:gridCol w="227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- سرويس و نگهداري ساختمان و فضاي سب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ماتيت هاي ناشي از مواد سيمان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قو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ناها، سنگ كارها، كارگران ساختما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زا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با حشره كش 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ماس با حشره كش 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اغبان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ناشي از سر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ناشي از آرسي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فتادن سقوط كرد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كاركردن با ابزارهاي دست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آرسي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لوله كش ، كانال ساز و كمك مكاني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ناشي از بنزن و مشتقات آ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گزماي تماس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فتادن و سقوط كرد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نقاش 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درماتيت هاي ناشي از رنگ، روغن جلا و مواد حساسيت زاي صنعت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ماشين هاي تجار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fa-I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نجاره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-716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1280" y="785880"/>
          <a:ext cx="9001440" cy="6016680"/>
        </p:xfrm>
        <a:graphic>
          <a:graphicData uri="http://schemas.openxmlformats.org/drawingml/2006/table">
            <a:tbl>
              <a:tblPr/>
              <a:tblGrid>
                <a:gridCol w="2629080"/>
                <a:gridCol w="4038480"/>
                <a:gridCol w="174600"/>
                <a:gridCol w="2159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- سوريس هاي عمو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 بواسطه مواد شوينده و ضدعفوني كننده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فتن در معرض مواد عفوني و آلوده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با اشياء تيز و نوكدا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مواد ضدعفوني كننده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سوختگي ناشي از بخا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كنان لنژ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فونت بيمارستان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م ناشي از گرد و غب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فتن در معرض آلودگي هاي بيولو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آلودگي هاي شيمياي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رار گرفتن در معرض مواد ضد عفوني كنند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در معرض گرد و غب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 با اشياد تيزو  نوكد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يزخوردن و افتادن و سقو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گران نظافتي بيمارست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فونت بيمارست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دهاي مربوط به پشت و ك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دهاي مربوط به وضع ستون فق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حوادث ترافيكي و برخوردها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وادث مربوط به باربر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مردردهاي ترومايي و ناگهاني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اربران و بيماربرا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1125360"/>
          <a:ext cx="8501040" cy="5232600"/>
        </p:xfrm>
        <a:graphic>
          <a:graphicData uri="http://schemas.openxmlformats.org/drawingml/2006/table">
            <a:tbl>
              <a:tblPr/>
              <a:tblGrid>
                <a:gridCol w="2401920"/>
                <a:gridCol w="3781440"/>
                <a:gridCol w="120600"/>
                <a:gridCol w="2197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پ- مهندسين و تكنسين هاي نگهداري تاسيس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فوليكولي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اگزما بواسطه تري كلر و اتيلن و ديگر حلال ه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ابزار دست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ماشين آ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جسم خارجي در چش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سيب هاي ناشي از جوش زدگي در جوشكار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مهندسين و تكنسين هاي نگهداري تاسيس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وارض مربوط به مسمومي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ونواكسيد كرب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سوختگ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سموميت حاد مونواكسيدكرب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مهندسين و تكنسين هاي سيستم هاي حرارت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سقو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رق گرفتگ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برقكارهاي و تكنسين هاي بر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جدول حوادث ناشي از ك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8760" y="1112760"/>
          <a:ext cx="8254800" cy="5245200"/>
        </p:xfrm>
        <a:graphic>
          <a:graphicData uri="http://schemas.openxmlformats.org/drawingml/2006/table">
            <a:tbl>
              <a:tblPr/>
              <a:tblGrid>
                <a:gridCol w="2332080"/>
                <a:gridCol w="3227040"/>
                <a:gridCol w="2695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بيماريهاي شغل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حوادث شغلي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وع سروي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ث- سرويس هاي ادار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ورد ضرب و شتم قرار گرفت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دربان و نگهبا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كمردرد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ردهاي مربوط به پشت و گردن التهاب تاندون مچ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مندان اداري و اپراتور ماشين هاي الكتريك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متفرقه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نواع عفونت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دگ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راحت از نوع سوراخ شدگ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مردردهاي ناگهان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fa-I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كاركنان سردخانه و آزمايشگاه پاتولوژي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حوادث غير مترقب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920" y="1285920"/>
            <a:ext cx="892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دستو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ارائه طرح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براي مديريت بحران در بيمارستانها  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در زمان احدا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ارائه الگو  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600" spc="-1" strike="noStrike">
                <a:solidFill>
                  <a:srgbClr val="000000"/>
                </a:solidFill>
                <a:latin typeface="Calibri"/>
              </a:rPr>
              <a:t>مديريت بحران براي بيمارستانها          در حوادث غير مترق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مقدمه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بحرانها ناشي از حوادث غير مترقبه تاصيرات زيادي را بر جامعه مي گذارد. اين حوادث مي تواند سبب از دست رفتن جان تعداد زيادي شده و يا سبب مصدوميتها و معلوليت ها و همچنين زيانهاي اقتصادي فراواني را گردد (در طول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 سال حوادث غير مترقبه در جهان سبب شده حدود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 ميليون نفر جان باخته و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800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 نفر آسيب و خسارت ببينند) كشور ما رديف ده كسور حادثه خيز است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ight Brace 3"/>
          <p:cNvSpPr/>
          <p:nvPr/>
        </p:nvSpPr>
        <p:spPr>
          <a:xfrm>
            <a:off x="7143840" y="1785960"/>
            <a:ext cx="214200" cy="11430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143000"/>
              <a:gd name="textAreaBottom" fmla="*/ 11376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ight Brace 4"/>
          <p:cNvSpPr/>
          <p:nvPr/>
        </p:nvSpPr>
        <p:spPr>
          <a:xfrm>
            <a:off x="2928960" y="1714680"/>
            <a:ext cx="214200" cy="11430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143000"/>
              <a:gd name="textAreaBottom" fmla="*/ 11376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7168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با توجه به توضيحات فوق در زمان حادثه نقش بيمارستانها بسيار حساس بوده و بايد جايگاه خود را حفظ نموده و نقش خود را در مديريت بحران ايفاء نمايند. از اين رو سازماندهي و مديريت بيمارستانها به هنگام وقوع حوادث غيرمترقبه از اهميت فراواني برخوردار است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پس وجود يك الگو و يا طرح مديريت بحران ضروري است كه در آن راه مقابله موثر با بحران و همچنين وجود طرح و برنامه اي براي آمادگي و اعمال واكنش مناسب در حوادث است كه آثار ناشي از آنرا بكاهد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شرايط عمومي ايمني در تاسيسات بيمارستا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</a:rPr>
              <a:t>تاسيسات بيمارستان شامل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لوله كشي، سيستم سرمايش و گرمايش، تهويه، روشنايي، سيستم بخار، برق و برق اضطراري، چيلر، هواسازها، لوله كشي گاز هاي طبي، آب، منبع ذخيره آب، تاسيسات بهداشتي و غيره 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00000"/>
                </a:solidFill>
                <a:latin typeface="Calibri"/>
                <a:cs typeface="2  Titr"/>
              </a:rPr>
              <a:t>اهداف: </a:t>
            </a:r>
            <a:r>
              <a:rPr b="0" lang="fa-IR" sz="4400" spc="-1" strike="noStrike">
                <a:solidFill>
                  <a:srgbClr val="002060"/>
                </a:solidFill>
                <a:latin typeface="Calibri"/>
                <a:ea typeface="2  Titr"/>
              </a:rPr>
              <a:t>(تدوين طرح مديريت بحران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فراهم نمودن سريع و موثر مراقبت هاي بهداشتي و درماني به منظور كاهش مرگ و مير و ناتواني هاي ناشي از حوادث غير مترق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ايجاد آمادگي در كاركنان و منابع سازماني براي عملكرد موثر در زمان وقوع حوادث غيرمترق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درمان بيماريهاف كنترل تعداد بيماران، افزايش ظرفيت پذير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پشتيباني از مناطق آسيب ديده با خدمات متنوعي از قبيل مشاوره، دارودهي، تزريقات، وسايل پانسمان و وسايل پزشكي و ساير امكان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مديريت بحران در بيمارستان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028600"/>
            <a:ext cx="914400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8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مرحله اول</a:t>
            </a:r>
            <a:r>
              <a:rPr b="0" lang="fa-IR" sz="34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مرحله قبل از حادثه (مرحله پيشگيري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8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مرحله دوم </a:t>
            </a:r>
            <a:r>
              <a:rPr b="0" lang="fa-IR" sz="34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مرحله زمان وقوع حادثه (مرحله واكنش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8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c00000"/>
                </a:solidFill>
                <a:latin typeface="Calibri"/>
              </a:rPr>
              <a:t>مرحله سوم</a:t>
            </a:r>
            <a:r>
              <a:rPr b="0" lang="fa-IR" sz="34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 پايان وضعيت اضطراري (مرحله بازسازي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  <a:cs typeface="2  Titr"/>
              </a:rPr>
              <a:t>مرحله اول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c00000"/>
                </a:solidFill>
                <a:latin typeface="Calibri"/>
                <a:ea typeface="2  Titr"/>
              </a:rPr>
              <a:t>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مرحله قبل از حادثه</a:t>
            </a:r>
            <a:br>
              <a:rPr sz="4000"/>
            </a:br>
            <a:r>
              <a:rPr b="0" lang="fa-IR" sz="4000" spc="-1" strike="noStrike">
                <a:solidFill>
                  <a:srgbClr val="002060"/>
                </a:solidFill>
                <a:latin typeface="Calibri"/>
                <a:ea typeface="2  Titr"/>
              </a:rPr>
              <a:t> (مرحله پيشگيري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48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شكيل كميته حوادث و سوان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دوين دستورالعمل هاي ايم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آموزش: آموزش كاركنان به وظايف محوله (كدبحران، نحوه تخليه بيماران، وسايل اطفاء حريق، نقشه بيمارستان، راههاي خروج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طراحي سيستمهاي هشداردهنده و تهيه تجهيزات اطفاء حر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پيش بيني برق اضطرا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استاندارد كردن سيستم تاسيسات (لوله كشي، دستگاههاي تهويه و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فراهم نمودن امكانات مربوط به ذخيره سازي آب، غذا، داروهاي اسا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هيه وسايل و تعيين فضاهايي براي ايجاد پناهگا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هيه نقشه جغرافيايي منطق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پيش بيني امكانات هوائي و زميني براي امداد مصدومين و همچنين فشارهاي اطراف بيمارست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قويت سيستمهاي مخابراتي و ارتباط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تقويت بخش اورژانس (از نقطه نظر منابع و تجهيزات، نيروي انساني و امثالهم و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براي استحكام و مقاومت بيمارست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انجام مانور دوره ا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  <a:cs typeface="2  Titr"/>
              </a:rPr>
              <a:t>مرحله دوم 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c00000"/>
                </a:solidFill>
                <a:latin typeface="Calibri"/>
                <a:ea typeface="2  Titr"/>
              </a:rPr>
              <a:t>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مرحله زمان وقوع حادثه (مرحله واكن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اعلان كد حادثه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اخطار كليه افرا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مطلع نمودن پليس و آتش نشاني و نيروهاي امدا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كنترل ترافيك داخل و اطراف بيمارستان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گردآوري و نصب اطلاعات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پشتيباني كليه عمليات امدا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00000"/>
                </a:solidFill>
                <a:latin typeface="Calibri"/>
                <a:cs typeface="2  Titr"/>
              </a:rPr>
              <a:t>مرحله سوم</a:t>
            </a:r>
            <a:r>
              <a:rPr b="0" lang="fa-IR" sz="40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c00000"/>
                </a:solidFill>
                <a:latin typeface="Calibri"/>
                <a:ea typeface="2  Titr"/>
              </a:rPr>
              <a:t>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پايان وضعيت اضطراري (مرحله بازسازي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40" y="264312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اعلام توسط مسئول تيم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- بازسازي بخشها و خريد تجهيزات مورد نياز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مديريت بحر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00000"/>
                </a:solidFill>
                <a:latin typeface="Calibri"/>
              </a:rPr>
              <a:t>تعريف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مديريت بحران داراي چهار ركن اصلي متشكل ا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كاهش خس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آماد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واكن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) بازسازي و عادي سازي اس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سيستم جامع مديريت بحران مخاطرات بالقوه و منابع موجود را ارزيابي كرده و طوري برنامه ريزي مي نمايد كه منابع موجود را با مخاطرات موازنه ك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وظايف مدير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 برنامه ريز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جلب مشاركت مردم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سازمانده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به كارگيري نيروي انسان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رهبر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5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</a:rPr>
              <a:t>نظارت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چرخه مديريت بحر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208080" y="1176480"/>
            <a:ext cx="8582040" cy="532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چند اصطلا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c00000"/>
                </a:solidFill>
                <a:latin typeface="Calibri"/>
              </a:rPr>
              <a:t>نشان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نشان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خفف عبارت فرانسوي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aate Europeane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مي باشد كه برگردان آن به انگليسي عبارت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uropean community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استف نشان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بيانگر آن است كه محصول مي تواند به طور قانوني در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كشور عضو منطقه اقتصادي اروپا تجارت شود (جامعه اروپا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مخاطرات مربوط به تاسيسات </a:t>
            </a:r>
            <a:r>
              <a:rPr b="0" lang="fa-IR" sz="4000" spc="-1" strike="noStrike">
                <a:solidFill>
                  <a:srgbClr val="002060"/>
                </a:solidFill>
                <a:latin typeface="Wingdings 3"/>
                <a:ea typeface="Wingdings 3"/>
              </a:rPr>
              <a:t>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ea typeface="2  Titr"/>
              </a:rPr>
              <a:t> (مشهود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مخاطرات الكتريكي: برق گرفتگي + شوك الكتريكي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سوختگي: سوختگي ناشي از حرارت و بخار+ سوختگي ناشي از آتش سوزي و انفجار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سقوط از ارتفا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آسيب هاي ناشي از ماشين آلات و ابزار دستي (انداختن ابزار كار و اشياء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آسيب هاي ناشي از جوشكاري (جوش زدگي چشم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47480" indent="-447480" algn="r" rtl="1">
              <a:spcBef>
                <a:spcPts val="850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آسيب هاي ناشي از صدا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600" spc="-1" strike="noStrike">
                <a:solidFill>
                  <a:srgbClr val="c00000"/>
                </a:solidFill>
                <a:latin typeface="Calibri"/>
              </a:rPr>
              <a:t>نشان </a:t>
            </a:r>
            <a:r>
              <a:rPr b="1" lang="en-US" sz="6600" spc="-1" strike="noStrike">
                <a:solidFill>
                  <a:srgbClr val="c00000"/>
                </a:solidFill>
                <a:latin typeface="Calibri"/>
              </a:rPr>
              <a:t>IS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</a:rPr>
              <a:t>سازمان جهاني استاندارد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Standard Organization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</a:rPr>
              <a:t> استاندارد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O 9000</a:t>
            </a:r>
            <a:r>
              <a:rPr b="0" lang="fa-IR" sz="4400" spc="-1" strike="noStrike">
                <a:solidFill>
                  <a:srgbClr val="000000"/>
                </a:solidFill>
                <a:latin typeface="Calibri"/>
              </a:rPr>
              <a:t> در زمينه ارائه محصولات تجهيزات پزشكي است و اين استاندارد بين المللي است كه در تمام نقاط دنيا داراي اعتبار است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در بند </a:t>
            </a:r>
            <a:r>
              <a:rPr b="0" lang="fa-IR" sz="4400" spc="-1" strike="noStrike">
                <a:solidFill>
                  <a:srgbClr val="002060"/>
                </a:solidFill>
                <a:latin typeface="Calibri"/>
                <a:ea typeface="2  Titr"/>
              </a:rPr>
              <a:t>1</a:t>
            </a:r>
            <a:r>
              <a:rPr b="0" lang="fa-IR" sz="4400" spc="-1" strike="noStrike">
                <a:solidFill>
                  <a:srgbClr val="002060"/>
                </a:solidFill>
                <a:latin typeface="Calibri"/>
                <a:ea typeface="2  Titr"/>
              </a:rPr>
              <a:t> اين استاندارد آمده است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اين استاندارد بين المللي، از امات يك سيستم مديريت كيفيت را در مواردي مخصوص كه سازمان به اثبات توانائي خود در ارائه ابزارهاي پزشكي و خدمات مرتبط كه بطور مستمر خواسته هاي مشتري و الزمات قانوني و مقررات مربوط به ابزار پزشكي و خدمات مرتبط را برآورده مين مايد، نياز دارد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500" spc="-1" strike="noStrike">
                <a:solidFill>
                  <a:srgbClr val="000000"/>
                </a:solidFill>
                <a:latin typeface="Calibri"/>
              </a:rPr>
              <a:t>كليه الزامات اين استاندارد و اختصاصي بوده و بوسيله تمامي سازمانهايي كه تجهيزات پزشكي توليد مي كند بدون توجه به نوع يا اندازه سازمان قابل بكارگيري مي باشند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76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در كشور ما سازمان هاي گواهي دهنده كه داراي مميزان با اعتبار بين المللي مي باشند وجود دارد كه مي تواند در ارزيابي و صدور گواهينامه هاي معتبر جهت تطابق با اين استاندارد عمل نماين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Calibri"/>
              </a:rPr>
              <a:t>نمونه اي از يك شركت مميزي موفق – شركت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S</a:t>
            </a:r>
            <a:r>
              <a:rPr b="0" lang="fa-IR" sz="4000" spc="-1" strike="noStrike" u="sng">
                <a:solidFill>
                  <a:srgbClr val="000000"/>
                </a:solidFill>
                <a:uFillTx/>
                <a:latin typeface="Calibri"/>
              </a:rPr>
              <a:t> سوئي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lity Serv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2  Titr"/>
              </a:rPr>
              <a:t>FDA</a:t>
            </a:r>
            <a:r>
              <a:rPr b="1" lang="fa-IR" sz="4000" spc="-1" strike="noStrike">
                <a:solidFill>
                  <a:srgbClr val="002060"/>
                </a:solidFill>
                <a:latin typeface="Calibri"/>
                <a:ea typeface="2  Titr"/>
              </a:rPr>
              <a:t>- </a:t>
            </a: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سازمان نظارت بر غذا و دارو و تجهيزات پزشك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ارگان رسمي نظارت بر مواد غذايي، دارو و تجهيزات در آمريكاست. تقريبا هيچ شركت و توليد كننده و توزيع كننده اي نمي تواند در خاك آمريكا فعاليت كند مگر اينكه گواهي نامه يا تائيديه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DA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 را دريافت نمايد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e46c0a"/>
                </a:solidFill>
                <a:uFillTx/>
                <a:latin typeface="Calibri"/>
              </a:rPr>
              <a:t>U.S Food and Drug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ISO 15189</a:t>
            </a:r>
            <a:r>
              <a:rPr b="0" lang="fa-IR" sz="3400" spc="-1" strike="noStrike">
                <a:solidFill>
                  <a:srgbClr val="000000"/>
                </a:solidFill>
                <a:latin typeface="Calibri"/>
              </a:rPr>
              <a:t> اين استاندارد بين المللي تعيين كننده الزامات مورد نياز براي تضمين كيفيت آزمايشات و صلاحيت آزمايشگاه مخصوصا آزمايشگاه هاي پزشكي مي باشد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7120" y="588600"/>
            <a:ext cx="842976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.C.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nsive Care Un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.I.C.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nate Intensive care Un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تاز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al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a-IR" sz="3600" spc="-1" strike="noStrike">
                <a:solidFill>
                  <a:srgbClr val="000000"/>
                </a:solidFill>
                <a:latin typeface="Calibri"/>
              </a:rPr>
              <a:t>تول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al day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irth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.C.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rdiac Care Un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.P.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rdiac Pulmonary Resusc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6cqge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2"/>
          <a:stretch/>
        </p:blipFill>
        <p:spPr>
          <a:xfrm>
            <a:off x="-590400" y="-291960"/>
            <a:ext cx="34257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خطرات شغلي در تاسيسات بيمارستان (نامشهود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00" y="1974600"/>
            <a:ext cx="871560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وجود كار بصورت شيفت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استرس                     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  منجربه بيماري </a:t>
            </a:r>
            <a:r>
              <a:rPr b="0" lang="fa-IR" sz="28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 ناتواني </a:t>
            </a:r>
            <a:r>
              <a:rPr b="0" lang="fa-IR" sz="2800" spc="-1" strike="noStrike">
                <a:solidFill>
                  <a:srgbClr val="c00000"/>
                </a:solidFill>
                <a:latin typeface="Wingdings 3"/>
                <a:ea typeface="Wingdings 3"/>
              </a:rPr>
              <a:t>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</a:rPr>
              <a:t>مر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واكنش هاي غيراراد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ight Brace 3"/>
          <p:cNvSpPr/>
          <p:nvPr/>
        </p:nvSpPr>
        <p:spPr>
          <a:xfrm>
            <a:off x="4786200" y="2214720"/>
            <a:ext cx="357480" cy="185724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857240"/>
              <a:gd name="textAreaBottom" fmla="*/ 184824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6"/>
                </a:cubicBezTo>
                <a:lnTo>
                  <a:pt x="10800" y="10454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6"/>
                </a:cubicBezTo>
                <a:lnTo>
                  <a:pt x="10800" y="21254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شرايط عمومي ايمني براي آسانس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071360"/>
            <a:ext cx="8858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c00000"/>
                </a:solidFill>
                <a:latin typeface="Calibri"/>
              </a:rPr>
              <a:t>تعريف: 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آسانسور وسيله اي است كه براي جابجائي نفر (مسافر- بيمار) و يا بار در طبقات از‌آن استفاده مي گرد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آسانسور از قسمت هاي زير تشكيل شده است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كاب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چاه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تابلوي برق يا تابلوي كنترل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سيستم ترمز ايمني (سيستم پاراشوت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درهاي طبق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كليدهاي كابين و طبق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كنترل كننده مكانيكي سرعت (گاورن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موتورخا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ساير (ضربه گير (بافر)- كابل شير اطمينان- كليد آتش نشاني و غيره و .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تابلوي اعلام ظرفيت آسانسور كه مشخص كننده تعداد نفرات استفاده كننده باش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وجود راهبر در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روشنائي مناسب در كابين و چاه آسانسور، تهويه مناسب، نصب تلفن براي ارتباط، نصب آژير اعلام خطر، نصب سيستم اطفاء و اعلام حري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ايجاد دريچه خروج اضطرا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كنترل فني دوره اي تمام قسمتهاي آسانسور (كابين- چاه آسانسور- كابل و ....) و تهيه چك ليس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انجام بيمه حادثه براي آسانس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فنرهاي مخصوص براي كاهش خطرات مربوط به سقو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2060"/>
                </a:solidFill>
                <a:latin typeface="Calibri"/>
                <a:cs typeface="2  Titr"/>
              </a:rPr>
              <a:t>شرايط ايم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357120"/>
            <a:ext cx="8501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ورود و خروج افراد به آسانسور ها و طبقات بايد به راحتي صورت پذير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در بيمارستانها بايد آسانسور بيمار بر با آسانسور نفر بر مجزا باش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آسانسور بيمار بر بايد بزرگ و براي استفاده برانكارد و يا تخت بيمار پيش بيني گرد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فضاي كافي براي انتظار افراد در وروديها و خروجيها در نظر گرفته شو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چاه آسانسور بايد صاف و از مصالح مقاوم ساخته شده و از محل فوق نبايد لوله هاي آب و غيره و كابل عبور نماي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صب دستور العمل در كابين آسانسور براي مواقع اضطراري لازم است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در صورت بروز هرگونه اشكال، آسانسور نبايد مورد استفاده قرار گير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عواملي كه سبب افزايش حادثه </a:t>
            </a:r>
            <a:br>
              <a:rPr sz="4000"/>
            </a:br>
            <a:r>
              <a:rPr b="0" lang="fa-IR" sz="4000" spc="-1" strike="noStrike">
                <a:solidFill>
                  <a:srgbClr val="002060"/>
                </a:solidFill>
                <a:latin typeface="Calibri"/>
                <a:cs typeface="2  Titr"/>
              </a:rPr>
              <a:t>در محيط كار مي گرد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8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c00000"/>
                </a:solidFill>
                <a:latin typeface="Calibri"/>
              </a:rPr>
              <a:t>الف- شرايط و محيط كار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روابط نامناسب بين كارگر و كارفرم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ساعات كار زي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نامناسب بودن حقو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- خستگي جسمي و روح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000840" y="4857840"/>
            <a:ext cx="275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ب- استعداد حادث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14200"/>
            <a:ext cx="8400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ج- شرايط فيزيولوژيك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بعضي از كارگران بيماري خود  را پنهان مي كنند (به لحاظ ديد- ناراحتي گوش- صرع و امثالهم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- ضعيف و ناتوان بود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د- عدم آموز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00000"/>
                </a:solidFill>
                <a:latin typeface="Calibri"/>
              </a:rPr>
              <a:t>ر-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3200" spc="-1" strike="noStrike">
                <a:solidFill>
                  <a:srgbClr val="c00000"/>
                </a:solidFill>
                <a:latin typeface="Calibri"/>
              </a:rPr>
              <a:t>عدم تهيه وسايل حفاظتي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(گوشي حفاظتي- عينك حفاظتي- دستكش- كفش هاي مخصوص- لباس مخصوص كار حرارت و رطوبت و غيره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c00000"/>
                </a:solidFill>
                <a:latin typeface="Calibri"/>
              </a:rPr>
              <a:t>و- اطلاع رساني </a:t>
            </a:r>
            <a:r>
              <a:rPr b="0" lang="fa-IR" sz="3200" spc="-1" strike="noStrike">
                <a:solidFill>
                  <a:srgbClr val="000000"/>
                </a:solidFill>
                <a:latin typeface="Calibri"/>
              </a:rPr>
              <a:t>(نصب تابلوي راهنما- تهيه انواع دستورالعمل هاي و بخشنامه هاي ايمني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</a:rPr>
              <a:t>تجهيزات حفاظت فردي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PE=Personal protective Equi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4:22:27Z</dcterms:created>
  <dc:creator>USER</dc:creator>
  <dc:description/>
  <dc:language>en-US</dc:language>
  <cp:lastModifiedBy>pars</cp:lastModifiedBy>
  <dcterms:modified xsi:type="dcterms:W3CDTF">2009-12-12T06:10:36Z</dcterms:modified>
  <cp:revision>54</cp:revision>
  <dc:subject/>
  <dc:title>ايمني 2</dc:title>
</cp:coreProperties>
</file>