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CB7-D393-439E-B0C4-359DA8AE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4CD1-EA15-4B54-95C6-A393590C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4CE-BE06-4CB2-B1CA-F2D8B049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AAE-5E4B-429D-A2F1-7685C086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FFB-DA46-447C-A233-9566FE9F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709-3828-4B5C-9414-DFD70E11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8C8-E665-439E-85F2-CE46E4B5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22E-B417-4F7C-8D2C-F71EB08C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567-130D-46CB-A0C4-C5E2EB8F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960-80AE-4D15-8DBC-AE00439A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980-E8B7-4684-B0DE-49DE640F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706-D84F-4480-B629-E7799C17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C6C8-0CB3-43EE-BE44-ED9FFACFA860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56840"/>
            <a:ext cx="8101080" cy="2243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0" spc="-1" strike="noStrike">
                <a:solidFill>
                  <a:srgbClr val="c00000"/>
                </a:solidFill>
                <a:latin typeface="Calibri"/>
                <a:cs typeface="2  Titr"/>
              </a:rPr>
              <a:t>ايمني </a:t>
            </a:r>
            <a:r>
              <a:rPr b="0" lang="fa-IR" sz="10000" spc="-1" strike="noStrike">
                <a:solidFill>
                  <a:srgbClr val="c00000"/>
                </a:solidFill>
                <a:latin typeface="Calibri"/>
                <a:ea typeface="2  Titr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2  Titr"/>
              </a:rPr>
              <a:t>مهندس موسو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02060"/>
                </a:solidFill>
                <a:latin typeface="Wingdings 3"/>
                <a:ea typeface="Wingdings 3"/>
              </a:rPr>
              <a:t></a:t>
            </a:r>
            <a:r>
              <a:rPr b="0" lang="fa-IR" sz="5000" spc="-1" strike="noStrike">
                <a:solidFill>
                  <a:srgbClr val="002060"/>
                </a:solidFill>
                <a:latin typeface="Calibri"/>
                <a:cs typeface="2  Titr"/>
              </a:rPr>
              <a:t>وظيفه مديران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8140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همه موارد بالا را فراهم كند تا كارگر با احساس آرامش و اطمينان كار كند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مديريت بايد به فكر صيانت كارگران باشد و در مقابل آنان احساس مسئوليت كند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حوادث ناشی از کار در بيمارستا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c00000"/>
                </a:solidFill>
                <a:latin typeface="Calibri"/>
              </a:rPr>
              <a:t>نيروي انساني شاغل در بیمارستانها را مي توان به دو دسته عمده تقسيم کرد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</a:rPr>
              <a:t>پرسنل پزشکي و پيراپزشکي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</a:rPr>
              <a:t>پرسنل غير پزشکي ( اداری – مالي- خدماتي و ...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c00000"/>
                </a:solidFill>
                <a:latin typeface="Calibri"/>
              </a:rPr>
              <a:t>مهمترين نکاتي که در ارتباط با حوادث شغلي در بيمارستانها از نظر محيط فيزيکي باید رعايت گردد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</a:rPr>
              <a:t>تناسب ساختمان با فعاليت واحد و پيش بيني فضاهاي لاز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</a:rPr>
              <a:t>سهولت گردش کار درساختمان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</a:rPr>
              <a:t>رعایت نکات ايمني ، بهداشتي و رفاهي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</a:rPr>
              <a:t>پيش بيني طرح توسعه ساختماني برحسب گسترش هاي آتي در سازمان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حوادث ناشی از کاردرمورد پرسنل </a:t>
            </a:r>
            <a:br>
              <a:rPr sz="4000"/>
            </a:br>
            <a:r>
              <a:rPr b="1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غير پزشک مربوط به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 algn="r" rtl="1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</a:rPr>
              <a:t>کارکنان لنرژي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 algn="r" rtl="1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</a:rPr>
              <a:t>کارگران نظافتي و باغبانها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 algn="r" rtl="1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</a:rPr>
              <a:t>باربران و بيماربرا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 algn="r" rtl="1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</a:rPr>
              <a:t>پرسنل تأسيسات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 algn="r" rtl="1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</a:rPr>
              <a:t>پرسنل نگهباني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 algn="r" rtl="1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</a:rPr>
              <a:t>کارمندان ادار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 algn="r" rtl="1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</a:rPr>
              <a:t>کارکنان آشپزخانه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1280" y="857160"/>
          <a:ext cx="8929800" cy="5911920"/>
        </p:xfrm>
        <a:graphic>
          <a:graphicData uri="http://schemas.openxmlformats.org/drawingml/2006/table">
            <a:tbl>
              <a:tblPr/>
              <a:tblGrid>
                <a:gridCol w="2524320"/>
                <a:gridCol w="3971880"/>
                <a:gridCol w="125280"/>
                <a:gridCol w="230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بيماريهاي شغ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حوادث شغ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وع سروي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ف- سرويس غذايي بيمارستا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زخم هاي عفون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كمردرد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بريدگي در اثر وسايل تيز و نوكدار جراحت در اثر خرده هاي استخوا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حوادث مربوط به باربر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قصابها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فونتهاي استافيلوكوك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پوس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سم نانوايا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سوختگ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حوادث مربوط به باربر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نانواها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اگزماي ايجاد شده توسط مواد ظرفشوي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سوختگي ها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دگي در اثر وسايل تيز و نوك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آشپزها و كمك آشپزها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اگزماي ايجاد شده توسط مواد ظرفشوي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حوادث مربوط به باربر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فتادن و زمين خورد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سقوط اشياء سنگين رو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سمتي از بد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شويندگان ظروف و متصديان توزيع غذا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جدول حوادث ناشي از ك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جدول حوادث ناشي از ك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4200" y="785880"/>
          <a:ext cx="8786880" cy="5973840"/>
        </p:xfrm>
        <a:graphic>
          <a:graphicData uri="http://schemas.openxmlformats.org/drawingml/2006/table">
            <a:tbl>
              <a:tblPr/>
              <a:tblGrid>
                <a:gridCol w="2860920"/>
                <a:gridCol w="3647880"/>
                <a:gridCol w="2278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بيماريهاي شغ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حوادث شغ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وع سروي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- سرويس و نگهداري ساختمان و فضاي سب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رماتيت هاي ناشي از مواد سيمان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سقو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بناها، سنگ كارها، كارگران ساختما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كزا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سموميت با حشره كش ه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دگ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ماس با حشره كش ه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باغبانه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سموميت ناشي از سر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سموميت ناشي از آرسي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فتادن سقوط كرد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سيب هاي ناشي از كاركردن با ابزارهاي دست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رار گرفتن در معرض آرسي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لوله كش ، كانال ساز و كمك مكاني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سموميت ناشي از بنزن و مشتقات آ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گزماي تماس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فتادن و سقوط كرد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نقاش ه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درماتيت هاي ناشي از رنگ، روغن جلا و مواد حساسيت زاي صنعت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سيب هاي ناشي از ماشين هاي تجار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نجاره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-7164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جدول حوادث ناشي از ك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1280" y="785880"/>
          <a:ext cx="9001440" cy="6016680"/>
        </p:xfrm>
        <a:graphic>
          <a:graphicData uri="http://schemas.openxmlformats.org/drawingml/2006/table">
            <a:tbl>
              <a:tblPr/>
              <a:tblGrid>
                <a:gridCol w="2629080"/>
                <a:gridCol w="4038480"/>
                <a:gridCol w="174600"/>
                <a:gridCol w="2159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بيماريهاي شغ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حوادث شغ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وع سرو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- سوريس هاي عموم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اگزما بواسطه مواد شوينده و ضدعفوني كننده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رار گفتن در معرض مواد عفوني و آلوده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دگي با اشياء تيز و نوكدا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رار گرفتن در معرض مواد ضدعفوني كننده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سوختگي ناشي از بخا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كاركنان لنژر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فونت بيمارستان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سم ناشي از گرد و غب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رار گفتن در معرض آلودگي هاي بيولوژ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رار گرفتن در معرض آلودگي هاي شيمياي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رار گرفتن در معرض مواد ضد عفوني كنند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دگي در معرض گرد و غب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دگي با اشياد تيزو  نوكد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ليزخوردن و افتادن و سقو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كارگران نظافتي بيمارستا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فونت بيمارستان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ردهاي مربوط به پشت و ك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ردهاي مربوط به وضع ستون فقر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حوادث ترافيكي و برخوردها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حوادث مربوط به باربر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كمردردهاي ترومايي و ناگهان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باربران و بيماربرا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57120" y="1125360"/>
          <a:ext cx="8501040" cy="5232600"/>
        </p:xfrm>
        <a:graphic>
          <a:graphicData uri="http://schemas.openxmlformats.org/drawingml/2006/table">
            <a:tbl>
              <a:tblPr/>
              <a:tblGrid>
                <a:gridCol w="2401920"/>
                <a:gridCol w="3781440"/>
                <a:gridCol w="120600"/>
                <a:gridCol w="2197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بيماريهاي شغ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حوادث شغ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وع سروي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پ- مهندسين و تكنسين هاي نگهداري تاسيس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فوليكولي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اگزما بواسطه تري كلر و اتيلن و ديگر حلال 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سيب هاي ناشي از ابزار دست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سيب هاي ناشي از ماشين آل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سيب هاي ناشي از جسم خارجي در چش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سيب هاي ناشي از جوش زدگي در جوشكار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مهندسين و تكنسين هاي نگهداري تاسيس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وارض مربوط به مسمومي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ونواكسيد كرب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سوختگ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سموميت حاد مونواكسيدكرب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مهندسين و تكنسين هاي سيستم هاي حرارت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سقو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برق گرفتگ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برقكارهاي و تكنسين هاي بر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جدول حوادث ناشي از ك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جدول حوادث ناشي از ك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28760" y="1112760"/>
          <a:ext cx="8254800" cy="5245200"/>
        </p:xfrm>
        <a:graphic>
          <a:graphicData uri="http://schemas.openxmlformats.org/drawingml/2006/table">
            <a:tbl>
              <a:tblPr/>
              <a:tblGrid>
                <a:gridCol w="2332080"/>
                <a:gridCol w="3227040"/>
                <a:gridCol w="2695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بيماريهاي شغل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حوادث شغل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وع سروي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ث- سرويس هاي اداري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ورد ضرب و شتم قرار گرفت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دربان و نگهبا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9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كمردرد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ردهاي مربوط به پشت و گردن التهاب تاندون م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كارمندان اداري و اپراتور ماشين هاي الكتريكي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متفرقه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نواع عفونت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دگي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راحت از نوع سوراخ شدگي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كمردردهاي ناگهاني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كاركنان سردخانه و آزمايشگاه پاتولوژي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حوادث غير مترقب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920" y="1285920"/>
            <a:ext cx="8929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Calibri"/>
              </a:rPr>
              <a:t>دستوالع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alibri"/>
              </a:rPr>
              <a:t>ارائه طرح</a:t>
            </a:r>
            <a:r>
              <a:rPr b="0" lang="fa-I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600" spc="-1" strike="noStrike">
                <a:solidFill>
                  <a:srgbClr val="000000"/>
                </a:solidFill>
                <a:latin typeface="Calibri"/>
              </a:rPr>
              <a:t>براي مديريت بحران در بيمارستانها  </a:t>
            </a:r>
            <a:r>
              <a:rPr b="0" lang="fa-I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600" spc="-1" strike="noStrike">
                <a:solidFill>
                  <a:srgbClr val="000000"/>
                </a:solidFill>
                <a:latin typeface="Calibri"/>
              </a:rPr>
              <a:t>در زمان احدا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alibri"/>
              </a:rPr>
              <a:t>ارائه الگو  </a:t>
            </a:r>
            <a:r>
              <a:rPr b="0" lang="fa-I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600" spc="-1" strike="noStrike">
                <a:solidFill>
                  <a:srgbClr val="000000"/>
                </a:solidFill>
                <a:latin typeface="Calibri"/>
              </a:rPr>
              <a:t>مديريت بحران براي بيمارستانها          در حوادث غير مترق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c00000"/>
                </a:solidFill>
                <a:latin typeface="Calibri"/>
              </a:rPr>
              <a:t>مقدمه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بحرانها ناشي از حوادث غير مترقبه تاصيرات زيادي را بر جامعه مي گذارد. اين حوادث مي تواند سبب از دست رفتن جان تعداد زيادي شده و يا سبب مصدوميتها و معلوليت ها و همچنين زيانهاي اقتصادي فراواني را گردد (در طول 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 سال حوادث غير مترقبه در جهان سبب شده حدود 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 ميليون نفر جان باخته و 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800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 نفر آسيب و خسارت ببينند) كشور ما رديف ده كسور حادثه خيز است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ight Brace 3"/>
          <p:cNvSpPr/>
          <p:nvPr/>
        </p:nvSpPr>
        <p:spPr>
          <a:xfrm>
            <a:off x="7143840" y="1785960"/>
            <a:ext cx="214200" cy="11430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1143000"/>
              <a:gd name="textAreaBottom" fmla="*/ 11376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9"/>
                  <a:pt x="10800" y="337"/>
                </a:cubicBezTo>
                <a:lnTo>
                  <a:pt x="10800" y="10463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9"/>
                  <a:pt x="10800" y="11137"/>
                </a:cubicBezTo>
                <a:lnTo>
                  <a:pt x="10800" y="21263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solidFill>
            <a:srgbClr val="c0504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ight Brace 4"/>
          <p:cNvSpPr/>
          <p:nvPr/>
        </p:nvSpPr>
        <p:spPr>
          <a:xfrm>
            <a:off x="2928960" y="1714680"/>
            <a:ext cx="214200" cy="11430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1143000"/>
              <a:gd name="textAreaBottom" fmla="*/ 11376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9"/>
                  <a:pt x="10800" y="337"/>
                </a:cubicBezTo>
                <a:lnTo>
                  <a:pt x="10800" y="10463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9"/>
                  <a:pt x="10800" y="11137"/>
                </a:cubicBezTo>
                <a:lnTo>
                  <a:pt x="10800" y="21263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solidFill>
            <a:srgbClr val="c0504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71680" y="7858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با توجه به توضيحات فوق در زمان حادثه نقش بيمارستانها بسيار حساس بوده و بايد جايگاه خود را حفظ نموده و نقش خود را در مديريت بحران ايفاء نمايند. از اين رو سازماندهي و مديريت بيمارستانها به هنگام وقوع حوادث غيرمترقبه از اهميت فراواني برخوردار است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پس وجود يك الگو و يا طرح مديريت بحران ضروري است كه در آن راه مقابله موثر با بحران و همچنين وجود طرح و برنامه اي براي آمادگي و اعمال واكنش مناسب در حوادث است كه آثار ناشي از آنرا بكاهد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شرايط عمومي ايمني در تاسيسات بيمارستا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00000"/>
                </a:solidFill>
                <a:latin typeface="Calibri"/>
              </a:rPr>
              <a:t>تاسيسات بيمارستان شامل</a:t>
            </a:r>
            <a:r>
              <a:rPr b="0" lang="fa-IR" sz="4000" spc="-1" strike="noStrike">
                <a:solidFill>
                  <a:srgbClr val="c00000"/>
                </a:solidFill>
                <a:latin typeface="Wingdings 3"/>
                <a:ea typeface="Wingdings 3"/>
              </a:rPr>
              <a:t>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Calibri"/>
              </a:rPr>
              <a:t>لوله كشي، سيستم سرمايش و گرمايش، تهويه، روشنايي، سيستم بخار، برق و برق اضطراري، چيلر، هواسازها، لوله كشي گاز هاي طبي، آب، منبع ذخيره آب، تاسيسات بهداشتي و غيره .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c00000"/>
                </a:solidFill>
                <a:latin typeface="Calibri"/>
                <a:cs typeface="2  Titr"/>
              </a:rPr>
              <a:t>اهداف: </a:t>
            </a:r>
            <a:r>
              <a:rPr b="0" lang="fa-IR" sz="4400" spc="-1" strike="noStrike">
                <a:solidFill>
                  <a:srgbClr val="002060"/>
                </a:solidFill>
                <a:latin typeface="Calibri"/>
                <a:ea typeface="2  Titr"/>
              </a:rPr>
              <a:t>(تدوين طرح مديريت بحران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فراهم نمودن سريع و موثر مراقبت هاي بهداشتي و درماني به منظور كاهش مرگ و مير و ناتواني هاي ناشي از حوادث غير مترق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ايجاد آمادگي در كاركنان و منابع سازماني براي عملكرد موثر در زمان وقوع حوادث غيرمترق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درمان بيماريهاف كنترل تعداد بيماران، افزايش ظرفيت پذير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پشتيباني از مناطق آسيب ديده با خدمات متنوعي از قبيل مشاوره، دارودهي، تزريقات، وسايل پانسمان و وسايل پزشكي و ساير امكانا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مديريت بحران در بيمارستانه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2028600"/>
            <a:ext cx="914400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85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c00000"/>
                </a:solidFill>
                <a:latin typeface="Calibri"/>
              </a:rPr>
              <a:t>مرحله اول</a:t>
            </a:r>
            <a:r>
              <a:rPr b="0" lang="fa-IR" sz="3400" spc="-1" strike="noStrike">
                <a:solidFill>
                  <a:srgbClr val="c00000"/>
                </a:solidFill>
                <a:latin typeface="Wingdings 3"/>
                <a:ea typeface="Wingdings 3"/>
              </a:rPr>
              <a:t></a:t>
            </a:r>
            <a:r>
              <a:rPr b="0" lang="fa-IR" sz="3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مرحله قبل از حادثه (مرحله پيشگيري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85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c00000"/>
                </a:solidFill>
                <a:latin typeface="Calibri"/>
              </a:rPr>
              <a:t>مرحله دوم </a:t>
            </a:r>
            <a:r>
              <a:rPr b="0" lang="fa-IR" sz="3400" spc="-1" strike="noStrike">
                <a:solidFill>
                  <a:srgbClr val="c00000"/>
                </a:solidFill>
                <a:latin typeface="Wingdings 3"/>
                <a:ea typeface="Wingdings 3"/>
              </a:rPr>
              <a:t></a:t>
            </a:r>
            <a:r>
              <a:rPr b="0" lang="fa-IR" sz="3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مرحله زمان وقوع حادثه (مرحله واكنش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85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c00000"/>
                </a:solidFill>
                <a:latin typeface="Calibri"/>
              </a:rPr>
              <a:t>مرحله سوم</a:t>
            </a:r>
            <a:r>
              <a:rPr b="0" lang="fa-IR" sz="3400" spc="-1" strike="noStrike">
                <a:solidFill>
                  <a:srgbClr val="c00000"/>
                </a:solidFill>
                <a:latin typeface="Wingdings 3"/>
                <a:ea typeface="Wingdings 3"/>
              </a:rPr>
              <a:t></a:t>
            </a: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 پايان وضعيت اضطراري (مرحله بازسازي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5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00000"/>
                </a:solidFill>
                <a:latin typeface="Calibri"/>
                <a:cs typeface="2  Titr"/>
              </a:rPr>
              <a:t>مرحله اول</a:t>
            </a:r>
            <a:r>
              <a:rPr b="0" lang="fa-IR" sz="4000" spc="-1" strike="noStrike">
                <a:solidFill>
                  <a:srgbClr val="c00000"/>
                </a:solidFill>
                <a:latin typeface="Wingdings 3"/>
                <a:ea typeface="Wingdings 3"/>
              </a:rPr>
              <a:t></a:t>
            </a:r>
            <a:r>
              <a:rPr b="0" lang="fa-IR" sz="4000" spc="-1" strike="noStrike">
                <a:solidFill>
                  <a:srgbClr val="c00000"/>
                </a:solidFill>
                <a:latin typeface="Calibri"/>
                <a:ea typeface="2  Titr"/>
              </a:rPr>
              <a:t> </a:t>
            </a: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مرحله قبل از حادثه</a:t>
            </a:r>
            <a:br>
              <a:rPr sz="4000"/>
            </a:br>
            <a:r>
              <a:rPr b="0" lang="fa-IR" sz="4000" spc="-1" strike="noStrike">
                <a:solidFill>
                  <a:srgbClr val="002060"/>
                </a:solidFill>
                <a:latin typeface="Calibri"/>
                <a:ea typeface="2  Titr"/>
              </a:rPr>
              <a:t> (مرحله پيشگيري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3748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تشكيل كميته حوادث و سوان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تدوين دستورالعمل هاي ايمن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آموزش: آموزش كاركنان به وظايف محوله (كدبحران، نحوه تخليه بيماران، وسايل اطفاء حريق، نقشه بيمارستان، راههاي خروج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طراحي سيستمهاي هشداردهنده و تهيه تجهيزات اطفاء حري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پيش بيني برق اضطرار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استاندارد كردن سيستم تاسيسات (لوله كشي، دستگاههاي تهويه و 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00040" y="28584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فراهم نمودن امكانات مربوط به ذخيره سازي آب، غذا، داروهاي اساس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تهيه وسايل و تعيين فضاهايي براي ايجاد پناهگا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تهيه نقشه جغرافيايي منطق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پيش بيني امكانات هوائي و زميني براي امداد مصدومين و همچنين فشارهاي اطراف بيمارست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تقويت سيستمهاي مخابراتي و ارتباط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تقويت بخش اورژانس (از نقطه نظر منابع و تجهيزات، نيروي انساني و امثالهم و 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براي استحكام و مقاومت بيمارست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انجام مانور دوره ا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00000"/>
                </a:solidFill>
                <a:latin typeface="Calibri"/>
                <a:cs typeface="2  Titr"/>
              </a:rPr>
              <a:t>مرحله دوم </a:t>
            </a:r>
            <a:r>
              <a:rPr b="0" lang="fa-IR" sz="4000" spc="-1" strike="noStrike">
                <a:solidFill>
                  <a:srgbClr val="c00000"/>
                </a:solidFill>
                <a:latin typeface="Wingdings 3"/>
                <a:ea typeface="Wingdings 3"/>
              </a:rPr>
              <a:t></a:t>
            </a:r>
            <a:r>
              <a:rPr b="0" lang="fa-IR" sz="4000" spc="-1" strike="noStrike">
                <a:solidFill>
                  <a:srgbClr val="c00000"/>
                </a:solidFill>
                <a:latin typeface="Calibri"/>
                <a:ea typeface="2  Titr"/>
              </a:rPr>
              <a:t> </a:t>
            </a: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مرحله زمان وقوع حادثه (مرحله واكنش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- اعلان كد حادثه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- اخطار كليه افراد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- مطلع نمودن پليس و آتش نشاني و نيروهاي امداد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- كنترل ترافيك داخل و اطراف بيمارستان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- گردآوري و نصب اطلاعات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- پشتيباني كليه عمليات امداد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00000"/>
                </a:solidFill>
                <a:latin typeface="Calibri"/>
                <a:cs typeface="2  Titr"/>
              </a:rPr>
              <a:t>مرحله سوم</a:t>
            </a:r>
            <a:r>
              <a:rPr b="0" lang="fa-IR" sz="4000" spc="-1" strike="noStrike">
                <a:solidFill>
                  <a:srgbClr val="c00000"/>
                </a:solidFill>
                <a:latin typeface="Wingdings 3"/>
                <a:ea typeface="Wingdings 3"/>
              </a:rPr>
              <a:t></a:t>
            </a:r>
            <a:r>
              <a:rPr b="0" lang="fa-IR" sz="4000" spc="-1" strike="noStrike">
                <a:solidFill>
                  <a:srgbClr val="c00000"/>
                </a:solidFill>
                <a:latin typeface="Calibri"/>
                <a:ea typeface="2  Titr"/>
              </a:rPr>
              <a:t> </a:t>
            </a: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پايان وضعيت اضطراري (مرحله بازسازي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0040" y="264312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- اعلام توسط مسئول تي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- بازسازي بخشها و خريد تجهيزات مورد نياز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مديريت بحرا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c00000"/>
                </a:solidFill>
                <a:latin typeface="Calibri"/>
              </a:rPr>
              <a:t>تعري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مديريت بحران داراي چهار ركن اصلي متشكل ا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) كاهش خس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) آمادگ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) واكن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) بازسازي و عادي سازي اس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سيستم جامع مديريت بحران مخاطرات بالقوه و منابع موجود را ارزيابي كرده و طوري برنامه ريزي مي نمايد كه منابع موجود را با مخاطرات موازنه كن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وظايف مديرا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5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Calibri"/>
              </a:rPr>
              <a:t> برنامه ريزي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5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Calibri"/>
              </a:rPr>
              <a:t>جلب مشاركت مردمي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5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Calibri"/>
              </a:rPr>
              <a:t>سازماندهي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5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Calibri"/>
              </a:rPr>
              <a:t>به كارگيري نيروي انساني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5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Calibri"/>
              </a:rPr>
              <a:t>رهبري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5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Calibri"/>
              </a:rPr>
              <a:t>نظارت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چرخه مديريت بحرا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"/>
          <p:cNvPicPr/>
          <p:nvPr/>
        </p:nvPicPr>
        <p:blipFill>
          <a:blip r:embed="rId1"/>
          <a:stretch/>
        </p:blipFill>
        <p:spPr>
          <a:xfrm>
            <a:off x="208080" y="1176480"/>
            <a:ext cx="8582040" cy="5327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چند اصطلا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c00000"/>
                </a:solidFill>
                <a:latin typeface="Calibri"/>
              </a:rPr>
              <a:t>نشان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نشان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E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مخفف عبارت فرانسوي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unaate Europeane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مي باشد كه برگردان آن به انگليسي عبارت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uropean community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استف نشان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E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بيانگر آن است كه محصول مي تواند به طور قانوني در 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كشور عضو منطقه اقتصادي اروپا تجارت شود (جامعه اروپا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مخاطرات مربوط به تاسيسات </a:t>
            </a:r>
            <a:r>
              <a:rPr b="0" lang="fa-IR" sz="4000" spc="-1" strike="noStrike">
                <a:solidFill>
                  <a:srgbClr val="002060"/>
                </a:solidFill>
                <a:latin typeface="Wingdings 3"/>
                <a:ea typeface="Wingdings 3"/>
              </a:rPr>
              <a:t></a:t>
            </a:r>
            <a:r>
              <a:rPr b="0" lang="fa-IR" sz="4000" spc="-1" strike="noStrike">
                <a:solidFill>
                  <a:srgbClr val="002060"/>
                </a:solidFill>
                <a:latin typeface="Calibri"/>
                <a:ea typeface="2  Titr"/>
              </a:rPr>
              <a:t> (مشهود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004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 algn="r" rtl="1">
              <a:spcBef>
                <a:spcPts val="850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مخاطرات الكتريكي: برق گرفتگي + شوك الكتريكي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 algn="r" rtl="1">
              <a:spcBef>
                <a:spcPts val="850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سوختگي: سوختگي ناشي از حرارت و بخار+ سوختگي ناشي از آتش سوزي و انفجار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 algn="r" rtl="1">
              <a:spcBef>
                <a:spcPts val="850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سقوط از ارتفاع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 algn="r" rtl="1">
              <a:spcBef>
                <a:spcPts val="850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آسيب هاي ناشي از ماشين آلات و ابزار دستي (انداختن ابزار كار و اشياء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 algn="r" rtl="1">
              <a:spcBef>
                <a:spcPts val="850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آسيب هاي ناشي از جوشكاري (جوش زدگي چشم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 algn="r" rtl="1">
              <a:spcBef>
                <a:spcPts val="850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آسيب هاي ناشي از صدا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c00000"/>
                </a:solidFill>
                <a:latin typeface="Calibri"/>
              </a:rPr>
              <a:t>نشان </a:t>
            </a:r>
            <a:r>
              <a:rPr b="1" lang="en-US" sz="6600" spc="-1" strike="noStrike">
                <a:solidFill>
                  <a:srgbClr val="c00000"/>
                </a:solidFill>
                <a:latin typeface="Calibri"/>
              </a:rPr>
              <a:t>IS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</a:rPr>
              <a:t>سازمان جهاني استاندارد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Standard Organization</a:t>
            </a:r>
            <a:r>
              <a:rPr b="0" lang="fa-IR" sz="4400" spc="-1" strike="noStrike">
                <a:solidFill>
                  <a:srgbClr val="000000"/>
                </a:solidFill>
                <a:latin typeface="Calibri"/>
              </a:rPr>
              <a:t> استاندارد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O 9000</a:t>
            </a:r>
            <a:r>
              <a:rPr b="0" lang="fa-IR" sz="4400" spc="-1" strike="noStrike">
                <a:solidFill>
                  <a:srgbClr val="000000"/>
                </a:solidFill>
                <a:latin typeface="Calibri"/>
              </a:rPr>
              <a:t> در زمينه ارائه محصولات تجهيزات پزشكي است و اين استاندارد بين المللي است كه در تمام نقاط دنيا داراي اعتبار است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در بند </a:t>
            </a:r>
            <a:r>
              <a:rPr b="0" lang="fa-IR" sz="4400" spc="-1" strike="noStrike">
                <a:solidFill>
                  <a:srgbClr val="002060"/>
                </a:solidFill>
                <a:latin typeface="Calibri"/>
                <a:ea typeface="2  Titr"/>
              </a:rPr>
              <a:t>1</a:t>
            </a:r>
            <a:r>
              <a:rPr b="0" lang="fa-IR" sz="4400" spc="-1" strike="noStrike">
                <a:solidFill>
                  <a:srgbClr val="002060"/>
                </a:solidFill>
                <a:latin typeface="Calibri"/>
                <a:ea typeface="2  Titr"/>
              </a:rPr>
              <a:t> اين استاندارد آمده است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اين استاندارد بين المللي، از امات يك سيستم مديريت كيفيت را در مواردي مخصوص كه سازمان به اثبات توانائي خود در ارائه ابزارهاي پزشكي و خدمات مرتبط كه بطور مستمر خواسته هاي مشتري و الزمات قانوني و مقررات مربوط به ابزار پزشكي و خدمات مرتبط را برآورده مين مايد، نياز دارد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كليه الزامات اين استاندارد و اختصاصي بوده و بوسيله تمامي سازمانهايي كه تجهيزات پزشكي توليد مي كند بدون توجه به نوع يا اندازه سازمان قابل بكارگيري مي باشند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876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Calibri"/>
              </a:rPr>
              <a:t>در كشور ما سازمان هاي گواهي دهنده كه داراي مميزان با اعتبار بين المللي مي باشند وجود دارد كه مي تواند در ارزيابي و صدور گواهينامه هاي معتبر جهت تطابق با اين استاندارد عمل نمايند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Calibri"/>
              </a:rPr>
              <a:t>نمونه اي از يك شركت مميزي موفق – شركت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QS</a:t>
            </a:r>
            <a:r>
              <a:rPr b="0" lang="fa-IR" sz="4000" spc="-1" strike="noStrike" u="sng">
                <a:solidFill>
                  <a:srgbClr val="000000"/>
                </a:solidFill>
                <a:uFillTx/>
                <a:latin typeface="Calibri"/>
              </a:rPr>
              <a:t> سوئي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lity Serv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2  Titr"/>
              </a:rPr>
              <a:t>FDA</a:t>
            </a:r>
            <a:r>
              <a:rPr b="1" lang="fa-IR" sz="4000" spc="-1" strike="noStrike">
                <a:solidFill>
                  <a:srgbClr val="002060"/>
                </a:solidFill>
                <a:latin typeface="Calibri"/>
                <a:ea typeface="2  Titr"/>
              </a:rPr>
              <a:t>- </a:t>
            </a: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سازمان نظارت بر غذا و دارو و تجهيزات پزشك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ارگان رسمي نظارت بر مواد غذايي، دارو و تجهيزات در آمريكاست. تقريبا هيچ شركت و توليد كننده و توزيع كننده اي نمي تواند در خاك آمريكا فعاليت كند مگر اينكه گواهي نامه يا تائيديه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DA</a:t>
            </a: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 را دريافت نمايد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e46c0a"/>
                </a:solidFill>
                <a:uFillTx/>
                <a:latin typeface="Calibri"/>
              </a:rPr>
              <a:t>U.S Food and Drug Administr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ISO 15189</a:t>
            </a: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 اين استاندارد بين المللي تعيين كننده الزامات مورد نياز براي تضمين كيفيت آزمايشات و صلاحيت آزمايشگاه مخصوصا آزمايشگاه هاي پزشكي مي باشد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57120" y="588600"/>
            <a:ext cx="842976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I.C.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nsive Care Un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N.I.C.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onate Intensive care Un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o 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تازه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tal 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تولد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tal day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irthd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C.C.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rdiac Care Un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C.P.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rdiac Pulmonary Resusci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6cqge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4" descr=""/>
          <p:cNvPicPr/>
          <p:nvPr/>
        </p:nvPicPr>
        <p:blipFill>
          <a:blip r:embed="rId2"/>
          <a:stretch/>
        </p:blipFill>
        <p:spPr>
          <a:xfrm>
            <a:off x="-590400" y="-291960"/>
            <a:ext cx="342576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خطرات شغلي در تاسيسات بيمارستان (نامشهود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4200" y="1974600"/>
            <a:ext cx="871560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وجود كار بصورت شيفت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استرس                      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</a:rPr>
              <a:t>  منجربه بيماري </a:t>
            </a:r>
            <a:r>
              <a:rPr b="0" lang="fa-IR" sz="2800" spc="-1" strike="noStrike">
                <a:solidFill>
                  <a:srgbClr val="c00000"/>
                </a:solidFill>
                <a:latin typeface="Wingdings 3"/>
                <a:ea typeface="Wingdings 3"/>
              </a:rPr>
              <a:t>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</a:rPr>
              <a:t> ناتواني </a:t>
            </a:r>
            <a:r>
              <a:rPr b="0" lang="fa-IR" sz="2800" spc="-1" strike="noStrike">
                <a:solidFill>
                  <a:srgbClr val="c00000"/>
                </a:solidFill>
                <a:latin typeface="Wingdings 3"/>
                <a:ea typeface="Wingdings 3"/>
              </a:rPr>
              <a:t>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</a:rPr>
              <a:t>مر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واكنش هاي غيراراد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ight Brace 3"/>
          <p:cNvSpPr/>
          <p:nvPr/>
        </p:nvSpPr>
        <p:spPr>
          <a:xfrm>
            <a:off x="4786200" y="2214720"/>
            <a:ext cx="357480" cy="185724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1857240"/>
              <a:gd name="textAreaBottom" fmla="*/ 184824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3"/>
                  <a:pt x="10800" y="346"/>
                </a:cubicBezTo>
                <a:lnTo>
                  <a:pt x="10800" y="10454"/>
                </a:lnTo>
                <a:cubicBezTo>
                  <a:pt x="10800" y="10627"/>
                  <a:pt x="16200" y="10800"/>
                  <a:pt x="21600" y="10800"/>
                </a:cubicBezTo>
                <a:cubicBezTo>
                  <a:pt x="16200" y="10800"/>
                  <a:pt x="10800" y="10973"/>
                  <a:pt x="10800" y="11146"/>
                </a:cubicBezTo>
                <a:lnTo>
                  <a:pt x="10800" y="21254"/>
                </a:lnTo>
                <a:cubicBezTo>
                  <a:pt x="10800" y="21427"/>
                  <a:pt x="5400" y="21600"/>
                  <a:pt x="0" y="21600"/>
                </a:cubicBezTo>
              </a:path>
            </a:pathLst>
          </a:custGeom>
          <a:solidFill>
            <a:srgbClr val="c0504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شرايط عمومي ايمني براي آسانسو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2920" y="107136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c00000"/>
                </a:solidFill>
                <a:latin typeface="Calibri"/>
              </a:rPr>
              <a:t>تعريف: 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آسانسور وسيله اي است كه براي جابجائي نفر (مسافر- بيمار) و يا بار در طبقات از‌آن استفاده مي گرد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آسانسور از قسمت هاي زير تشكيل شده است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كاب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چاه آسانس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تابلوي برق يا تابلوي كنترل آسانس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سيستم ترمز ايمني (سيستم پاراشوت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درهاي طبقا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كليدهاي كابين و طبقا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كنترل كننده مكانيكي سرعت (گاورنر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موتورخان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ساير (ضربه گير (بافر)- كابل شير اطمينان- كليد آتش نشاني و غيره و .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4200" y="107172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نصب تابلوي اعلام ظرفيت آسانسور كه مشخص كننده تعداد نفرات استفاده كننده باش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وجود راهبر در آسانس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نصب روشنائي مناسب در كابين و چاه آسانسور، تهويه مناسب، نصب تلفن براي ارتباط، نصب آژير اعلام خطر، نصب سيستم اطفاء و اعلام حري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ايجاد دريچه خروج اضطرا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كنترل فني دوره اي تمام قسمتهاي آسانسور (كابين- چاه آسانسور- كابل و ....) و تهيه چك ليس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انجام بيمه حادثه براي آسانس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نصب فنرهاي مخصوص براي كاهش خطرات مربوط به سقو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شرايط ايمن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840" y="357120"/>
            <a:ext cx="8501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ورود و خروج افراد به آسانسور ها و طبقات بايد به راحتي صورت پذير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در بيمارستانها بايد آسانسور بيمار بر با آسانسور نفر بر مجزا باش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آسانسور بيمار بر بايد بزرگ و براي استفاده برانكارد و يا تخت بيمار پيش بيني گرد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فضاي كافي براي انتظار افراد در وروديها و خروجيها در نظر گرفته شو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چاه آسانسور بايد صاف و از مصالح مقاوم ساخته شده و از محل فوق نبايد لوله هاي آب و غيره و كابل عبور نماي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نصب دستور العمل در كابين آسانسور براي مواقع اضطراري لازم است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در صورت بروز هرگونه اشكال، آسانسور نبايد مورد استفاده قرار گير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عواملي كه سبب افزايش حادثه </a:t>
            </a:r>
            <a:br>
              <a:rPr sz="4000"/>
            </a:b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در محيط كار مي گرد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814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c00000"/>
                </a:solidFill>
                <a:latin typeface="Calibri"/>
              </a:rPr>
              <a:t>الف- شرايط و محيط كار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روابط نامناسب بين كارگر و كارفرم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ساعات كار زي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نامناسب بودن حقو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خستگي جسمي و روح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000840" y="4857840"/>
            <a:ext cx="275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Calibri"/>
              </a:rPr>
              <a:t>ب- استعداد حادث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14200"/>
            <a:ext cx="8400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Calibri"/>
              </a:rPr>
              <a:t>ج- شرايط فيزيولوژيك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بعضي از كارگران بيماري خود  را پنهان مي كنند (به لحاظ ديد- ناراحتي گوش- صرع و امثالهم 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ضعيف و ناتوان بود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Calibri"/>
              </a:rPr>
              <a:t>د- عدم آموز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c00000"/>
                </a:solidFill>
                <a:latin typeface="Calibri"/>
              </a:rPr>
              <a:t>ر-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a-IR" sz="3200" spc="-1" strike="noStrike">
                <a:solidFill>
                  <a:srgbClr val="c00000"/>
                </a:solidFill>
                <a:latin typeface="Calibri"/>
              </a:rPr>
              <a:t>عدم تهيه وسايل حفاظتي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(گوشي حفاظتي- عينك حفاظتي- دستكش- كفش هاي مخصوص- لباس مخصوص كار حرارت و رطوبت و غيره 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c00000"/>
                </a:solidFill>
                <a:latin typeface="Calibri"/>
              </a:rPr>
              <a:t>و- اطلاع رساني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(نصب تابلوي راهنما- تهيه انواع دستورالعمل هاي و بخشنامه هاي ايمني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</a:rPr>
              <a:t>تجهيزات حفاظت فردي +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PE=Personal protective Equi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4:22:27Z</dcterms:created>
  <dc:creator>USER</dc:creator>
  <dc:description/>
  <dc:language>en-US</dc:language>
  <cp:lastModifiedBy>pars</cp:lastModifiedBy>
  <dcterms:modified xsi:type="dcterms:W3CDTF">2009-12-12T06:10:36Z</dcterms:modified>
  <cp:revision>54</cp:revision>
  <dc:subject/>
  <dc:title>ايمني 2</dc:title>
</cp:coreProperties>
</file>