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410A-E52C-4B61-9621-674BD277F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دانشگاه علوم پزشكي و خدمات بهداشتي  ودرمان تهران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3D0C-D1EE-4BFE-BE14-917289677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9D63-FF87-4031-BC4F-8525A1E425D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09C-AEB1-4A3F-A3C0-CE0549AC1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خصیص  توزیع  تثبی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95BA-07AB-4C39-BF32-B0095AF83B39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0B7-9E16-47CC-90D0-EB786E7D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4D6-2B6B-4F36-862C-770D99E0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91A0-EA00-42E1-8A20-568D3AAF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B0E-0C07-41E4-9926-10E53AA9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03E-0AD2-4217-B4F9-4CDDA711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E57-4B0B-4A1F-851B-B61F4C32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818-4FDD-415E-9B30-64CA024F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79A-F484-4291-B8F2-F00D291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6A4-097C-4DB6-8536-90123FE1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385-E722-4C4D-A15B-743943D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042-56F0-480B-92A0-F2727DD7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0E3-DB82-4E4A-AFBB-38635690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D859-B76F-46D7-93B7-CE183D1DF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60948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دانشگاه علوم پزشكي</a:t>
            </a:r>
            <a:r>
              <a:rPr b="1" lang="fa-IR" sz="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و خدمات بهداشتي  ودرمان تهرا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600" spc="-1" strike="noStrike">
                <a:solidFill>
                  <a:srgbClr val="000000"/>
                </a:solidFill>
                <a:latin typeface="Arial"/>
                <a:cs typeface="B Jadid"/>
              </a:rPr>
              <a:t>بودجه</a:t>
            </a:r>
            <a:r>
              <a:rPr b="1" lang="fa-IR" sz="1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Jadid"/>
              </a:rPr>
              <a:t>دكتر رامين رحيم نيا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Rectangle 2"/>
          <p:cNvGrpSpPr/>
          <p:nvPr/>
        </p:nvGrpSpPr>
        <p:grpSpPr>
          <a:xfrm>
            <a:off x="3054240" y="1195560"/>
            <a:ext cx="3956040" cy="957240"/>
            <a:chOff x="3054240" y="1195560"/>
            <a:chExt cx="3956040" cy="957240"/>
          </a:xfrm>
        </p:grpSpPr>
        <p:pic>
          <p:nvPicPr>
            <p:cNvPr id="115" name="Rectangle 2" descr=""/>
            <p:cNvPicPr/>
            <p:nvPr/>
          </p:nvPicPr>
          <p:blipFill>
            <a:blip r:embed="rId1"/>
            <a:stretch/>
          </p:blipFill>
          <p:spPr>
            <a:xfrm>
              <a:off x="3054240" y="1195560"/>
              <a:ext cx="39560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71880" y="1214280"/>
              <a:ext cx="392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تعریف</a:t>
              </a:r>
              <a:r>
                <a:rPr b="0" lang="fa-IR" sz="4400" spc="-1" strike="noStrike">
                  <a:solidFill>
                    <a:srgbClr val="984807"/>
                  </a:solidFill>
                  <a:latin typeface="Calibri"/>
                  <a:ea typeface="B Mehr"/>
                </a:rPr>
                <a:t> </a:t>
              </a: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ها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"/>
          <p:cNvSpPr/>
          <p:nvPr/>
        </p:nvSpPr>
        <p:spPr>
          <a:xfrm>
            <a:off x="2150640" y="2428920"/>
            <a:ext cx="450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مفاهیم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ساسی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37840" y="3929040"/>
            <a:ext cx="38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 صول بودج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1" descr=""/>
          <p:cNvPicPr/>
          <p:nvPr/>
        </p:nvPicPr>
        <p:blipFill>
          <a:blip r:embed="rId1"/>
          <a:stretch/>
        </p:blipFill>
        <p:spPr>
          <a:xfrm>
            <a:off x="5230800" y="669960"/>
            <a:ext cx="3608280" cy="890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902120" y="312408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ودجه سند دخل وخرج دولت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857160" y="175248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مالی است که نیازمندیهای دولت بطور کامل برای مدت محدودی پیش از وق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Mehr"/>
              </a:rPr>
              <a:t>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تعیین می گرد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79160" y="2666880"/>
            <a:ext cx="9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ی برای تامین هزینه  های دولت یا یک بنگاه انتفاعی برای مدت معین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85480" y="3657600"/>
            <a:ext cx="45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رنامه مالی برای عملیات آتی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144520" y="4191120"/>
            <a:ext cx="77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ی از ابزارهای مهم مدیریت برای برنامه ریزی وکنترل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19200" y="5638680"/>
            <a:ext cx="97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کمی و مشروح وکامل به منظوراستفاده از منابع و ثروتها در دوره معین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131400" y="4724280"/>
            <a:ext cx="1062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ابزار ووسایل مالی نظارت قوه مقننه بردولت ونشان دهنده نوع ونحوه مداخله دول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در فعالیتهای اقتصادی کشور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227680" y="76212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یک برنامه مالی است برای مدت محدودی از زمان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000080" y="3124080"/>
            <a:ext cx="74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بودجه کل کشور برنامه مالی دولت است که برای یک سال مالی  تهیه و حاوی پیش بینی درآمدها وسایر منابع تامین اعتبار و برآورد هزینه ها برای انجام عملیاتی است که منجر به وصول به هدفهای دو لت می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447200" y="213372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روشی است برای  تعیین آنکه چه کارها یی باید انجام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2186640" y="266688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ابزار سیاستگزاری مالی برای تحقق اهداف عمومی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523880" y="1295280"/>
            <a:ext cx="67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احی مالی وکمی  سیاستهای از پیش تعیین شده یک سازمان برای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 دوره معین است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1071720" y="4871880"/>
            <a:ext cx="77151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e1c11"/>
                </a:solidFill>
                <a:latin typeface="Calibri"/>
                <a:cs typeface="B Mehr"/>
              </a:rPr>
              <a:t>بودجه دولت عبارتست از برآورد هزینه ها وپیش بینی درآمدها برای یک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دوره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معین در آینده براي عمليات معين  که همراه آن درآمدها وهزینه های قطعی سال گذشته و جاری نیز ارایه می شود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 flipH="1" flipV="1">
            <a:off x="1000080" y="6399360"/>
            <a:ext cx="7858080" cy="14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1"/>
          <p:cNvSpPr/>
          <p:nvPr/>
        </p:nvSpPr>
        <p:spPr>
          <a:xfrm>
            <a:off x="914400" y="685800"/>
            <a:ext cx="7429680" cy="51814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90720" y="1100160"/>
            <a:ext cx="711180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نيل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ه سياستها وبه هدفهاي قانوني مي شود</a:t>
            </a: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own Arrow 11"/>
          <p:cNvSpPr/>
          <p:nvPr/>
        </p:nvSpPr>
        <p:spPr>
          <a:xfrm>
            <a:off x="1104840" y="428760"/>
            <a:ext cx="7429680" cy="1428480"/>
          </a:xfrm>
          <a:prstGeom prst="downArrow">
            <a:avLst>
              <a:gd name="adj1" fmla="val 89037"/>
              <a:gd name="adj2" fmla="val 5503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7"/>
          <p:cNvSpPr/>
          <p:nvPr/>
        </p:nvSpPr>
        <p:spPr>
          <a:xfrm>
            <a:off x="1000080" y="2071800"/>
            <a:ext cx="7929720" cy="1571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048040" y="76212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    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ماده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قانون محاسبات عمومي كشور مصوب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366/6/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143000" y="2143080"/>
            <a:ext cx="7469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1" lang="en-US" sz="20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نيل به سياستها وبه هدفهاي قانوني مي شود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1285920" y="5214960"/>
            <a:ext cx="1541520" cy="76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70c0"/>
                </a:solidFill>
                <a:latin typeface="Calibri"/>
                <a:cs typeface="B Koodak"/>
              </a:rPr>
              <a:t>درآمدها</a:t>
            </a:r>
            <a:r>
              <a:rPr b="1" lang="fa-IR" sz="2000" spc="-1" strike="noStrike">
                <a:solidFill>
                  <a:srgbClr val="0070c0"/>
                </a:solidFill>
                <a:latin typeface="Calibri"/>
                <a:ea typeface="B Koodak"/>
              </a:rPr>
              <a:t> ومناب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1071720" y="6000840"/>
            <a:ext cx="19587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Calibri"/>
                <a:cs typeface="B Koodak"/>
              </a:rPr>
              <a:t>پرداختها وهزين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 19" descr=""/>
          <p:cNvPicPr/>
          <p:nvPr/>
        </p:nvPicPr>
        <p:blipFill>
          <a:blip r:embed="rId2"/>
          <a:stretch/>
        </p:blipFill>
        <p:spPr>
          <a:xfrm>
            <a:off x="1920960" y="3524400"/>
            <a:ext cx="7223040" cy="3187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0"/>
          <p:cNvSpPr/>
          <p:nvPr/>
        </p:nvSpPr>
        <p:spPr>
          <a:xfrm>
            <a:off x="4476600" y="5572080"/>
            <a:ext cx="200052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بودجه دول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extBox 1" descr=""/>
          <p:cNvPicPr/>
          <p:nvPr/>
        </p:nvPicPr>
        <p:blipFill>
          <a:blip r:embed="rId1"/>
          <a:stretch/>
        </p:blipFill>
        <p:spPr>
          <a:xfrm>
            <a:off x="2919240" y="426960"/>
            <a:ext cx="4054680" cy="107316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5254560" y="2017800"/>
            <a:ext cx="2786040" cy="4762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3" descr=""/>
          <p:cNvPicPr/>
          <p:nvPr/>
        </p:nvPicPr>
        <p:blipFill>
          <a:blip r:embed="rId3"/>
          <a:stretch/>
        </p:blipFill>
        <p:spPr>
          <a:xfrm>
            <a:off x="5992920" y="2803680"/>
            <a:ext cx="1962000" cy="4759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4" descr=""/>
          <p:cNvPicPr/>
          <p:nvPr/>
        </p:nvPicPr>
        <p:blipFill>
          <a:blip r:embed="rId4"/>
          <a:stretch/>
        </p:blipFill>
        <p:spPr>
          <a:xfrm>
            <a:off x="6632640" y="3517920"/>
            <a:ext cx="1182600" cy="47448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5" descr=""/>
          <p:cNvPicPr/>
          <p:nvPr/>
        </p:nvPicPr>
        <p:blipFill>
          <a:blip r:embed="rId5"/>
          <a:stretch/>
        </p:blipFill>
        <p:spPr>
          <a:xfrm>
            <a:off x="6340320" y="4237200"/>
            <a:ext cx="1365480" cy="47448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6" descr=""/>
          <p:cNvPicPr/>
          <p:nvPr/>
        </p:nvPicPr>
        <p:blipFill>
          <a:blip r:embed="rId6"/>
          <a:stretch/>
        </p:blipFill>
        <p:spPr>
          <a:xfrm>
            <a:off x="6168960" y="5022720"/>
            <a:ext cx="14749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7" descr=""/>
          <p:cNvPicPr/>
          <p:nvPr/>
        </p:nvPicPr>
        <p:blipFill>
          <a:blip r:embed="rId7"/>
          <a:stretch/>
        </p:blipFill>
        <p:spPr>
          <a:xfrm>
            <a:off x="5668920" y="5803920"/>
            <a:ext cx="1901880" cy="4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395480" y="500040"/>
            <a:ext cx="193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قد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7840" y="1000080"/>
            <a:ext cx="1143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عریف ها ومفاهیم اساسی واصول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786120" y="1523880"/>
            <a:ext cx="474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اریخچه بودجه ریزی در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851200" y="2066760"/>
            <a:ext cx="560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راحل یا گردش بودجه ا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80080" y="2600280"/>
            <a:ext cx="593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طبقه  بندی در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918240" y="3133800"/>
            <a:ext cx="58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روشهای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603720" y="4276800"/>
            <a:ext cx="101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جارب برخی کشورها در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-632520" y="4857840"/>
            <a:ext cx="113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سایل ومشکلات نظام بودجه ریزی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131280" y="3666960"/>
            <a:ext cx="683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حسابداري نقدي وتعه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072160" y="642960"/>
            <a:ext cx="789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000000"/>
                </a:solidFill>
                <a:latin typeface="Calibri"/>
                <a:cs typeface="B Mitra"/>
              </a:rPr>
              <a:t>درپايان اين جلسه بايد بتوان</a:t>
            </a:r>
            <a:r>
              <a:rPr b="1" i="1" lang="fa-IR" sz="4400" spc="-1" strike="noStrike">
                <a:solidFill>
                  <a:srgbClr val="000000"/>
                </a:solidFill>
                <a:latin typeface="Calibri"/>
                <a:ea typeface="B Mitr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610640" y="193032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رداشتي از مفاهيم منابع ونياز ها ارايه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-694080" y="2921040"/>
            <a:ext cx="113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خش عمومي وخصوصي وتفاوتهاي اين دو را تعريف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-673920" y="4900680"/>
            <a:ext cx="113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عريفي از بودجه ارايه كرد واركان اساسي آن را برشم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79520" y="4064040"/>
            <a:ext cx="99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حول نقش دولتها را در ارتباط با بودجه بيان كرد</a:t>
            </a:r>
            <a:r>
              <a:rPr b="1" i="1" lang="fa-IR" sz="3200" spc="-1" strike="noStrike">
                <a:solidFill>
                  <a:srgbClr val="000000"/>
                </a:solidFill>
                <a:latin typeface="Calibri"/>
                <a:ea typeface="B Mit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514600" y="204804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شش اصل مهم بودجه را نام ب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33520" y="297648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سالانه بودن بودجه را از دو جنبه فني وسياسي توجيه ك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219320" y="4154400"/>
            <a:ext cx="71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وحدت بودجه را توضيح 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7200" y="4834080"/>
            <a:ext cx="78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تعادل بودجه را توضيح داد ومفهوم امروزي آنرا بيان كر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33520" y="1214280"/>
            <a:ext cx="814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Mitra"/>
              </a:rPr>
              <a:t>اصول بودجه  ومفهوم آنها را بيان كر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781680" y="1676520"/>
            <a:ext cx="181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-730440" y="2057400"/>
            <a:ext cx="91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Calibri"/>
                <a:cs typeface=" Mitra"/>
              </a:rPr>
              <a:t>منشا پيشرفت های انس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732000" y="294480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676240" y="2928960"/>
            <a:ext cx="510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  <a:cs typeface=" Mitra"/>
              </a:rPr>
              <a:t>را </a:t>
            </a:r>
            <a:r>
              <a:rPr b="1" lang="fa-IR" sz="6000" spc="-1" strike="noStrike">
                <a:solidFill>
                  <a:srgbClr val="000000"/>
                </a:solidFill>
                <a:latin typeface="Calibri"/>
                <a:cs typeface=" Mitra"/>
              </a:rPr>
              <a:t>پايانی</a:t>
            </a:r>
            <a:r>
              <a:rPr b="1" lang="fa-IR" sz="4800" spc="-1" strike="noStrike">
                <a:solidFill>
                  <a:srgbClr val="000000"/>
                </a:solidFill>
                <a:latin typeface="Calibri"/>
                <a:ea typeface=" Mitra"/>
              </a:rPr>
              <a:t> نيس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6375240" y="3873600"/>
            <a:ext cx="205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e46c0a"/>
                </a:solidFill>
                <a:latin typeface="Calibri"/>
                <a:cs typeface=" Mitra"/>
              </a:rPr>
              <a:t>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936600" y="3987720"/>
            <a:ext cx="34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 Mitra"/>
              </a:rPr>
              <a:t>محدود ا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049760" y="5027760"/>
            <a:ext cx="937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9bbb59"/>
                </a:solidFill>
                <a:latin typeface="Calibri"/>
                <a:cs typeface=" Mitra"/>
              </a:rPr>
              <a:t>بهره مندی با حد متناس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990800" y="85716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Calibri"/>
                <a:cs typeface="B Jadid"/>
              </a:rPr>
              <a:t>نیازها و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hevron 8"/>
          <p:cNvSpPr/>
          <p:nvPr/>
        </p:nvSpPr>
        <p:spPr>
          <a:xfrm rot="10800000">
            <a:off x="7286400" y="4357440"/>
            <a:ext cx="1857240" cy="185724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1" y="0"/>
                </a:lnTo>
                <a:lnTo>
                  <a:pt x="21600" y="10800"/>
                </a:lnTo>
                <a:lnTo>
                  <a:pt x="17061" y="21600"/>
                </a:lnTo>
                <a:lnTo>
                  <a:pt x="0" y="21600"/>
                </a:lnTo>
                <a:lnTo>
                  <a:pt x="4539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hevron 6"/>
          <p:cNvSpPr/>
          <p:nvPr/>
        </p:nvSpPr>
        <p:spPr>
          <a:xfrm rot="10800000">
            <a:off x="7286400" y="1357200"/>
            <a:ext cx="1857240" cy="16509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lnTo>
                  <a:pt x="4035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327400" y="22860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جامعه نیازها ومناب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7710480" y="1371600"/>
            <a:ext cx="13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 عمو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071720" y="914400"/>
            <a:ext cx="6215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که منافع اکثریت جامعه رادرنظردارندو ضمن تامین رضایت عمومی وظیفه پیشرفت  اقتصادی فرهنگی اجتماعی سیاسی را برعهده دارد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جمعی به منظور تحقق واجرای سیاستهای دولت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ضامن سلامت هر جامعه و بقای تمد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353360" y="4495680"/>
            <a:ext cx="17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خصوص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1066680" y="525780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چمعی به منظور تحقق واجرای سیاستها وخط مشی های سازمانهای خصوصی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Dava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071720" y="4191120"/>
            <a:ext cx="578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رابطه خریدار –فروشنده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ویا تولید کننده-فروشنده در آنها برقرار ا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93240" y="304920"/>
            <a:ext cx="98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B Zar"/>
                <a:cs typeface="B Jadid"/>
              </a:rPr>
              <a:t>تفاوتهای بخش خصوصی ودولت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4129920" y="164304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نگیزه کسب س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464360" y="2286000"/>
            <a:ext cx="41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حساسیت مردم</a:t>
            </a:r>
            <a:r>
              <a:rPr b="1" lang="fa-IR" sz="4000" spc="-1" strike="noStrike">
                <a:solidFill>
                  <a:srgbClr val="000000"/>
                </a:solidFill>
                <a:latin typeface="Calibri"/>
                <a:ea typeface="B Nazan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673000" y="2786040"/>
            <a:ext cx="65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چارچوب قوانین ومقرر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00640" y="3429000"/>
            <a:ext cx="32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تاثیرسیا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353400" y="3929040"/>
            <a:ext cx="58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وسعت قلمرو سازم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176120" y="4495680"/>
            <a:ext cx="92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مدیریت وویژگیهای لازم برای مدی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789560" y="5072040"/>
            <a:ext cx="797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ستمرار وفوریت داشتن خد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350600" y="5786280"/>
            <a:ext cx="41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قیمت تمام ش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143080" y="21420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984807"/>
                </a:solidFill>
                <a:latin typeface="Calibri"/>
                <a:cs typeface="B Jadid"/>
              </a:rPr>
              <a:t>تحول نقش دولت</a:t>
            </a:r>
            <a:r>
              <a:rPr b="0" lang="fa-IR" sz="4400" spc="-1" strike="noStrike">
                <a:solidFill>
                  <a:srgbClr val="984807"/>
                </a:solidFill>
                <a:latin typeface="Calibri"/>
                <a:ea typeface="B Jad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838600" y="1000080"/>
            <a:ext cx="66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تغییر از فئودالیسم تا دولت های ناظ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09680" y="144792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بدست گرفتن امکانات ومنابع جامعه درراه نیل به خواستهاوهدفها ی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جامعه بنحویکه حد متناسب ارضا شود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28320" y="264312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نقش جدیدتر دولت ها در اقتصاد کشور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-152280" y="2133720"/>
            <a:ext cx="37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77933c"/>
                </a:solidFill>
                <a:latin typeface="Calibri"/>
                <a:cs typeface="B Kamran Outline"/>
              </a:rPr>
              <a:t>فن </a:t>
            </a:r>
            <a:r>
              <a:rPr b="1" lang="fa-IR" sz="4400" spc="-1" strike="noStrike">
                <a:solidFill>
                  <a:srgbClr val="77933c"/>
                </a:solidFill>
                <a:latin typeface="Calibri"/>
                <a:cs typeface="B Kamran Outline"/>
              </a:rPr>
              <a:t>بودجه</a:t>
            </a:r>
            <a:r>
              <a:rPr b="1" lang="fa-IR" sz="3600" spc="-1" strike="noStrike">
                <a:solidFill>
                  <a:srgbClr val="77933c"/>
                </a:solidFill>
                <a:latin typeface="Calibri"/>
                <a:ea typeface="B Kamran Outline"/>
              </a:rPr>
              <a:t> نویس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7215120" y="3500280"/>
            <a:ext cx="10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cs typeface="B Compset"/>
              </a:rPr>
              <a:t>بدلایل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 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214280" y="607212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d0d0d"/>
                </a:solidFill>
                <a:uFillTx/>
                <a:latin typeface="Calibri"/>
                <a:cs typeface="B Compset"/>
              </a:rPr>
              <a:t>نفش بخش خصوصی کم رنگ   و نقش دولت ها پررنگ تر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286160" y="4000680"/>
            <a:ext cx="39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قدینگی وسرمایه لاز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748240" y="44290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بودامنیت اقتصادی و خطرا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3719160" y="4786200"/>
            <a:ext cx="56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پایین بودن نرخ برگش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520280" y="5214960"/>
            <a:ext cx="83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فاصله طولانی از سرمایه گذاری تا بهره برد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1809360" y="5600880"/>
            <a:ext cx="81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سود بیشتر در سایر فعالیتها و سرمایه گذاری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1328040" y="3071880"/>
            <a:ext cx="82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اقتصاد كلاسيك وتحولات بعداز جنگ جهاني د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643800" y="1676520"/>
            <a:ext cx="1987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نقش دولتها 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B Jadid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رابطه با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791520" y="928800"/>
            <a:ext cx="252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خصی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281840" y="2714760"/>
            <a:ext cx="178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وزی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226400" y="4797360"/>
            <a:ext cx="179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ثبی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Brace 7"/>
          <p:cNvSpPr/>
          <p:nvPr/>
        </p:nvSpPr>
        <p:spPr>
          <a:xfrm>
            <a:off x="6000840" y="1071720"/>
            <a:ext cx="857160" cy="428616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4286160"/>
              <a:gd name="textAreaBottom" fmla="*/ 4263840 h 42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57200" y="838080"/>
            <a:ext cx="377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 Mitra"/>
              </a:rPr>
              <a:t>فرآیندی که تقسیم کل منابع به فعالیتها ازآن طریق صورت می گی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57200" y="2590920"/>
            <a:ext cx="409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وزیع منابع ؛درآمدها وثروت به منظ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نطباق پذیری با آنچه که وضع مناسب ی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 Mitra"/>
              </a:rPr>
              <a:t>عادلانه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توزیع تلقی می شو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609480" y="4440240"/>
            <a:ext cx="37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 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فاده از سیاست های بودجه 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به عنوان ابزاری برای نیل به اهداف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راتژی ها وبرنامه های  دولت بر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حف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شتغال در سطح بالا ؛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ثبی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قیمته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نرخ مناسب رشد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7:37:56Z</dcterms:created>
  <dc:creator>m</dc:creator>
  <dc:description/>
  <dc:language>en-US</dc:language>
  <cp:lastModifiedBy>rahimnia-f5</cp:lastModifiedBy>
  <dcterms:modified xsi:type="dcterms:W3CDTF">2013-10-23T08:03:22Z</dcterms:modified>
  <cp:revision>39</cp:revision>
  <dc:subject/>
  <dc:title>Slide 1</dc:title>
</cp:coreProperties>
</file>