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A9C-5192-4812-8FC5-B6767C0B5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ودجه از تنظيم تا كنتر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CF2A-2892-48EF-AA36-D17A76205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 وپيشنهاد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صويب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جرا  ي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نترل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D1A7-DD53-4F5E-80E3-D58E6FAF3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84D5-C660-4CBF-9BDE-23FF7D181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خشنامه بودج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بودجه در دستگاههاي اجراي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ررسي بودجه در معاونت برنامه ريزي ونظارت راهبردي رياست جمهور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021-86DC-447C-B38A-2A281D80C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E34-12A8-476C-95F6-30590858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7AD-974B-4513-B830-4FEB1EA0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117F7-44E2-4168-9EB1-D642AB2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CEF6C-D497-4663-9327-7358E160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784B1-B5DB-4074-9049-43AB5888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12034-640C-4F37-8E4C-1232EBA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7E2D3-DFD5-4D5A-BA35-D17B8186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0739C-E113-41C5-A7D6-E23EF9F5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52F01-3D07-4D2B-94E3-9A5A3DA1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40196-CB66-4CAA-BF1D-1749143F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43A0A-E763-419D-BBDD-C5C7E6D2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1BE-304B-4321-8755-564AFEF4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515-7E53-4DF3-A153-37C35580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0FF3-BD8F-48A8-96E5-98C745F1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2790-D3DE-4262-A5C0-C2BC51AD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7817-B581-4D57-946D-64ABFFEA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2179-B8BA-4F60-84F2-8B455F3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613-448B-4E5E-8DE5-BFDB8AB1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2D76-26EF-437F-9D1F-968E4717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E1CE-F042-4B08-915E-AFB88C4B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844-61EF-45E7-8DD2-9E70F5E2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00C3-0AB5-4C2C-825E-5129330C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18CB-D82C-48C6-AEE4-3572A0E4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A19-1103-4EF6-B138-553D0B3D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CBF-4073-4217-9CF6-9AC0FEAD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4A2C-E75F-4C60-84D3-DEF53AAB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7054-76D7-4F3B-9FA7-17AAA8C2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D2D3C-24B0-41B2-9FD9-9A396542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DECD-5095-47E5-B1A4-E975C086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6907-6712-4083-86DA-C5C3C203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08FF-6BE6-4D74-8640-1C6BDBDB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365-CB79-4196-826B-9609460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EAAF-5AEA-4C6D-9F4A-29BC22B4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42C2-74A0-4456-9DCE-AC8A3FC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BB24-01E0-45D0-961F-2E285BA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B507-C7C8-40ED-94A3-AB922E1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2781-6C68-4377-9AEA-860DFF72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49AB-C7A4-41D0-B79F-F3D1CB62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8413-8E7E-411F-BABA-74F636BA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52A1-4F11-4075-87AA-278C4ADD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4B2DC-4EC7-4C33-95CD-05A4D165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31B6-9D74-4987-A0C2-4467EDEC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B7A-0EC6-496A-B0A2-C0E873D9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EFE2-6D78-48C8-9D57-31531CD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1F07-0534-49F5-861E-F68DDC1B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782C-281A-4727-986F-D8800408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E27E7-962B-4A53-8805-E18CCCB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0FB9-D712-420F-8347-3CAAEA0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19CA-9405-496F-873E-E28349F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481A4-1365-46CF-8FA9-F50C9C28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B7E2-7DF2-4600-A663-6F8A3597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C31B-D651-4708-AC0D-433AAF89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3D85-9ABD-4C9B-89B7-F16FBE66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63C-3D30-4447-B55E-454B8EDE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2C2D-9DB2-44F1-B56A-C19B47A9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5047-CC5C-4F3F-B4DC-7A24B604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038A-B4B5-4D01-99BA-B52C7A7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3348-4367-4E05-B5B1-1A11181E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BDFA-84A7-41D0-A76D-7F8610A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7813-B889-4648-9563-D5277A3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8FE6-A235-4560-9888-049C584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4FC8-731C-4680-B268-45F93B9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0D2A6-060B-44D7-84D4-D5AC0EC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1CE5-42AC-4759-A92B-F86A92E3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88E-30E8-447C-BD08-AE644DFF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5286-A229-45C8-998E-4A03EFE6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E892-84B3-4453-8EF2-4AFE5AC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41CF-F9D8-4BA3-85DC-6481DDA5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F3A8-ECD5-4871-A437-45B97F1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75380-C52B-4115-BD63-6852AC7E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ACCCF-A27D-448B-9915-9F9EB54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F103E-FBD8-477C-9908-052FA91C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A4E96-1AD2-4C67-B442-28C5A000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9DEC-1E5F-45B7-B1E8-E856419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294D-FB45-4BF5-902C-F0B92D8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2D3-D357-4697-BFC9-0D3CC15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F2BD6-D1E0-4D55-A7C3-EE54A6FD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BFED5-7871-478C-9B87-DBDFF218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DD59-EF0B-4AEC-B392-EDC7FC4D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9E96-C212-443D-8CC7-104F038D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BB740-60F1-4220-A917-680BD819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F7FC6-9AA7-4A6F-A67B-1C000EF3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8B316-EF04-49BD-BC2D-537E472E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25DEC-34BF-4B4A-9C08-D025D966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C1DE-B2AD-45D3-B186-D102796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D67D-72E7-49B3-A0E1-FE7E7AC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CFA-D7C0-48F0-AC76-E6958BBD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91074-9CB1-45C7-8150-769ADC0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F8939-381C-4211-BBF5-6E98A28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FC29E-9900-4AE3-BF18-877528AC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0B48-E3FA-43A4-A519-9D28DF68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8D27-2EFB-40D0-9B84-BE26073A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0A57E-FF28-40C1-BCF9-918B2280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A0BF4-E5E4-47EB-AF07-4FD0D7B9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6C6A-E4F2-4769-90F2-FC9A9687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9A979-4FB7-4752-B94D-3BDBC51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2D51E-9A48-4384-822E-5BB8576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DA2-3F13-48A7-937D-FB18C53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5BA0A-86E4-49AC-8B67-0A898CA7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4FFA9-26AD-493C-9D9F-054A611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3F34-5A87-499C-B7E5-C134CD71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F1285-B189-410B-9E15-32AD9B4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AAE5F-2F4B-4C90-8D74-2E5C7DEC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AE544-41CA-4AB5-8BDD-00404C66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EDFF6-F599-4F13-952A-C4D6CBB3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FDDDE-0227-4D12-9B06-FE13AF09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CD7BA-52CE-4369-B4F2-5E8BCC67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87293-1B54-473B-A180-EFF1B5DF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1F12-1115-41D6-84AC-70D74425139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E09-5993-4BB2-8281-B78C932B7F4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141D-7810-4573-B08F-0392202EBC6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4FB-E99A-4725-B7E6-B50408ED113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33B-241C-42B5-A911-046275E9E72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88DC-3A3C-4BA1-8AE3-0666248DE1D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6307-0A40-47B7-BF2F-8F10E2FD101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08E-F6EA-445A-B369-C30FD65AAC8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7C91-06CA-4C4C-9C54-F5898BA7E3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3" descr=""/>
          <p:cNvPicPr/>
          <p:nvPr/>
        </p:nvPicPr>
        <p:blipFill>
          <a:blip r:embed="rId1"/>
          <a:stretch/>
        </p:blipFill>
        <p:spPr>
          <a:xfrm>
            <a:off x="-6480" y="-890640"/>
            <a:ext cx="9156960" cy="705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Arial"/>
              </a:rPr>
              <a:t>بررسي بودجه در معاونت برنامه ريزي ونظارت                راهبردي رياست جمهو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"/>
          <p:cNvSpPr/>
          <p:nvPr/>
        </p:nvSpPr>
        <p:spPr>
          <a:xfrm>
            <a:off x="0" y="1779480"/>
            <a:ext cx="891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آغاز بررسي در مديريتهاي مربوط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كميل اطلاعات و توجيه ارقام پيشنهادي توسط دستگاههاي اج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هيه پيش نويس مقدماتي بود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595959"/>
                </a:solidFill>
                <a:latin typeface="Arial"/>
              </a:rPr>
              <a:t>تاييد شوراي اقتصا 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بررسي در هيئت وزيران (تاييد يا ارجاع براي اصلاح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لايحه بودجه به مجلس شوراي اسلامي با امضاي رئيس جمه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لايحه بودجه در يك ماده و چند تبصره تنظيم مي گردد .تبصره هاي بود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نيز منابع تامين اعتبار را مشخص و چگونگي انجام هزينه ها وتخصي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 اعتبار به دستگاههاي اجرايي را مشخص مي كن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تصويب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-1291680" y="1600200"/>
            <a:ext cx="12153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اصل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 قانون اساس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تصويب بودجه از وظايف و اختيارات قوه قانونگذا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قديم لايحه در جلسه علني مجلس توسط رئيس قوه مجريه با ارايه توضيحات لاز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لايحه بودجه به تمام نمايندگان و كميسيونهاي مربوطه توسط رئيس مجل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لايحه بودج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ها 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ايه لايحه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 تلف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نهايي شد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صحن علن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بودجه با اكثريت آر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 بودجه تصويب شده 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شوراي نگهبان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ا امضاي رئيس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علام موارد اصلاحي ويا تاييد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اصلاح شده در جلسه علني مجلس براي تصو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مجدد به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بلاغ  قانون بودج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ه دولت براي اجرا با 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مضاي  رئيس مجل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بودجه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380880" y="1828800"/>
            <a:ext cx="85503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بلاغ بودج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مبادله موافقت نامه فعاليتهاي جاري وطرح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        تملك ودارايي هاي سرمايه 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تخصيص اعتبا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جراي مالي بودجه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ابلاغ بودج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"/>
          <p:cNvSpPr/>
          <p:nvPr/>
        </p:nvSpPr>
        <p:spPr>
          <a:xfrm>
            <a:off x="228600" y="1447920"/>
            <a:ext cx="8915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 بودجه هر يك از دستگاههاي اجرايي به تفكيك اعتبارات جاري وعمراني در </a:t>
            </a:r>
            <a:r>
              <a:rPr b="1" lang="fa-IR" sz="2800" spc="-1" strike="noStrike">
                <a:solidFill>
                  <a:srgbClr val="002060"/>
                </a:solidFill>
                <a:latin typeface="Arial"/>
              </a:rPr>
              <a:t>قالب برنامه ها وبه همان صورتي كه به تصويب رسي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است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معاونت برنامه ريزي ونظارت راهبردي رياست جمهو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بودجه در دستگاههاي  اجرايي به واحدهاي اجرايي زير پوشش خود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ادارات يا دفاتر بودج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مبادله موافقت نام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-76320" y="144792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000000"/>
                </a:solidFill>
                <a:uFillTx/>
                <a:latin typeface="Arial"/>
              </a:rPr>
              <a:t>موافقتنام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نوعي قرارداد است كه در چارچوب بودجه مصوب ب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دستگاه اجراي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معاونت برنامه ريزي ونظارت راهبردي رياست جمهوري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بادله مي گردد وب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وجب آن از يك سو دستگاه اجرايي تعهد مي كند شرح عمليات و شرايط خ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مندرج درآن را رعايت كند .از سوي ديگر معاونت برنامه ريزي ونظارت راهبر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رياست جمهوري نيز به موازات پيشرفت فيزيكي عمليات براساس بودجه مص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عتبار نموده  وآن را دراختياردستگاه اجرايي قرار مي ده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-تخصيص اعتب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"/>
          <p:cNvSpPr/>
          <p:nvPr/>
        </p:nvSpPr>
        <p:spPr>
          <a:xfrm>
            <a:off x="-2176920" y="1371600"/>
            <a:ext cx="133344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تخصيص اعتبار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تقسيط اعتبار مصوب در فواصل مشخص يا تحقق شرايط معين كه بصورت مشترك توس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عاونت برنامه ريزي ونظارت راهبردي رياست جمهوري و وزارت امور قتصادي ودا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نجام شده و به دستگاههاي اجرايي ابلاغ مي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 اعتبار دربرگيرنده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بودجه عمومي دول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ست و منابع داخلي شركتها ودر آم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ي دستگاهها از شمول آن خارج بوده واز ضوابط خاصي تبعيت مي ك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مالي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3751200" y="1371600"/>
            <a:ext cx="5164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حوا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درخواست و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هزين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7010280" y="762120"/>
            <a:ext cx="165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380880" y="1676520"/>
            <a:ext cx="849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وانتخاب كالا وخدمات ها خدمات وساير پرداختها يي كه تحصيل يا انج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آن براي نيل به اجراي برنامه هاي دستگاه اجرايي ضرو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6205320" y="2743200"/>
            <a:ext cx="27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322920" y="3657600"/>
            <a:ext cx="9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 دادن تمام  يا قسمتي از اعتبار مصوب براي هزينه م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7198920" y="4419720"/>
            <a:ext cx="145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"/>
          <p:cNvSpPr/>
          <p:nvPr/>
        </p:nvSpPr>
        <p:spPr>
          <a:xfrm>
            <a:off x="-892800" y="5410080"/>
            <a:ext cx="108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يجاد دين برذمه دولت ناشي از تحويل كالا يا انجام خدمت ؛اجراي قرارداد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حكام صادر شده از مراجع قانوني ذيصل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6909480" y="609480"/>
            <a:ext cx="184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-632520" y="1676520"/>
            <a:ext cx="109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ميزان بدهي قابل پرداخت به موجب اسناد ومدارك اثبات كننده ب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7174800" y="2438280"/>
            <a:ext cx="146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</a:rPr>
              <a:t>* حو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-884160" y="3352680"/>
            <a:ext cx="11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بوسيله دستگاه اجرايي براي تاديه تعهدات وپرداخت بدهيها از مح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عتبارات مربوطه در وجه ذينفع صادر گر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6316200" y="43434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* درخواست و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-924120" y="5029200"/>
            <a:ext cx="113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ذيحساب براي دريافت وجه به منظور پرداخت حواله هاي صادر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ز محل اعتبارات مربوطه در وجه حساب بانكي پرداخت دستگاه اجرايي ذي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صادر مي ك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كنترل 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0" y="15238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فرايندي است براي حصول اطمينان از اينكه عمليات يا اقدامات واقعي ب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عمليات پيش بيني شده برنامه ربزي شده همانند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با كنترل بودجه مي توان فهميد كه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*  آيا بودجه اجرا شده همان بودجه اي است كه به تصو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 قوه مقننه رسيد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هدفهاي از پيش تعيين شده  تحقق يافت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برنامه ها وسياستهاي مالي مصوب نمايندگان مردم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همان شكل اجرا شده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Arial"/>
                <a:cs typeface="B Titr"/>
              </a:rPr>
              <a:t>مراحل</a:t>
            </a:r>
            <a:r>
              <a:rPr b="1" lang="fa-IR" sz="9600" spc="-1" strike="noStrike">
                <a:solidFill>
                  <a:srgbClr val="ffffff"/>
                </a:solidFill>
                <a:latin typeface="Arial"/>
                <a:ea typeface="B Titr"/>
              </a:rPr>
              <a:t> فراگرد بودج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-1618920" y="1828800"/>
            <a:ext cx="1240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هيه وتنظيم  وپيشنهاد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086640" y="2819520"/>
            <a:ext cx="659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صويب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3416400" y="3711600"/>
            <a:ext cx="62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اجراي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531240" y="4549680"/>
            <a:ext cx="618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كنترل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0" y="0"/>
            <a:ext cx="8915400" cy="8251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منظور اصلي از كنترل بودج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-1074600" y="1066680"/>
            <a:ext cx="11179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 u="sng">
                <a:solidFill>
                  <a:srgbClr val="000000"/>
                </a:solidFill>
                <a:uFillTx/>
                <a:latin typeface="Arial"/>
              </a:rPr>
              <a:t>در گذشته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جلوگيري از تجاوز تعهدات و مخارج از اعتبارات مص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صرفه جويي در هزي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"/>
          <p:cNvSpPr/>
          <p:nvPr/>
        </p:nvSpPr>
        <p:spPr>
          <a:xfrm>
            <a:off x="0" y="3657600"/>
            <a:ext cx="8534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 u="sng">
                <a:solidFill>
                  <a:srgbClr val="000000"/>
                </a:solidFill>
                <a:uFillTx/>
                <a:latin typeface="Arial"/>
              </a:rPr>
              <a:t>امروز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حصول اطمينان از تطبيق عملكردهاي بودجه با برنامه ها 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هدفهاي پيش بيني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4"/>
          <p:cNvGrpSpPr/>
          <p:nvPr/>
        </p:nvGrpSpPr>
        <p:grpSpPr>
          <a:xfrm>
            <a:off x="0" y="14400"/>
            <a:ext cx="9144000" cy="6858000"/>
            <a:chOff x="0" y="14400"/>
            <a:chExt cx="9144000" cy="6858000"/>
          </a:xfrm>
        </p:grpSpPr>
        <p:sp>
          <p:nvSpPr>
            <p:cNvPr id="511" name="Rectangle 6"/>
            <p:cNvSpPr/>
            <p:nvPr/>
          </p:nvSpPr>
          <p:spPr>
            <a:xfrm>
              <a:off x="4572000" y="1440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7"/>
            <p:cNvSpPr/>
            <p:nvPr/>
          </p:nvSpPr>
          <p:spPr>
            <a:xfrm>
              <a:off x="4572000" y="344196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8"/>
            <p:cNvSpPr/>
            <p:nvPr/>
          </p:nvSpPr>
          <p:spPr>
            <a:xfrm>
              <a:off x="0" y="34434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0" y="144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AutoShape 17"/>
          <p:cNvSpPr/>
          <p:nvPr/>
        </p:nvSpPr>
        <p:spPr>
          <a:xfrm rot="16200000">
            <a:off x="45000" y="2964240"/>
            <a:ext cx="1074600" cy="806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انوا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كنتر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5"/>
          <p:cNvGrpSpPr/>
          <p:nvPr/>
        </p:nvGrpSpPr>
        <p:grpSpPr>
          <a:xfrm>
            <a:off x="985680" y="2011320"/>
            <a:ext cx="1498320" cy="2763360"/>
            <a:chOff x="985680" y="2011320"/>
            <a:chExt cx="1498320" cy="2763360"/>
          </a:xfrm>
        </p:grpSpPr>
        <p:sp>
          <p:nvSpPr>
            <p:cNvPr id="517" name="AutoShape 18"/>
            <p:cNvSpPr/>
            <p:nvPr/>
          </p:nvSpPr>
          <p:spPr>
            <a:xfrm rot="16200000">
              <a:off x="1454040" y="2056320"/>
              <a:ext cx="107496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بي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 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قنن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9"/>
            <p:cNvSpPr/>
            <p:nvPr/>
          </p:nvSpPr>
          <p:spPr>
            <a:xfrm rot="16200000">
              <a:off x="1454400" y="3745080"/>
              <a:ext cx="107460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جري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8"/>
            <p:cNvSpPr/>
            <p:nvPr/>
          </p:nvSpPr>
          <p:spPr>
            <a:xfrm flipV="1">
              <a:off x="1207440" y="2523960"/>
              <a:ext cx="0" cy="16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>
              <a:off x="985680" y="3395520"/>
              <a:ext cx="2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1207440" y="42130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3"/>
            <p:cNvSpPr/>
            <p:nvPr/>
          </p:nvSpPr>
          <p:spPr>
            <a:xfrm>
              <a:off x="1207440" y="2525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48"/>
          <p:cNvGrpSpPr/>
          <p:nvPr/>
        </p:nvGrpSpPr>
        <p:grpSpPr>
          <a:xfrm>
            <a:off x="2509920" y="3679560"/>
            <a:ext cx="1760400" cy="2630880"/>
            <a:chOff x="2509920" y="3679560"/>
            <a:chExt cx="1760400" cy="2630880"/>
          </a:xfrm>
        </p:grpSpPr>
        <p:sp>
          <p:nvSpPr>
            <p:cNvPr id="524" name="AutoShape 22"/>
            <p:cNvSpPr/>
            <p:nvPr/>
          </p:nvSpPr>
          <p:spPr>
            <a:xfrm rot="16200000">
              <a:off x="2447640" y="53686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مال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 rot="16200000">
              <a:off x="3329640" y="3813480"/>
              <a:ext cx="107460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عمليات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>
              <a:off x="2509920" y="421308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>
              <a:off x="2949480" y="4211640"/>
              <a:ext cx="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46"/>
          <p:cNvGrpSpPr/>
          <p:nvPr/>
        </p:nvGrpSpPr>
        <p:grpSpPr>
          <a:xfrm>
            <a:off x="2509920" y="476280"/>
            <a:ext cx="1760400" cy="2607480"/>
            <a:chOff x="2509920" y="476280"/>
            <a:chExt cx="1760400" cy="2607480"/>
          </a:xfrm>
        </p:grpSpPr>
        <p:sp>
          <p:nvSpPr>
            <p:cNvPr id="529" name="AutoShape 25"/>
            <p:cNvSpPr/>
            <p:nvPr/>
          </p:nvSpPr>
          <p:spPr>
            <a:xfrm rot="16200000">
              <a:off x="2447640" y="6094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پارلما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6"/>
            <p:cNvSpPr/>
            <p:nvPr/>
          </p:nvSpPr>
          <p:spPr>
            <a:xfrm rot="16200000">
              <a:off x="3329280" y="2142720"/>
              <a:ext cx="107532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ضائ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5"/>
            <p:cNvSpPr/>
            <p:nvPr/>
          </p:nvSpPr>
          <p:spPr>
            <a:xfrm>
              <a:off x="2509920" y="254592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7"/>
            <p:cNvSpPr/>
            <p:nvPr/>
          </p:nvSpPr>
          <p:spPr>
            <a:xfrm flipV="1">
              <a:off x="2949480" y="156384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49"/>
          <p:cNvGrpSpPr/>
          <p:nvPr/>
        </p:nvGrpSpPr>
        <p:grpSpPr>
          <a:xfrm>
            <a:off x="3492360" y="3673440"/>
            <a:ext cx="5040360" cy="2635200"/>
            <a:chOff x="3492360" y="3673440"/>
            <a:chExt cx="5040360" cy="2635200"/>
          </a:xfrm>
        </p:grpSpPr>
        <p:sp>
          <p:nvSpPr>
            <p:cNvPr id="534" name="AutoShape 41"/>
            <p:cNvSpPr/>
            <p:nvPr/>
          </p:nvSpPr>
          <p:spPr>
            <a:xfrm>
              <a:off x="3492360" y="5229360"/>
              <a:ext cx="5040360" cy="10792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قبل از خرج با اهرمهاي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ذيحساب و از طريق تامين اعتبار و تطبيق با قوانين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خزانه و از طريق نظارت بر صحت درخواست وجه و مطابقت آن با اعتبارات مصوب و مقررات قان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2"/>
            <p:cNvSpPr/>
            <p:nvPr/>
          </p:nvSpPr>
          <p:spPr>
            <a:xfrm>
              <a:off x="4383000" y="367344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عملياتي از راههاي ذيل صورت ميگي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دريافت گزارشهاي توجيهي از دستگاهها توسط سازمان مديري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تخصيص دوره اي اعتبارات با توجه به عملكرد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7"/>
          <p:cNvGrpSpPr/>
          <p:nvPr/>
        </p:nvGrpSpPr>
        <p:grpSpPr>
          <a:xfrm>
            <a:off x="3492360" y="477720"/>
            <a:ext cx="5040360" cy="2590920"/>
            <a:chOff x="3492360" y="477720"/>
            <a:chExt cx="5040360" cy="2590920"/>
          </a:xfrm>
        </p:grpSpPr>
        <p:sp>
          <p:nvSpPr>
            <p:cNvPr id="537" name="AutoShape 43"/>
            <p:cNvSpPr/>
            <p:nvPr/>
          </p:nvSpPr>
          <p:spPr>
            <a:xfrm>
              <a:off x="4400640" y="198900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یوان محاسبات مسئول انجام  نظارت قضائی بوده و  حسابرسی آن بر دو محور تاکید دا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یچ هزینه ای از اعتبارات مصوب تجاوز نکن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ر وجهی در محل خود بمصرف برس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4"/>
            <p:cNvSpPr/>
            <p:nvPr/>
          </p:nvSpPr>
          <p:spPr>
            <a:xfrm>
              <a:off x="3492360" y="477720"/>
              <a:ext cx="504036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کنترل مجلس و نمایندگان مردم به دو صورت است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با طرح سوال و در صورت استیضاح وزر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مجلس بعنوان مجمع عمومی جامعه به حسابرسی کلی عملیات دولت  هیات مدیره در قالب گزارش تفریغ بودجه میپرداز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0" name="Rectangle 4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4572000" y="342756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1033560" y="2233080"/>
            <a:ext cx="7210440" cy="2232360"/>
            <a:chOff x="1033560" y="2233080"/>
            <a:chExt cx="7210440" cy="2232360"/>
          </a:xfrm>
        </p:grpSpPr>
        <p:sp>
          <p:nvSpPr>
            <p:cNvPr id="545" name="AutoShape 13"/>
            <p:cNvSpPr/>
            <p:nvPr/>
          </p:nvSpPr>
          <p:spPr>
            <a:xfrm>
              <a:off x="4767480" y="3484440"/>
              <a:ext cx="3467160" cy="98100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42048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4"/>
            <p:cNvSpPr/>
            <p:nvPr/>
          </p:nvSpPr>
          <p:spPr>
            <a:xfrm rot="16200000">
              <a:off x="6019200" y="990720"/>
              <a:ext cx="982440" cy="346716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1484280 h 3467160"/>
                <a:gd name="textAreaBottom" fmla="*/ 3467520 h 34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5"/>
            <p:cNvSpPr/>
            <p:nvPr/>
          </p:nvSpPr>
          <p:spPr>
            <a:xfrm>
              <a:off x="6361200" y="2304720"/>
              <a:ext cx="1660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يب 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"/>
            <p:cNvSpPr/>
            <p:nvPr/>
          </p:nvSpPr>
          <p:spPr>
            <a:xfrm rot="10800000">
              <a:off x="1033560" y="2233080"/>
              <a:ext cx="3468960" cy="98244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42048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7"/>
            <p:cNvSpPr/>
            <p:nvPr/>
          </p:nvSpPr>
          <p:spPr>
            <a:xfrm>
              <a:off x="1320840" y="2304720"/>
              <a:ext cx="2305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جراي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8"/>
            <p:cNvSpPr/>
            <p:nvPr/>
          </p:nvSpPr>
          <p:spPr>
            <a:xfrm rot="5400000">
              <a:off x="2277360" y="2240280"/>
              <a:ext cx="981000" cy="346896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1486080 h 3468960"/>
                <a:gd name="textAreaBottom" fmla="*/ 3469320 h 346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"/>
            <p:cNvSpPr/>
            <p:nvPr/>
          </p:nvSpPr>
          <p:spPr>
            <a:xfrm>
              <a:off x="1263960" y="3850920"/>
              <a:ext cx="26496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كنترل و نظارت بر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0"/>
            <p:cNvSpPr/>
            <p:nvPr/>
          </p:nvSpPr>
          <p:spPr>
            <a:xfrm>
              <a:off x="5785200" y="3816000"/>
              <a:ext cx="23558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هيه و تنظيم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1"/>
            <p:cNvSpPr/>
            <p:nvPr/>
          </p:nvSpPr>
          <p:spPr>
            <a:xfrm>
              <a:off x="3410280" y="3168360"/>
              <a:ext cx="268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چرخه  بودج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22"/>
          <p:cNvSpPr/>
          <p:nvPr/>
        </p:nvSpPr>
        <p:spPr>
          <a:xfrm>
            <a:off x="108000" y="4653000"/>
            <a:ext cx="446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عمليات اجرائي بودجه از طريق سازمان مديريت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درحين خرج  توسط وزارت امور اقتصادي و دا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بعد از خرج  توسط ديوان محاسبات و تنظيم گزارش تفريغ بودج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رسيدگي به گزارش تفريغ بودجه از سوي مجل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4716360" y="4437000"/>
            <a:ext cx="4176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عيين هدفها و سياستهادر تنظيم بودجه سالانه توسط     شوراي اقتصا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ابلاغ بخشنامه بودجه از سوي رياست جمهو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پيش بيني درآمدها و منابع از سوي سازمان مديري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بودجه پيشنهادي از سوي دستگاههاي اج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لايحه بودجه از سوي دول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4"/>
          <p:cNvSpPr/>
          <p:nvPr/>
        </p:nvSpPr>
        <p:spPr>
          <a:xfrm>
            <a:off x="4788000" y="2602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بررسي لايحه بودجه در كميسيونهاي مختلف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رسيدگي نهائي در كميسيون تلفيق اص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صويب بودجه در صحن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324000" y="189000"/>
            <a:ext cx="4176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بلاغ بودجه به دستگاههاي دول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نظيم موافقتنامه و تبادل آن با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خصيص اعتبارات توسط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خذ وجه از 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و بطور كلي انجام كليه مراحل در جه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وصول درآمد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پرداخت هزين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 rot="5400000">
            <a:off x="5604840" y="3139920"/>
            <a:ext cx="5832360" cy="50508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سازمانهاي موثر بر بودج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084720" y="455760"/>
            <a:ext cx="208764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عنوان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11280" y="455760"/>
            <a:ext cx="540216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تاث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6084720" y="105264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قن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6084720" y="165420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يوان محاسب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6084720" y="22557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جر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6084720" y="28576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شوراي اقتص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22440" y="10447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دوين سياستهاي اقتصادي و مالي و تصويب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3"/>
          <p:cNvSpPr/>
          <p:nvPr/>
        </p:nvSpPr>
        <p:spPr>
          <a:xfrm>
            <a:off x="609480" y="1658880"/>
            <a:ext cx="540252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نترل و نظارت مستمر مالي و تدوين گزارش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609480" y="225576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خط مشي هاي اقتصادي و تدوين لايحه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609480" y="284472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هدايت و ايجاد هماهنگي در امور اقتصادي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6"/>
          <p:cNvSpPr/>
          <p:nvPr/>
        </p:nvSpPr>
        <p:spPr>
          <a:xfrm>
            <a:off x="6084720" y="345744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وزارت امور اقتصادي و دارائ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6084720" y="405612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084720" y="46324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سازمان مديريت و برنامه ري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611280" y="345456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 بيني و وصول درآمدهاي دولت و نظارت مالي قبل از خ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11280" y="40561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يافت و اداره كليه وجوه و درآمدهاي عمومي و اختصاص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1"/>
          <p:cNvSpPr/>
          <p:nvPr/>
        </p:nvSpPr>
        <p:spPr>
          <a:xfrm>
            <a:off x="611280" y="464508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نامه ريزي ، تنظيم لايحه و نظارت بر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611280" y="522144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بودجه استان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3"/>
          <p:cNvSpPr/>
          <p:nvPr/>
        </p:nvSpPr>
        <p:spPr>
          <a:xfrm>
            <a:off x="6084720" y="522936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ميته هاي برنامه ريزي استان و شهرست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4"/>
          <p:cNvSpPr/>
          <p:nvPr/>
        </p:nvSpPr>
        <p:spPr>
          <a:xfrm>
            <a:off x="611280" y="58039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آورد بودجه و ارائه گزارشهاي مال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6084720" y="58053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ستگاههاي اجرائ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31840" y="182520"/>
            <a:ext cx="8588160" cy="12495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5"/>
          <p:cNvSpPr/>
          <p:nvPr/>
        </p:nvSpPr>
        <p:spPr>
          <a:xfrm>
            <a:off x="289080" y="1700280"/>
            <a:ext cx="8604000" cy="2016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مقتدر و متمركز بوده و از حمايت قانوني و سياسي برخوردار 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عامل دستگاه با واحد مركزي بودجه و ارائه اطلاعات دق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24000" y="4149720"/>
            <a:ext cx="8569080" cy="2448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لاش درجهت حداكثر صرفه جوئي و كارآئي دستگاه از نظر منابع مالي ،امكانات و نيروي انس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هيه و اجراي برنامه هاي دول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"/>
          <p:cNvSpPr/>
          <p:nvPr/>
        </p:nvSpPr>
        <p:spPr>
          <a:xfrm>
            <a:off x="2556000" y="1341360"/>
            <a:ext cx="3887640" cy="647640"/>
          </a:xfrm>
          <a:prstGeom prst="ellipse">
            <a:avLst/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اصول ك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556000" y="3789360"/>
            <a:ext cx="3887640" cy="64764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9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وظيفه ا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Rectangle 2" descr=""/>
          <p:cNvPicPr/>
          <p:nvPr/>
        </p:nvPicPr>
        <p:blipFill>
          <a:blip r:embed="rId1"/>
          <a:stretch/>
        </p:blipFill>
        <p:spPr>
          <a:xfrm>
            <a:off x="122400" y="-36360"/>
            <a:ext cx="8583480" cy="1511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179280" y="1143000"/>
            <a:ext cx="7135920" cy="1736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ارقام هزينه اي منشا تعهد براي دولت نبوده و پرداخت بهاي كالا و خدمات منشاء بدهكاري  ميباشد و ارقام مخارج مصوب تنها مجوزي براي پرداخت هزينه هاي دولت در چهارچوب موافقتنامه هاي مربوطه مي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فقط براي استفاده دولت بتصويب رسيده و اشخاص حقيقي و حقوقي براي دعاوي و يا احقاق حق خود نمي توانند به آن اتكا كن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79280" y="2952720"/>
            <a:ext cx="712800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ارقام مندرج در بودجه منشا حقوقي مطالبات دولت نبوده بلكه منشا حقوقي اين مطالبات قوانين مالياتي و يا ساير قوانين مربوطه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رخلاف مخارج در مورد هزينه ها ذكر ارقام درآمدي براي دستگاه مربوطه ايجاد وظيفه و تكليف ميكن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380360" y="1066680"/>
            <a:ext cx="1512720" cy="18129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مخارج (تحديدي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380360" y="2952720"/>
            <a:ext cx="151128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درآم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(تخمي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315200" y="4608360"/>
            <a:ext cx="157644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ضوابط تصو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179280" y="4608360"/>
            <a:ext cx="712800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ودجه در قالب لايحه و از سوي دولت به مجلس تقديم ميگردد و نمايندگان نميتوانند در قالب   طرح آن را ارائه ده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مربوط به سال مشخصي بوده و ميبايست لايحه بودجه هر سال بتصويب برسد و نميتوان بودجه سال قبل را عينا براي سال بعد ارائه د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رسيدگي و تصويب بودجه بايد در صحن مجلس انجام گيريد و تصويب آن در كميسيونها امكانپذير ني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نمايندگان مجلس نميتوانند پشنهاداتي بدهند كه هزينه را افزايش ده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Oval 4"/>
          <p:cNvSpPr/>
          <p:nvPr/>
        </p:nvSpPr>
        <p:spPr>
          <a:xfrm rot="5400000">
            <a:off x="4319280" y="-2584440"/>
            <a:ext cx="647640" cy="604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روشهای برآورد و تنظیم درآم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24000" y="907920"/>
          <a:ext cx="8569080" cy="5784840"/>
        </p:xfrm>
        <a:graphic>
          <a:graphicData uri="http://schemas.openxmlformats.org/drawingml/2006/table">
            <a:tbl>
              <a:tblPr/>
              <a:tblGrid>
                <a:gridCol w="2062080"/>
                <a:gridCol w="2065320"/>
                <a:gridCol w="3182760"/>
                <a:gridCol w="12589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عای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زای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شرح اقدام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برآو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فاصله یک ساله نادیده گرفته شده و اوضاع واحوال اقتصادی که در نظر گرفته نمی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چون درآمد سال مورد نظر قطعا وصول شده بودجه دارای استحکام و تعادل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بنای برآورد درآمدها  ، آخرین بودجه ای که اجرای آن خاتمه پذیرفته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یباش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سال ما قبل آخ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دلیل وجود منطق مربوطه در بسیاری از کشورها استفاده می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حد متوسط و آهنگ افزایش یا کاهش هر یک از انواع درآمدها در یک دوره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ساله قبلی مبنا قرار میگی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حد متوسط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مبانی علمی وروشهای  آماری همزمان با تخصص و تجارب کارشناس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روشهای دقیق آماری برای بررسی اثر عوامل گوناگون در وصول درآمدها در یک محدوده زمانی مشخ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پیش بینی مستقی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درکشورهائی که با فقر آماری مواجه هستند استفاده از این روش دشوار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عدم وجود خطاهای فاحش روشهای قبلی و نزدیک بودن درآمد وصولی با درآمد پیش بینی ش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راساس تجزیه و تحلیل همبستگی و جمع آوری پرسشنامه ها و استفاده از فنون پیشرفته آماری چون ضریب همبستگی ، سریهای زمانی و محاسبه کشش پذیر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سنجیده منظ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Diagram 4" descr=""/>
          <p:cNvPicPr/>
          <p:nvPr/>
        </p:nvPicPr>
        <p:blipFill>
          <a:blip r:embed="rId1"/>
          <a:stretch/>
        </p:blipFill>
        <p:spPr>
          <a:xfrm>
            <a:off x="755640" y="96840"/>
            <a:ext cx="7632720" cy="6638760"/>
          </a:xfrm>
          <a:prstGeom prst="rect">
            <a:avLst/>
          </a:prstGeom>
          <a:ln w="0">
            <a:noFill/>
          </a:ln>
        </p:spPr>
      </p:pic>
      <p:grpSp>
        <p:nvGrpSpPr>
          <p:cNvPr id="413" name="Curved Left Arrow 6"/>
          <p:cNvGrpSpPr/>
          <p:nvPr/>
        </p:nvGrpSpPr>
        <p:grpSpPr>
          <a:xfrm>
            <a:off x="6076800" y="2189160"/>
            <a:ext cx="1182960" cy="2382840"/>
            <a:chOff x="6076800" y="2189160"/>
            <a:chExt cx="1182960" cy="2382840"/>
          </a:xfrm>
        </p:grpSpPr>
        <p:pic>
          <p:nvPicPr>
            <p:cNvPr id="414" name="Curved Left Arrow 6" descr=""/>
            <p:cNvPicPr/>
            <p:nvPr/>
          </p:nvPicPr>
          <p:blipFill>
            <a:blip r:embed="rId2"/>
            <a:stretch/>
          </p:blipFill>
          <p:spPr>
            <a:xfrm>
              <a:off x="6076800" y="2189160"/>
              <a:ext cx="11829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24480" y="2438280"/>
              <a:ext cx="6858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Curved Left Arrow 7"/>
          <p:cNvGrpSpPr/>
          <p:nvPr/>
        </p:nvGrpSpPr>
        <p:grpSpPr>
          <a:xfrm>
            <a:off x="1274760" y="2139840"/>
            <a:ext cx="1187280" cy="2303640"/>
            <a:chOff x="1274760" y="2139840"/>
            <a:chExt cx="1187280" cy="2303640"/>
          </a:xfrm>
        </p:grpSpPr>
        <p:pic>
          <p:nvPicPr>
            <p:cNvPr id="417" name="Curved Left Arrow 7" descr=""/>
            <p:cNvPicPr/>
            <p:nvPr/>
          </p:nvPicPr>
          <p:blipFill>
            <a:blip r:embed="rId3"/>
            <a:stretch/>
          </p:blipFill>
          <p:spPr>
            <a:xfrm>
              <a:off x="1274760" y="2139840"/>
              <a:ext cx="118728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10800000">
              <a:off x="1523520" y="2362320"/>
              <a:ext cx="6858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Curved Left Arrow 8"/>
          <p:cNvGrpSpPr/>
          <p:nvPr/>
        </p:nvGrpSpPr>
        <p:grpSpPr>
          <a:xfrm>
            <a:off x="2724120" y="249120"/>
            <a:ext cx="3054240" cy="1219320"/>
            <a:chOff x="2724120" y="249120"/>
            <a:chExt cx="3054240" cy="1219320"/>
          </a:xfrm>
        </p:grpSpPr>
        <p:pic>
          <p:nvPicPr>
            <p:cNvPr id="420" name="Curved Left Arrow 8" descr=""/>
            <p:cNvPicPr/>
            <p:nvPr/>
          </p:nvPicPr>
          <p:blipFill>
            <a:blip r:embed="rId4"/>
            <a:stretch/>
          </p:blipFill>
          <p:spPr>
            <a:xfrm>
              <a:off x="2724120" y="249120"/>
              <a:ext cx="3054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 rot="16200000">
              <a:off x="3908160" y="-434880"/>
              <a:ext cx="7178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Curved Left Arrow 9"/>
          <p:cNvGrpSpPr/>
          <p:nvPr/>
        </p:nvGrpSpPr>
        <p:grpSpPr>
          <a:xfrm>
            <a:off x="2682720" y="5162400"/>
            <a:ext cx="3052800" cy="1335240"/>
            <a:chOff x="2682720" y="5162400"/>
            <a:chExt cx="3052800" cy="1335240"/>
          </a:xfrm>
        </p:grpSpPr>
        <p:pic>
          <p:nvPicPr>
            <p:cNvPr id="423" name="Curved Left Arrow 9" descr=""/>
            <p:cNvPicPr/>
            <p:nvPr/>
          </p:nvPicPr>
          <p:blipFill>
            <a:blip r:embed="rId5"/>
            <a:stretch/>
          </p:blipFill>
          <p:spPr>
            <a:xfrm>
              <a:off x="2682720" y="5162400"/>
              <a:ext cx="30528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5400000">
              <a:off x="3771360" y="4533840"/>
              <a:ext cx="8384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11"/>
          <p:cNvSpPr/>
          <p:nvPr/>
        </p:nvSpPr>
        <p:spPr>
          <a:xfrm>
            <a:off x="898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خواست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6"/>
          <p:cNvSpPr/>
          <p:nvPr/>
        </p:nvSpPr>
        <p:spPr>
          <a:xfrm>
            <a:off x="2914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نهاد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8"/>
          <p:cNvGrpSpPr/>
          <p:nvPr/>
        </p:nvGrpSpPr>
        <p:grpSpPr>
          <a:xfrm>
            <a:off x="898560" y="3917880"/>
            <a:ext cx="5473800" cy="720720"/>
            <a:chOff x="898560" y="3917880"/>
            <a:chExt cx="5473800" cy="720720"/>
          </a:xfrm>
        </p:grpSpPr>
        <p:sp>
          <p:nvSpPr>
            <p:cNvPr id="428" name="AutoShape 10"/>
            <p:cNvSpPr/>
            <p:nvPr/>
          </p:nvSpPr>
          <p:spPr>
            <a:xfrm>
              <a:off x="898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هاي مالي-عمليات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15"/>
            <p:cNvSpPr/>
            <p:nvPr/>
          </p:nvSpPr>
          <p:spPr>
            <a:xfrm>
              <a:off x="2914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 انجام عملي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9"/>
            <p:cNvSpPr/>
            <p:nvPr/>
          </p:nvSpPr>
          <p:spPr>
            <a:xfrm>
              <a:off x="493092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خلاصه گزارش انجام عملی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20"/>
          <p:cNvSpPr/>
          <p:nvPr/>
        </p:nvSpPr>
        <p:spPr>
          <a:xfrm>
            <a:off x="4930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4"/>
          <p:cNvSpPr/>
          <p:nvPr/>
        </p:nvSpPr>
        <p:spPr>
          <a:xfrm>
            <a:off x="6946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7"/>
          <p:cNvGrpSpPr/>
          <p:nvPr/>
        </p:nvGrpSpPr>
        <p:grpSpPr>
          <a:xfrm>
            <a:off x="826560" y="2924280"/>
            <a:ext cx="7491960" cy="720720"/>
            <a:chOff x="826560" y="2924280"/>
            <a:chExt cx="7491960" cy="720720"/>
          </a:xfrm>
        </p:grpSpPr>
        <p:sp>
          <p:nvSpPr>
            <p:cNvPr id="434" name="AutoShape 12"/>
            <p:cNvSpPr/>
            <p:nvPr/>
          </p:nvSpPr>
          <p:spPr>
            <a:xfrm flipH="1">
              <a:off x="82620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موافقتنامه ها و توزيع اعتبار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7"/>
            <p:cNvSpPr/>
            <p:nvPr/>
          </p:nvSpPr>
          <p:spPr>
            <a:xfrm flipH="1">
              <a:off x="284328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بادل موافقتنامه ها و ابلاغ تخصي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21"/>
            <p:cNvSpPr/>
            <p:nvPr/>
          </p:nvSpPr>
          <p:spPr>
            <a:xfrm flipH="1">
              <a:off x="485856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بلاغ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flipH="1">
              <a:off x="687564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یب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252360" y="691920"/>
            <a:ext cx="8567280" cy="5785200"/>
            <a:chOff x="252360" y="691920"/>
            <a:chExt cx="8567280" cy="5785200"/>
          </a:xfrm>
        </p:grpSpPr>
        <p:grpSp>
          <p:nvGrpSpPr>
            <p:cNvPr id="439" name="Group 45"/>
            <p:cNvGrpSpPr/>
            <p:nvPr/>
          </p:nvGrpSpPr>
          <p:grpSpPr>
            <a:xfrm>
              <a:off x="252360" y="691920"/>
              <a:ext cx="8567280" cy="4105080"/>
              <a:chOff x="252360" y="691920"/>
              <a:chExt cx="8567280" cy="4105080"/>
            </a:xfrm>
          </p:grpSpPr>
          <p:sp>
            <p:nvSpPr>
              <p:cNvPr id="440" name="AutoShape 4"/>
              <p:cNvSpPr/>
              <p:nvPr/>
            </p:nvSpPr>
            <p:spPr>
              <a:xfrm rot="16200000">
                <a:off x="-148644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واحد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5"/>
              <p:cNvSpPr/>
              <p:nvPr/>
            </p:nvSpPr>
            <p:spPr>
              <a:xfrm rot="16200000">
                <a:off x="52992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دستگاههاي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"/>
              <p:cNvSpPr/>
              <p:nvPr/>
            </p:nvSpPr>
            <p:spPr>
              <a:xfrm rot="16200000">
                <a:off x="25578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سازمان مديريت و برنامه ريز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7"/>
              <p:cNvSpPr/>
              <p:nvPr/>
            </p:nvSpPr>
            <p:spPr>
              <a:xfrm rot="16200000">
                <a:off x="457488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جري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8"/>
              <p:cNvSpPr/>
              <p:nvPr/>
            </p:nvSpPr>
            <p:spPr>
              <a:xfrm rot="16200000">
                <a:off x="65916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قنن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9"/>
              <p:cNvSpPr/>
              <p:nvPr/>
            </p:nvSpPr>
            <p:spPr>
              <a:xfrm rot="16200000">
                <a:off x="127080" y="3938760"/>
                <a:ext cx="897840" cy="647640"/>
              </a:xfrm>
              <a:prstGeom prst="ellipse">
                <a:avLst/>
              </a:prstGeom>
              <a:solidFill>
                <a:srgbClr val="a5644e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عملي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AutoShape 30"/>
            <p:cNvSpPr/>
            <p:nvPr/>
          </p:nvSpPr>
          <p:spPr>
            <a:xfrm>
              <a:off x="3924360" y="5842080"/>
              <a:ext cx="1474560" cy="635040"/>
            </a:xfrm>
            <a:prstGeom prst="roundRect">
              <a:avLst>
                <a:gd name="adj" fmla="val 16667"/>
              </a:avLst>
            </a:prstGeom>
            <a:solidFill>
              <a:srgbClr val="a5644e"/>
            </a:solidFill>
            <a:ln w="0">
              <a:noFill/>
            </a:ln>
            <a:effectLst>
              <a:outerShdw dist="17819" dir="2700000" blurRad="0" rotWithShape="0">
                <a:srgbClr val="633c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وزارت امور اقتصادي و دارائ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0"/>
          <p:cNvGrpSpPr/>
          <p:nvPr/>
        </p:nvGrpSpPr>
        <p:grpSpPr>
          <a:xfrm>
            <a:off x="826560" y="289080"/>
            <a:ext cx="7561800" cy="5578200"/>
            <a:chOff x="826560" y="289080"/>
            <a:chExt cx="7561800" cy="5578200"/>
          </a:xfrm>
        </p:grpSpPr>
        <p:grpSp>
          <p:nvGrpSpPr>
            <p:cNvPr id="448" name="Group 46"/>
            <p:cNvGrpSpPr/>
            <p:nvPr/>
          </p:nvGrpSpPr>
          <p:grpSpPr>
            <a:xfrm>
              <a:off x="826560" y="289080"/>
              <a:ext cx="7561800" cy="1411200"/>
              <a:chOff x="826560" y="289080"/>
              <a:chExt cx="7561800" cy="1411200"/>
            </a:xfrm>
          </p:grpSpPr>
          <p:sp>
            <p:nvSpPr>
              <p:cNvPr id="449" name="AutoShape 14"/>
              <p:cNvSpPr/>
              <p:nvPr/>
            </p:nvSpPr>
            <p:spPr>
              <a:xfrm flipH="1">
                <a:off x="82620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خط مشي 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18"/>
              <p:cNvSpPr/>
              <p:nvPr/>
            </p:nvSpPr>
            <p:spPr>
              <a:xfrm flipH="1">
                <a:off x="2843280" y="907920"/>
                <a:ext cx="1442880" cy="720720"/>
              </a:xfrm>
              <a:custGeom>
                <a:avLst/>
                <a:gdLst>
                  <a:gd name="textAreaLeft" fmla="*/ 360 w 1442880"/>
                  <a:gd name="textAreaRight" fmla="*/ 1443600 w 14428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بخشنامه بودجه و 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22"/>
              <p:cNvSpPr/>
              <p:nvPr/>
            </p:nvSpPr>
            <p:spPr>
              <a:xfrm flipH="1">
                <a:off x="485856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44"/>
              <p:cNvGrpSpPr/>
              <p:nvPr/>
            </p:nvGrpSpPr>
            <p:grpSpPr>
              <a:xfrm>
                <a:off x="6948360" y="289080"/>
                <a:ext cx="1440000" cy="1411200"/>
                <a:chOff x="6948360" y="289080"/>
                <a:chExt cx="1440000" cy="1411200"/>
              </a:xfrm>
            </p:grpSpPr>
            <p:sp>
              <p:nvSpPr>
                <p:cNvPr id="453" name="AutoShape 27"/>
                <p:cNvSpPr/>
                <p:nvPr/>
              </p:nvSpPr>
              <p:spPr>
                <a:xfrm>
                  <a:off x="6948360" y="547560"/>
                  <a:ext cx="1440000" cy="1152720"/>
                </a:xfrm>
                <a:prstGeom prst="pi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4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نيازها و احتياجات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8"/>
                <p:cNvSpPr/>
                <p:nvPr/>
              </p:nvSpPr>
              <p:spPr>
                <a:xfrm>
                  <a:off x="7135920" y="289080"/>
                  <a:ext cx="1079280" cy="718920"/>
                </a:xfrm>
                <a:prstGeom prst="ellips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8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جامع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AutoShape 31"/>
            <p:cNvSpPr/>
            <p:nvPr/>
          </p:nvSpPr>
          <p:spPr>
            <a:xfrm>
              <a:off x="3886200" y="4800600"/>
              <a:ext cx="1600200" cy="1066680"/>
            </a:xfrm>
            <a:prstGeom prst="upDownArrow">
              <a:avLst>
                <a:gd name="adj1" fmla="val 56713"/>
                <a:gd name="adj2" fmla="val 28074"/>
              </a:avLst>
            </a:prstGeom>
            <a:solidFill>
              <a:srgbClr val="f0a22e"/>
            </a:solidFill>
            <a:ln w="0">
              <a:noFill/>
            </a:ln>
            <a:effectLst>
              <a:outerShdw dist="17819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پيش بيني درآمده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AutoShape 33"/>
          <p:cNvSpPr/>
          <p:nvPr/>
        </p:nvSpPr>
        <p:spPr>
          <a:xfrm>
            <a:off x="5533920" y="5734080"/>
            <a:ext cx="1944720" cy="720720"/>
          </a:xfrm>
          <a:prstGeom prst="leftRightArrow">
            <a:avLst>
              <a:gd name="adj1" fmla="val 50000"/>
              <a:gd name="adj2" fmla="val 53716"/>
            </a:avLst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4"/>
          <p:cNvSpPr/>
          <p:nvPr/>
        </p:nvSpPr>
        <p:spPr>
          <a:xfrm rot="16200000">
            <a:off x="7401600" y="5736240"/>
            <a:ext cx="1092240" cy="592200"/>
          </a:xfrm>
          <a:prstGeom prst="roundRect">
            <a:avLst>
              <a:gd name="adj" fmla="val 11111"/>
            </a:avLst>
          </a:prstGeom>
          <a:solidFill>
            <a:srgbClr val="a5644e"/>
          </a:solidFill>
          <a:ln w="0">
            <a:noFill/>
          </a:ln>
          <a:effectLst>
            <a:outerShdw dist="17819" dir="2700000" blurRad="0" rotWithShape="0">
              <a:srgbClr val="633c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ديوان محاسب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35"/>
          <p:cNvCxnSpPr/>
          <p:nvPr/>
        </p:nvCxnSpPr>
        <p:spPr>
          <a:xfrm>
            <a:off x="2700360" y="4797360"/>
            <a:ext cx="1224720" cy="1153440"/>
          </a:xfrm>
          <a:prstGeom prst="bentConnector3">
            <a:avLst>
              <a:gd name="adj1" fmla="val 64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cxnSp>
        <p:nvCxnSpPr>
          <p:cNvPr id="459" name="AutoShape 36"/>
          <p:cNvCxnSpPr/>
          <p:nvPr/>
        </p:nvCxnSpPr>
        <p:spPr>
          <a:xfrm flipV="1" rot="16200000">
            <a:off x="2448720" y="4832640"/>
            <a:ext cx="1512000" cy="1440360"/>
          </a:xfrm>
          <a:prstGeom prst="bentConnector3">
            <a:avLst>
              <a:gd name="adj1" fmla="val 428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0" name="Rectangle 37"/>
          <p:cNvSpPr/>
          <p:nvPr/>
        </p:nvSpPr>
        <p:spPr>
          <a:xfrm>
            <a:off x="2627280" y="55897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ما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8"/>
          <p:cNvSpPr/>
          <p:nvPr/>
        </p:nvSpPr>
        <p:spPr>
          <a:xfrm rot="16200000">
            <a:off x="1510920" y="5337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واريز وجه تخصي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AutoShape 41"/>
          <p:cNvCxnSpPr>
            <a:stCxn id="457" idx="2"/>
            <a:endCxn id="444" idx="1"/>
          </p:cNvCxnSpPr>
          <p:nvPr/>
        </p:nvCxnSpPr>
        <p:spPr>
          <a:xfrm flipV="1">
            <a:off x="8244000" y="4800600"/>
            <a:ext cx="396000" cy="1232280"/>
          </a:xfrm>
          <a:prstGeom prst="bentConnector2">
            <a:avLst/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3" name="Rectangle 42"/>
          <p:cNvSpPr/>
          <p:nvPr/>
        </p:nvSpPr>
        <p:spPr>
          <a:xfrm rot="16200000">
            <a:off x="7547760" y="5420160"/>
            <a:ext cx="1752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تفريغ بودج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Diagram 3" descr=""/>
          <p:cNvPicPr/>
          <p:nvPr/>
        </p:nvPicPr>
        <p:blipFill>
          <a:blip r:embed="rId1"/>
          <a:stretch/>
        </p:blipFill>
        <p:spPr>
          <a:xfrm>
            <a:off x="-19080" y="6480"/>
            <a:ext cx="917568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"/>
          <p:cNvSpPr/>
          <p:nvPr/>
        </p:nvSpPr>
        <p:spPr>
          <a:xfrm>
            <a:off x="-695880" y="533520"/>
            <a:ext cx="1241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 وپيشنهاد بودجه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4680360" y="198108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بخشنامه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-1335600" y="3124080"/>
            <a:ext cx="114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بودجه در دستگاههاي اجراي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-533520" y="446724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بررسي بودجه در معاونت برنامه ريزي ونظارت راهبردي رياست جمهو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5-Point Star 5"/>
          <p:cNvSpPr/>
          <p:nvPr/>
        </p:nvSpPr>
        <p:spPr>
          <a:xfrm>
            <a:off x="8381880" y="441972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-Point Star 6"/>
          <p:cNvSpPr/>
          <p:nvPr/>
        </p:nvSpPr>
        <p:spPr>
          <a:xfrm>
            <a:off x="8381880" y="3124080"/>
            <a:ext cx="762120" cy="60984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840"/>
              <a:gd name="textAreaBottom" fmla="*/ 465840 h 60984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5-Point Star 7"/>
          <p:cNvSpPr/>
          <p:nvPr/>
        </p:nvSpPr>
        <p:spPr>
          <a:xfrm>
            <a:off x="8458200" y="2057400"/>
            <a:ext cx="685800" cy="533520"/>
          </a:xfrm>
          <a:custGeom>
            <a:avLst/>
            <a:gdLst>
              <a:gd name="textAreaLeft" fmla="*/ 211680 w 685800"/>
              <a:gd name="textAreaRight" fmla="*/ 474120 w 68580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685800" h="533400">
                <a:moveTo>
                  <a:pt x="1" y="203740"/>
                </a:moveTo>
                <a:lnTo>
                  <a:pt x="261954" y="203742"/>
                </a:lnTo>
                <a:lnTo>
                  <a:pt x="342900" y="0"/>
                </a:lnTo>
                <a:lnTo>
                  <a:pt x="423846" y="203742"/>
                </a:lnTo>
                <a:lnTo>
                  <a:pt x="685799" y="203740"/>
                </a:lnTo>
                <a:lnTo>
                  <a:pt x="473874" y="329658"/>
                </a:lnTo>
                <a:lnTo>
                  <a:pt x="554824" y="533398"/>
                </a:lnTo>
                <a:lnTo>
                  <a:pt x="342900" y="407479"/>
                </a:lnTo>
                <a:lnTo>
                  <a:pt x="130976" y="533398"/>
                </a:lnTo>
                <a:lnTo>
                  <a:pt x="211926" y="329658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b58b80"/>
          </a:solidFill>
          <a:ln w="25560">
            <a:solidFill>
              <a:srgbClr val="8465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ffffff"/>
                </a:solidFill>
                <a:latin typeface="Arial"/>
                <a:cs typeface="B Titr"/>
              </a:rPr>
              <a:t>بخشنامه بودج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-944640" y="1523880"/>
            <a:ext cx="118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  <a:cs typeface="B Titr"/>
              </a:rPr>
              <a:t>سياستها  وخط مشي ها ي لازم درباره تهيه بودجه دردستگاهها براي سال آي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-581760" y="2362320"/>
            <a:ext cx="11229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Titr"/>
              </a:rPr>
              <a:t>بهمراه آ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00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برنامه زمان بن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5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دستور كار ها منضم به فرمهاي مخصوص اخذ اطلاع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مالي  وعمليات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ضوابط مالي ناظر به تهيه وتنظيم بود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b0f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تاريخ ارسال بودجه پيشنهادي  به معاونت برنامه ري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ونظارت راهبردي ارسال مي گر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1" descr=""/>
          <p:cNvPicPr/>
          <p:nvPr/>
        </p:nvPicPr>
        <p:blipFill>
          <a:blip r:embed="rId1"/>
          <a:stretch/>
        </p:blipFill>
        <p:spPr>
          <a:xfrm>
            <a:off x="438120" y="208080"/>
            <a:ext cx="8267760" cy="11142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0" y="1600200"/>
            <a:ext cx="89218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سقف اعتبارات هزينه  وتملك دارايي هاي سرمايه ا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دستورالعمل تهيه  وتنظيم برنامه سالانه دول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هزينه اي  وبودج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cs typeface="B Titr"/>
              </a:rPr>
              <a:t>تملك دارايي هاي  سرمايه اي دستگاههاي م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شركتهاي دولت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5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دستگاههاي استان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6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ضوابط مالي ناظر برتنظيم بودجه كل كشو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تهيه وتنظيم بودجه در دستگاههاي اجراي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210960" y="1600200"/>
            <a:ext cx="8933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دفتر بودجه يا اداره كل بودج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هيه و تنظيم بودجه پيشنهادي دستگاهها وواحدهاي اجراي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صويب وزير يا بالاترين مقام دستگاه اجرايي ويا مجمع عمو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      صاحبان س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2:59:33Z</dcterms:created>
  <dc:creator>m</dc:creator>
  <dc:description/>
  <dc:language>en-US</dc:language>
  <cp:lastModifiedBy>Guest</cp:lastModifiedBy>
  <dcterms:modified xsi:type="dcterms:W3CDTF">2011-12-18T18:02:45Z</dcterms:modified>
  <cp:revision>70</cp:revision>
  <dc:subject/>
  <dc:title>Slide 1</dc:title>
</cp:coreProperties>
</file>