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4177-D623-47F8-9286-C29B74BED2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بودجه از تنظيم تا كنتر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1702-C981-4D68-B62A-A29C93F76B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تهيه وتنظيم  وپيشنهاد بودج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تصويب بودج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اجرا  ي بودج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كنترل بودج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274E-8083-477F-BB89-EDCCCC462E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80BA-D5E6-49B5-BEED-F85DCC175D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بخشنامه بودج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تهيه وتنظيم بودجه در دستگاههاي اجراي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بررسي بودجه در معاونت برنامه ريزي ونظارت راهبردي رياست جمهور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A103-F559-4890-A0FF-65892B12B1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14F4-6C78-478B-A3D5-47557FE9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2332-A933-433D-A60A-C6E7A7C7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B81FB-5FFA-4363-B8C6-AB02DA65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B1CAB-D22A-4A47-AABF-D2908A0B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2B833-8BA7-48FE-93A7-47B09FF0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F7668-3D6A-49D7-AAA2-1C48A92B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22E36-893E-44F6-8591-DCA4A04E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77C65-AAD0-4E8E-A5B2-9692625F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9222A-59FD-4FA6-B7AA-4B1AA5D7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A642E-77D0-4E14-82E3-1867FD2D7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CCDE3-97D9-4658-AFFD-4BE2F5AD9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7839-47CE-4BB8-963A-B940B9F4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7F6B-C197-4644-96AC-E2C1C5FFD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BCC3-BC5D-4C6D-A82C-3CA48A682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C466-CD85-4EB6-BBF9-93B1B5C8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AC26-B079-4E38-A457-2CCC1FA9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F48E-D7D0-4945-8C4C-F74BB12C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A802-59C3-4C10-B38E-F8580AF7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0986-1B24-43AD-883E-308AF1A4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1A37-9427-4D1C-A39A-E9D18059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B92D-822D-4A30-8FD5-54C23987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2D9D-0582-48B7-A3D9-0320988C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67FC-6B0C-4D01-A62A-532B0032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ABBC-7A66-423B-A082-09A0B658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FF72-12AF-409C-8B31-14860AA7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9113-28E9-4332-A886-6C1E1FF9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4070E-376B-466F-A8C0-B0EE856DD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1DD88-29C3-4D69-B6B9-A122F5F2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A5601-2F12-4B03-9359-1C54F968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9CEC6-F828-4350-954C-CDC37F07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F0C88-B7FA-42A0-9CB3-A6402A36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AD80-EB97-4009-B8F6-570EC274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EB08C-47FF-437A-930E-263530A2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33CAA-03CD-403A-99F0-1107BA03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1367A-AA15-4850-BEC1-AE0BB755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2B1EA-5D15-4EA6-8B3C-00A84F9D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2727A-39F4-457C-A027-F5F66AF7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06346-F9A0-4DF9-819E-9B8C842A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BCA22-BBDC-478E-9FD8-BF5858C8A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B35ED-81E5-4D0C-AA1A-204A06214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8D904-0883-461B-8D61-F7D16F20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C25FA-ABCB-41C9-BC05-83137C67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ECC3-B26E-4E5A-8DF6-619CC42C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7C4DD-3A66-414C-A900-8B2D8A85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AC9C6-FB19-4C18-8ACA-A73308CF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C3DEC-8FFC-469A-AF06-400BFC82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7E4B3-9EEF-4ACF-BF56-D0F1334B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CA2B7-DBD4-4189-A9EA-7EA8D3A8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EFB56-4885-49A4-A363-DD9C4395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BFA99-C30C-4DA9-9427-6536500B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427D3-A043-4C46-B672-BAB0235A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CB91F-B90A-4693-8B38-A0F8238A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E49AD-DCAF-40E9-A27C-123C08326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7B91-4978-40BE-89D4-89FB5523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F1F7F-85CD-415D-B67F-9690A303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6DF66-B51C-4977-8E29-8740A2FE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30AC9-C670-459B-8FE1-5BD6B816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F2DCE-0984-4305-A35B-57C422D6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C1C33-248F-42EB-A28C-4BFD1ED0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08795-4464-44A2-9311-D1B430D3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5FBDF-659C-467C-BA8D-BE79D906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B33A7-91DC-4D4B-B04B-11B5152A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2CA46-848C-40EE-88F2-8C726767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2A183-6ECA-4B3A-B70E-FB86EEA4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6715-C9C0-49DB-8026-7B33C0E1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A2CA0-E24E-449D-A420-800E27368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6839E-8436-45A7-8C40-4D7D69ED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5D9FB-8A9C-4AE3-B223-19C31370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17F48-6826-4E5F-AC5D-ADD249E2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F03CF-92C3-4DD3-9C5F-7D1066CE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3E2B4-B161-48AE-AE6A-789752BE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ADD9C-4018-4F69-B296-C1DB1931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C90D9-F59F-4969-AE74-81CD507F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1F997-25B1-4D9B-8487-575402F3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480CD-756D-4490-B3DD-A95650CF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8416-23E8-43AA-9CA2-38DCC6B2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F38A2-4AEA-45F8-8266-5D9FF5AE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4FF69-4413-49DC-96DD-3A41CBA7C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C577F-CDFC-4C19-A928-16D30E31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71C08-092B-4C20-AE2E-98527B7C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8CDB0-17B0-4687-BEAC-3970EF73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84704-512A-43D4-9509-7D029E39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5060E-F156-4276-99CF-6B0BAA3B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79AB6-C9B7-43B4-84F9-8379C471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A2147-5713-486A-A44F-59F1CE50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C245C-3F8A-4B67-98A0-6ED132B2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2B07-6D3A-4A65-93C6-C2584913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AF346-3426-4011-8CD6-8F8D7E76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31BEE-8D76-48E0-AAA1-69ECDBFD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940FE-95D6-4879-B2D1-578A4E05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D280B-B07C-4DB0-8602-E0CA4D4F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7ACB0-F2A1-4565-8830-CA460A2AA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F2628-C2AF-45C7-98D9-3DEA6FEA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977E1-F5F9-4D47-9035-C806CBA1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087DA-5800-4386-ACA1-C307CB6C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DBB6A-640B-4330-9DD9-CA440B3F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E2920-6827-40FD-8A29-29214507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6B33-73C5-4684-89EE-571F81D1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6B12B-B2DC-41C6-813D-6C470B55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7B23A-8FE0-443C-8AF3-AB8A61CA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2775A-8313-4936-BB72-D914849E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E415A-0BC7-491D-ABCA-92C8F910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28401-0AE2-464A-8777-886F9099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52DB1-EAF3-4A5A-82C6-5C1872819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9BBC2-A620-4968-B597-5BE925A86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FC5E1-1D84-4F22-949A-5BAE78CB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FC1C1-2B60-47D5-96F9-B79D3AF0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E03E1-6282-4849-9177-48B01639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7D88-7EC9-4BAC-9CEF-0F888707982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9998-D849-4A68-8FD5-033EBBEDD8A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5A54-A644-4871-8D9F-FC921BB9A55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64D2-781D-44D1-8A0E-2EDF5907CB4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390E-62B7-4369-96AF-3930C9EFEDD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DE18-8E46-43BA-9E19-71672E05DC8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9EC5-46E6-4C06-A282-7B901B79557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47B8-A3DF-4ACC-BD13-F248EE82816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899F-9A14-438F-9977-8B8ACA75271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3" descr=""/>
          <p:cNvPicPr/>
          <p:nvPr/>
        </p:nvPicPr>
        <p:blipFill>
          <a:blip r:embed="rId1"/>
          <a:stretch/>
        </p:blipFill>
        <p:spPr>
          <a:xfrm>
            <a:off x="-6480" y="-890640"/>
            <a:ext cx="9156960" cy="7053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solidFill>
            <a:srgbClr val="b58b8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ffff"/>
                </a:solidFill>
                <a:latin typeface="Arial"/>
              </a:rPr>
              <a:t>بررسي بودجه در معاونت برنامه ريزي ونظارت                راهبردي رياست جمهور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2"/>
          <p:cNvSpPr/>
          <p:nvPr/>
        </p:nvSpPr>
        <p:spPr>
          <a:xfrm>
            <a:off x="0" y="1779480"/>
            <a:ext cx="89154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آغاز بررسي در مديريتهاي مربوط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تكميل اطلاعات و توجيه ارقام پيشنهادي توسط دستگاههاي اجراي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تهيه پيش نويس مقدماتي بودج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fa-IR" sz="2400" spc="-1" strike="noStrike">
                <a:solidFill>
                  <a:srgbClr val="595959"/>
                </a:solidFill>
                <a:latin typeface="Arial"/>
              </a:rPr>
              <a:t>تاييد شوراي اقتصا 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بررسي در هيئت وزيران (تاييد يا ارجاع براي اصلاح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ارسال لايحه بودجه به مجلس شوراي اسلامي با امضاي رئيس جمه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لايحه بودجه در يك ماده و چند تبصره تنظيم مي گردد .تبصره هاي بودج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  نيز منابع تامين اعتبار را مشخص و چگونگي انجام هزينه ها وتخصي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   اعتبار به دستگاههاي اجرايي را مشخص مي كنن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b58b8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7200" spc="-1" strike="noStrike">
                <a:solidFill>
                  <a:srgbClr val="ffffff"/>
                </a:solidFill>
                <a:latin typeface="Arial"/>
              </a:rPr>
              <a:t>تصويب بودجه</a:t>
            </a:r>
            <a:r>
              <a:rPr b="1" lang="fa-IR" sz="7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2"/>
          <p:cNvSpPr/>
          <p:nvPr/>
        </p:nvSpPr>
        <p:spPr>
          <a:xfrm>
            <a:off x="-1291680" y="1600200"/>
            <a:ext cx="12153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</a:rPr>
              <a:t>اصل 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</a:rPr>
              <a:t>52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</a:rPr>
              <a:t> قانون اساسي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:تصويب بودجه از وظايف و اختيارات قوه قانونگذاري ا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تقديم لايحه در جلسه علني مجلس توسط رئيس قوه مجريه با ارايه توضيحات لاز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ارجاع لايحه بودجه به تمام نمايندگان و كميسيونهاي مربوطه توسط رئيس مجل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تصويب لايحه بودجه در </a:t>
            </a:r>
            <a:r>
              <a:rPr b="1" lang="fa-IR" sz="2400" spc="-1" strike="noStrike">
                <a:solidFill>
                  <a:srgbClr val="ff0000"/>
                </a:solidFill>
                <a:latin typeface="Arial"/>
              </a:rPr>
              <a:t>كميسيونها ي مجل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ارايه لايحه به </a:t>
            </a:r>
            <a:r>
              <a:rPr b="1" lang="fa-IR" sz="2400" spc="-1" strike="noStrike">
                <a:solidFill>
                  <a:srgbClr val="ff0000"/>
                </a:solidFill>
                <a:latin typeface="Arial"/>
              </a:rPr>
              <a:t>كميسيون تلفي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طرح لايحه نهايي شده در </a:t>
            </a:r>
            <a:r>
              <a:rPr b="1" lang="fa-IR" sz="2400" spc="-1" strike="noStrike">
                <a:solidFill>
                  <a:srgbClr val="ff0000"/>
                </a:solidFill>
                <a:latin typeface="Arial"/>
              </a:rPr>
              <a:t>صحن علني مجل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تصويب بودجه با اكثريت آر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ارجاع  بودجه تصويب شده  به </a:t>
            </a:r>
            <a:r>
              <a:rPr b="1" lang="fa-IR" sz="2400" spc="-1" strike="noStrike">
                <a:solidFill>
                  <a:srgbClr val="ff0000"/>
                </a:solidFill>
                <a:latin typeface="Arial"/>
              </a:rPr>
              <a:t>شوراي نگهبان 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با امضاي رئيس مجل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اعلام موارد اصلاحي ويا تاييد شوراي نگهبا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طرح لايحه اصلاح شده در جلسه علني مجلس براي تصوي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ارسال مجدد به شوراي نگهبا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fa-IR" sz="2400" spc="-1" strike="noStrike">
                <a:solidFill>
                  <a:srgbClr val="c00000"/>
                </a:solidFill>
                <a:latin typeface="Arial"/>
              </a:rPr>
              <a:t>ابلاغ  قانون بودجه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به دولت براي اجرا با </a:t>
            </a:r>
            <a:r>
              <a:rPr b="1" lang="fa-IR" sz="2400" spc="-1" strike="noStrike">
                <a:solidFill>
                  <a:srgbClr val="c00000"/>
                </a:solidFill>
                <a:latin typeface="Arial"/>
              </a:rPr>
              <a:t>امضاي  رئيس مجلس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b58b8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7200" spc="-1" strike="noStrike">
                <a:solidFill>
                  <a:srgbClr val="ffffff"/>
                </a:solidFill>
                <a:latin typeface="Arial"/>
              </a:rPr>
              <a:t>اجراي بودجه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2"/>
          <p:cNvSpPr/>
          <p:nvPr/>
        </p:nvSpPr>
        <p:spPr>
          <a:xfrm>
            <a:off x="380880" y="1828800"/>
            <a:ext cx="8550360" cy="74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-ابلاغ بودج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-مبادله موافقت نامه فعاليتهاي جاري وطرح ها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         تملك ودارايي هاي سرمايه ا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-تخصيص اعتبا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</a:rPr>
              <a:t>-اجراي مالي بودجه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Box 1"/>
          <p:cNvSpPr/>
          <p:nvPr/>
        </p:nvSpPr>
        <p:spPr>
          <a:xfrm>
            <a:off x="0" y="0"/>
            <a:ext cx="9144000" cy="1099440"/>
          </a:xfrm>
          <a:prstGeom prst="rect">
            <a:avLst/>
          </a:prstGeom>
          <a:solidFill>
            <a:srgbClr val="b58b8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ffffff"/>
                </a:solidFill>
                <a:latin typeface="Arial"/>
              </a:rPr>
              <a:t>1-</a:t>
            </a:r>
            <a:r>
              <a:rPr b="1" lang="fa-IR" sz="6600" spc="-1" strike="noStrike">
                <a:solidFill>
                  <a:srgbClr val="ffffff"/>
                </a:solidFill>
                <a:latin typeface="Arial"/>
              </a:rPr>
              <a:t>ابلاغ بودجه</a:t>
            </a:r>
            <a:r>
              <a:rPr b="1" lang="fa-IR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2"/>
          <p:cNvSpPr/>
          <p:nvPr/>
        </p:nvSpPr>
        <p:spPr>
          <a:xfrm>
            <a:off x="228600" y="1447920"/>
            <a:ext cx="8915400" cy="64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ابلاغ  بودجه هر يك از دستگاههاي اجرايي به تفكيك اعتبارات جاري وعمراني در </a:t>
            </a:r>
            <a:r>
              <a:rPr b="1" lang="fa-IR" sz="2800" spc="-1" strike="noStrike">
                <a:solidFill>
                  <a:srgbClr val="002060"/>
                </a:solidFill>
                <a:latin typeface="Arial"/>
              </a:rPr>
              <a:t>قالب برنامه ها وبه همان صورتي كه به تصويب رسيد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است توسط </a:t>
            </a:r>
            <a:r>
              <a:rPr b="1" lang="fa-IR" sz="2800" spc="-1" strike="noStrike">
                <a:solidFill>
                  <a:srgbClr val="c00000"/>
                </a:solidFill>
                <a:latin typeface="Arial"/>
              </a:rPr>
              <a:t>معاونت برنامه ريزي ونظارت راهبردي رياست جمهور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ابلاغ بودجه در دستگاههاي  اجرايي به واحدهاي اجرايي زير پوشش خود توسط </a:t>
            </a:r>
            <a:r>
              <a:rPr b="1" lang="fa-IR" sz="2800" spc="-1" strike="noStrike">
                <a:solidFill>
                  <a:srgbClr val="c00000"/>
                </a:solidFill>
                <a:latin typeface="Arial"/>
              </a:rPr>
              <a:t>ادارات يا دفاتر بودجه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Box 1"/>
          <p:cNvSpPr/>
          <p:nvPr/>
        </p:nvSpPr>
        <p:spPr>
          <a:xfrm>
            <a:off x="0" y="0"/>
            <a:ext cx="9144000" cy="1099440"/>
          </a:xfrm>
          <a:prstGeom prst="rect">
            <a:avLst/>
          </a:prstGeom>
          <a:solidFill>
            <a:srgbClr val="b58b8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ffffff"/>
                </a:solidFill>
                <a:latin typeface="Arial"/>
              </a:rPr>
              <a:t>2- </a:t>
            </a:r>
            <a:r>
              <a:rPr b="1" lang="fa-IR" sz="6600" spc="-1" strike="noStrike">
                <a:solidFill>
                  <a:srgbClr val="ffffff"/>
                </a:solidFill>
                <a:latin typeface="Arial"/>
              </a:rPr>
              <a:t>مبادله موافقت نامه</a:t>
            </a:r>
            <a:r>
              <a:rPr b="1" lang="fa-IR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2"/>
          <p:cNvSpPr/>
          <p:nvPr/>
        </p:nvSpPr>
        <p:spPr>
          <a:xfrm>
            <a:off x="-76320" y="1447920"/>
            <a:ext cx="914400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200" spc="-1" strike="noStrike" u="sng">
                <a:solidFill>
                  <a:srgbClr val="000000"/>
                </a:solidFill>
                <a:uFillTx/>
                <a:latin typeface="Arial"/>
              </a:rPr>
              <a:t>موافقتنامه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نوعي قرارداد است كه در چارچوب بودجه مصوب ب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2400" spc="-1" strike="noStrike" u="sng">
                <a:solidFill>
                  <a:srgbClr val="ff0000"/>
                </a:solidFill>
                <a:uFillTx/>
                <a:latin typeface="Arial"/>
              </a:rPr>
              <a:t>دستگاه اجرايي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 u="sng">
                <a:solidFill>
                  <a:srgbClr val="ff0000"/>
                </a:solidFill>
                <a:uFillTx/>
                <a:latin typeface="Arial"/>
              </a:rPr>
              <a:t>معاونت برنامه ريزي ونظارت راهبردي رياست جمهوري</a:t>
            </a:r>
            <a:r>
              <a:rPr b="1" lang="fa-I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مبادله مي گردد وب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موجب آن از يك سو دستگاه اجرايي تعهد مي كند شرح عمليات و شرايط خا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مندرج درآن را رعايت كند .از سوي ديگر معاونت برنامه ريزي ونظارت راهبرد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رياست جمهوري نيز به موازات پيشرفت فيزيكي عمليات براساس بودجه مصو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تخصي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اعتبار نموده  وآن را دراختياردستگاه اجرايي قرار مي ده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Box 1"/>
          <p:cNvSpPr/>
          <p:nvPr/>
        </p:nvSpPr>
        <p:spPr>
          <a:xfrm>
            <a:off x="0" y="0"/>
            <a:ext cx="9144000" cy="1099440"/>
          </a:xfrm>
          <a:prstGeom prst="rect">
            <a:avLst/>
          </a:prstGeom>
          <a:solidFill>
            <a:srgbClr val="b58b8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fa-IR" sz="6600" spc="-1" strike="noStrike">
                <a:solidFill>
                  <a:srgbClr val="ffffff"/>
                </a:solidFill>
                <a:latin typeface="Arial"/>
              </a:rPr>
              <a:t>-تخصيص اعتب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2"/>
          <p:cNvSpPr/>
          <p:nvPr/>
        </p:nvSpPr>
        <p:spPr>
          <a:xfrm>
            <a:off x="-2176920" y="1371600"/>
            <a:ext cx="1333440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i="1" lang="fa-IR" sz="2800" spc="-1" strike="noStrike" u="sng">
                <a:solidFill>
                  <a:srgbClr val="000000"/>
                </a:solidFill>
                <a:uFillTx/>
                <a:latin typeface="Arial"/>
              </a:rPr>
              <a:t>تخصيص اعتبار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 تقسيط اعتبار مصوب در فواصل مشخص يا تحقق شرايط معين كه بصورت مشترك توس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معاونت برنامه ريزي ونظارت راهبردي رياست جمهوري و وزارت امور قتصادي وداراي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انجام شده و به دستگاههاي اجرايي ابلاغ مي شو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تخصيص اعتبار دربرگيرنده 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</a:rPr>
              <a:t>بودجه عمومي دولت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است و منابع داخلي شركتها ودر آم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اختصاصي دستگاهها از شمول آن خارج بوده واز ضوابط خاصي تبعيت مي كن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b58b8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7200" spc="-1" strike="noStrike">
                <a:solidFill>
                  <a:srgbClr val="ffffff"/>
                </a:solidFill>
                <a:latin typeface="Arial"/>
              </a:rPr>
              <a:t>اجراي مالي بودجه</a:t>
            </a:r>
            <a:r>
              <a:rPr b="1" lang="fa-IR" sz="7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2"/>
          <p:cNvSpPr/>
          <p:nvPr/>
        </p:nvSpPr>
        <p:spPr>
          <a:xfrm>
            <a:off x="3751200" y="1371600"/>
            <a:ext cx="51642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* تشخي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* تامين اعتب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* تعه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* تسجي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* حوال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* درخواست وج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* هزين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"/>
          <p:cNvSpPr/>
          <p:nvPr/>
        </p:nvSpPr>
        <p:spPr>
          <a:xfrm>
            <a:off x="7010280" y="762120"/>
            <a:ext cx="1656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Arial"/>
              </a:rPr>
              <a:t>* تشخي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2"/>
          <p:cNvSpPr/>
          <p:nvPr/>
        </p:nvSpPr>
        <p:spPr>
          <a:xfrm>
            <a:off x="380880" y="1676520"/>
            <a:ext cx="849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تعيين وانتخاب كالا وخدمات ها خدمات وساير پرداختها يي كه تحصيل يا انج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آن براي نيل به اجراي برنامه هاي دستگاه اجرايي ضروري ا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3"/>
          <p:cNvSpPr/>
          <p:nvPr/>
        </p:nvSpPr>
        <p:spPr>
          <a:xfrm>
            <a:off x="6205320" y="2743200"/>
            <a:ext cx="278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Arial"/>
              </a:rPr>
              <a:t>* تامين اعتب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4"/>
          <p:cNvSpPr/>
          <p:nvPr/>
        </p:nvSpPr>
        <p:spPr>
          <a:xfrm>
            <a:off x="322920" y="3657600"/>
            <a:ext cx="94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اختصاص دادن تمام  يا قسمتي از اعتبار مصوب براي هزينه مع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7198920" y="4419720"/>
            <a:ext cx="145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Arial"/>
              </a:rPr>
              <a:t>* تعه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6"/>
          <p:cNvSpPr/>
          <p:nvPr/>
        </p:nvSpPr>
        <p:spPr>
          <a:xfrm>
            <a:off x="-892800" y="5410080"/>
            <a:ext cx="1083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ايجاد دين برذمه دولت ناشي از تحويل كالا يا انجام خدمت ؛اجراي قرارداد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احكام صادر شده از مراجع قانوني ذيصلا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3"/>
          <p:cNvSpPr/>
          <p:nvPr/>
        </p:nvSpPr>
        <p:spPr>
          <a:xfrm>
            <a:off x="6909480" y="609480"/>
            <a:ext cx="184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Arial"/>
              </a:rPr>
              <a:t>* تسجي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4"/>
          <p:cNvSpPr/>
          <p:nvPr/>
        </p:nvSpPr>
        <p:spPr>
          <a:xfrm>
            <a:off x="-632520" y="1676520"/>
            <a:ext cx="109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تعيين ميزان بدهي قابل پرداخت به موجب اسناد ومدارك اثبات كننده بده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7174800" y="2438280"/>
            <a:ext cx="1465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0000"/>
                </a:solidFill>
                <a:latin typeface="Arial"/>
              </a:rPr>
              <a:t>* حوال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6"/>
          <p:cNvSpPr/>
          <p:nvPr/>
        </p:nvSpPr>
        <p:spPr>
          <a:xfrm>
            <a:off x="-884160" y="3352680"/>
            <a:ext cx="1114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سندي كه بوسيله دستگاه اجرايي براي تاديه تعهدات وپرداخت بدهيها از مح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اعتبارات مربوطه در وجه ذينفع صادر گرد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6316200" y="434340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Arial"/>
              </a:rPr>
              <a:t>* درخواست وج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8"/>
          <p:cNvSpPr/>
          <p:nvPr/>
        </p:nvSpPr>
        <p:spPr>
          <a:xfrm>
            <a:off x="-924120" y="5029200"/>
            <a:ext cx="113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سندي كه ذيحساب براي دريافت وجه به منظور پرداخت حواله هاي صادر شد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از محل اعتبارات مربوطه در وجه حساب بانكي پرداخت دستگاه اجرايي ذيرب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</a:rPr>
              <a:t> صادر مي كن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1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b58b8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7200" spc="-1" strike="noStrike">
                <a:solidFill>
                  <a:srgbClr val="ffffff"/>
                </a:solidFill>
                <a:latin typeface="Arial"/>
              </a:rPr>
              <a:t>كنترل  بودجه</a:t>
            </a:r>
            <a:r>
              <a:rPr b="1" lang="fa-IR" sz="7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2"/>
          <p:cNvSpPr/>
          <p:nvPr/>
        </p:nvSpPr>
        <p:spPr>
          <a:xfrm>
            <a:off x="0" y="152388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فرايندي است براي حصول اطمينان از اينكه عمليات يا اقدامات واقعي ب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عمليات پيش بيني شده برنامه ربزي شده همانند اس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 u="sng">
                <a:solidFill>
                  <a:srgbClr val="000000"/>
                </a:solidFill>
                <a:uFillTx/>
                <a:latin typeface="Arial"/>
              </a:rPr>
              <a:t>با كنترل بودجه مي توان فهميد كه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          *  آيا بودجه اجرا شده همان بودجه اي است كه به تصوي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                   قوه مقننه رسيده اس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           *  آيا هدفهاي از پيش تعيين شده  تحقق يافته اس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           *  آيا برنامه ها وسياستهاي مالي مصوب نمايندگان مردم ب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                  همان شكل اجرا شده اس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"/>
          <p:cNvSpPr/>
          <p:nvPr/>
        </p:nvSpPr>
        <p:spPr>
          <a:xfrm>
            <a:off x="0" y="0"/>
            <a:ext cx="9144000" cy="3020040"/>
          </a:xfrm>
          <a:prstGeom prst="rect">
            <a:avLst/>
          </a:prstGeom>
          <a:solidFill>
            <a:srgbClr val="b58b8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800" spc="-1" strike="noStrike">
                <a:solidFill>
                  <a:srgbClr val="ffffff"/>
                </a:solidFill>
                <a:latin typeface="Arial"/>
                <a:cs typeface="B Titr"/>
              </a:rPr>
              <a:t>مراحل</a:t>
            </a:r>
            <a:r>
              <a:rPr b="1" lang="fa-IR" sz="9600" spc="-1" strike="noStrike">
                <a:solidFill>
                  <a:srgbClr val="ffffff"/>
                </a:solidFill>
                <a:latin typeface="Arial"/>
                <a:ea typeface="B Titr"/>
              </a:rPr>
              <a:t> فراگرد بودجه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"/>
          <p:cNvSpPr/>
          <p:nvPr/>
        </p:nvSpPr>
        <p:spPr>
          <a:xfrm>
            <a:off x="-1618920" y="1828800"/>
            <a:ext cx="1240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00000"/>
                </a:solidFill>
                <a:latin typeface="Arial"/>
                <a:ea typeface="B Titr"/>
              </a:rPr>
              <a:t>1</a:t>
            </a:r>
            <a:r>
              <a:rPr b="1" lang="fa-IR" sz="6000" spc="-1" strike="noStrike">
                <a:solidFill>
                  <a:srgbClr val="000000"/>
                </a:solidFill>
                <a:latin typeface="Arial"/>
                <a:ea typeface="B Titr"/>
              </a:rPr>
              <a:t>- تهيه وتنظيم  وپيشنهاد بودجه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3086640" y="2819520"/>
            <a:ext cx="6596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00000"/>
                </a:solidFill>
                <a:latin typeface="Arial"/>
                <a:ea typeface="B Titr"/>
              </a:rPr>
              <a:t>2</a:t>
            </a:r>
            <a:r>
              <a:rPr b="1" lang="fa-IR" sz="6000" spc="-1" strike="noStrike">
                <a:solidFill>
                  <a:srgbClr val="000000"/>
                </a:solidFill>
                <a:latin typeface="Arial"/>
                <a:ea typeface="B Titr"/>
              </a:rPr>
              <a:t>- تصويب بودجه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3416400" y="3711600"/>
            <a:ext cx="623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00000"/>
                </a:solidFill>
                <a:latin typeface="Arial"/>
                <a:ea typeface="B Titr"/>
              </a:rPr>
              <a:t>3</a:t>
            </a:r>
            <a:r>
              <a:rPr b="1" lang="fa-IR" sz="6000" spc="-1" strike="noStrike">
                <a:solidFill>
                  <a:srgbClr val="000000"/>
                </a:solidFill>
                <a:latin typeface="Arial"/>
                <a:ea typeface="B Titr"/>
              </a:rPr>
              <a:t>- اجراي بودجه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3531240" y="4549680"/>
            <a:ext cx="618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00000"/>
                </a:solidFill>
                <a:latin typeface="Arial"/>
                <a:ea typeface="B Titr"/>
              </a:rPr>
              <a:t>4</a:t>
            </a:r>
            <a:r>
              <a:rPr b="1" lang="fa-IR" sz="6000" spc="-1" strike="noStrike">
                <a:solidFill>
                  <a:srgbClr val="000000"/>
                </a:solidFill>
                <a:latin typeface="Arial"/>
                <a:ea typeface="B Titr"/>
              </a:rPr>
              <a:t>- كنترل بودجه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1"/>
          <p:cNvSpPr/>
          <p:nvPr/>
        </p:nvSpPr>
        <p:spPr>
          <a:xfrm>
            <a:off x="0" y="0"/>
            <a:ext cx="8915400" cy="825120"/>
          </a:xfrm>
          <a:prstGeom prst="rect">
            <a:avLst/>
          </a:prstGeom>
          <a:solidFill>
            <a:srgbClr val="b58b8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ffffff"/>
                </a:solidFill>
                <a:latin typeface="Arial"/>
              </a:rPr>
              <a:t>منظور اصلي از كنترل بودج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2"/>
          <p:cNvSpPr/>
          <p:nvPr/>
        </p:nvSpPr>
        <p:spPr>
          <a:xfrm>
            <a:off x="-1074600" y="1066680"/>
            <a:ext cx="1117944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 u="sng">
                <a:solidFill>
                  <a:srgbClr val="000000"/>
                </a:solidFill>
                <a:uFillTx/>
                <a:latin typeface="Arial"/>
              </a:rPr>
              <a:t>در گذشته </a:t>
            </a:r>
            <a:r>
              <a:rPr b="1" lang="fa-IR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جلوگيري از تجاوز تعهدات و مخارج از اعتبارات مصو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صرفه جويي در هزينه 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3"/>
          <p:cNvSpPr/>
          <p:nvPr/>
        </p:nvSpPr>
        <p:spPr>
          <a:xfrm>
            <a:off x="0" y="3657600"/>
            <a:ext cx="853452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 u="sng">
                <a:solidFill>
                  <a:srgbClr val="000000"/>
                </a:solidFill>
                <a:uFillTx/>
                <a:latin typeface="Arial"/>
              </a:rPr>
              <a:t>امروز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حصول اطمينان از تطبيق عملكردهاي بودجه با برنامه ها 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هدفهاي پيش بيني ش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24"/>
          <p:cNvGrpSpPr/>
          <p:nvPr/>
        </p:nvGrpSpPr>
        <p:grpSpPr>
          <a:xfrm>
            <a:off x="0" y="14400"/>
            <a:ext cx="9144000" cy="6858000"/>
            <a:chOff x="0" y="14400"/>
            <a:chExt cx="9144000" cy="6858000"/>
          </a:xfrm>
        </p:grpSpPr>
        <p:sp>
          <p:nvSpPr>
            <p:cNvPr id="511" name="Rectangle 6"/>
            <p:cNvSpPr/>
            <p:nvPr/>
          </p:nvSpPr>
          <p:spPr>
            <a:xfrm>
              <a:off x="4572000" y="14400"/>
              <a:ext cx="4572000" cy="3429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7"/>
            <p:cNvSpPr/>
            <p:nvPr/>
          </p:nvSpPr>
          <p:spPr>
            <a:xfrm>
              <a:off x="4572000" y="3441960"/>
              <a:ext cx="4572000" cy="3429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8"/>
            <p:cNvSpPr/>
            <p:nvPr/>
          </p:nvSpPr>
          <p:spPr>
            <a:xfrm>
              <a:off x="0" y="3443400"/>
              <a:ext cx="4572000" cy="3429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6"/>
            <p:cNvSpPr/>
            <p:nvPr/>
          </p:nvSpPr>
          <p:spPr>
            <a:xfrm>
              <a:off x="0" y="14400"/>
              <a:ext cx="4572000" cy="3429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AutoShape 17"/>
          <p:cNvSpPr/>
          <p:nvPr/>
        </p:nvSpPr>
        <p:spPr>
          <a:xfrm rot="16200000">
            <a:off x="45000" y="2964240"/>
            <a:ext cx="1074600" cy="8064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انوا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كنتر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45"/>
          <p:cNvGrpSpPr/>
          <p:nvPr/>
        </p:nvGrpSpPr>
        <p:grpSpPr>
          <a:xfrm>
            <a:off x="985680" y="2011320"/>
            <a:ext cx="1498320" cy="2763360"/>
            <a:chOff x="985680" y="2011320"/>
            <a:chExt cx="1498320" cy="2763360"/>
          </a:xfrm>
        </p:grpSpPr>
        <p:sp>
          <p:nvSpPr>
            <p:cNvPr id="517" name="AutoShape 18"/>
            <p:cNvSpPr/>
            <p:nvPr/>
          </p:nvSpPr>
          <p:spPr>
            <a:xfrm rot="16200000">
              <a:off x="1454040" y="2056320"/>
              <a:ext cx="1074960" cy="98460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0">
              <a:noFill/>
            </a:ln>
            <a:effectLst>
              <a:outerShdw dist="153753" dir="2700000" blurRad="0" rotWithShape="0">
                <a:srgbClr val="9061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نظارت</a:t>
              </a: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بيرون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( </a:t>
              </a: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قوه مقننه</a:t>
              </a: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AutoShape 19"/>
            <p:cNvSpPr/>
            <p:nvPr/>
          </p:nvSpPr>
          <p:spPr>
            <a:xfrm rot="16200000">
              <a:off x="1454400" y="3745080"/>
              <a:ext cx="1074600" cy="98460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0">
              <a:noFill/>
            </a:ln>
            <a:effectLst>
              <a:outerShdw dist="153753" dir="2700000" blurRad="0" rotWithShape="0">
                <a:srgbClr val="9061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نظار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درون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(</a:t>
              </a: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قوه مجريه</a:t>
              </a: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28"/>
            <p:cNvSpPr/>
            <p:nvPr/>
          </p:nvSpPr>
          <p:spPr>
            <a:xfrm flipV="1">
              <a:off x="1207440" y="2523960"/>
              <a:ext cx="0" cy="168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29"/>
            <p:cNvSpPr/>
            <p:nvPr/>
          </p:nvSpPr>
          <p:spPr>
            <a:xfrm>
              <a:off x="985680" y="3395520"/>
              <a:ext cx="22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30"/>
            <p:cNvSpPr/>
            <p:nvPr/>
          </p:nvSpPr>
          <p:spPr>
            <a:xfrm>
              <a:off x="1207440" y="4213080"/>
              <a:ext cx="29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33"/>
            <p:cNvSpPr/>
            <p:nvPr/>
          </p:nvSpPr>
          <p:spPr>
            <a:xfrm>
              <a:off x="1207440" y="2525760"/>
              <a:ext cx="29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48"/>
          <p:cNvGrpSpPr/>
          <p:nvPr/>
        </p:nvGrpSpPr>
        <p:grpSpPr>
          <a:xfrm>
            <a:off x="2509920" y="3679560"/>
            <a:ext cx="1760400" cy="2630880"/>
            <a:chOff x="2509920" y="3679560"/>
            <a:chExt cx="1760400" cy="2630880"/>
          </a:xfrm>
        </p:grpSpPr>
        <p:sp>
          <p:nvSpPr>
            <p:cNvPr id="524" name="AutoShape 22"/>
            <p:cNvSpPr/>
            <p:nvPr/>
          </p:nvSpPr>
          <p:spPr>
            <a:xfrm rot="16200000">
              <a:off x="2447640" y="5368680"/>
              <a:ext cx="1074960" cy="80820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0">
              <a:noFill/>
            </a:ln>
            <a:effectLst>
              <a:outerShdw dist="153753" dir="2700000" blurRad="0" rotWithShape="0">
                <a:srgbClr val="9061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نظار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مال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AutoShape 23"/>
            <p:cNvSpPr/>
            <p:nvPr/>
          </p:nvSpPr>
          <p:spPr>
            <a:xfrm rot="16200000">
              <a:off x="3329640" y="3813480"/>
              <a:ext cx="1074600" cy="80640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0">
              <a:noFill/>
            </a:ln>
            <a:effectLst>
              <a:outerShdw dist="153753" dir="2700000" blurRad="0" rotWithShape="0">
                <a:srgbClr val="9061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نظار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عمليات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34"/>
            <p:cNvSpPr/>
            <p:nvPr/>
          </p:nvSpPr>
          <p:spPr>
            <a:xfrm>
              <a:off x="2509920" y="4213080"/>
              <a:ext cx="95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36"/>
            <p:cNvSpPr/>
            <p:nvPr/>
          </p:nvSpPr>
          <p:spPr>
            <a:xfrm>
              <a:off x="2949480" y="4211640"/>
              <a:ext cx="0" cy="10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46"/>
          <p:cNvGrpSpPr/>
          <p:nvPr/>
        </p:nvGrpSpPr>
        <p:grpSpPr>
          <a:xfrm>
            <a:off x="2509920" y="476280"/>
            <a:ext cx="1760400" cy="2607480"/>
            <a:chOff x="2509920" y="476280"/>
            <a:chExt cx="1760400" cy="2607480"/>
          </a:xfrm>
        </p:grpSpPr>
        <p:sp>
          <p:nvSpPr>
            <p:cNvPr id="529" name="AutoShape 25"/>
            <p:cNvSpPr/>
            <p:nvPr/>
          </p:nvSpPr>
          <p:spPr>
            <a:xfrm rot="16200000">
              <a:off x="2447640" y="609480"/>
              <a:ext cx="1074960" cy="80820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0">
              <a:noFill/>
            </a:ln>
            <a:effectLst>
              <a:outerShdw dist="153753" dir="2700000" blurRad="0" rotWithShape="0">
                <a:srgbClr val="9061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نظارت پارلمان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26"/>
            <p:cNvSpPr/>
            <p:nvPr/>
          </p:nvSpPr>
          <p:spPr>
            <a:xfrm rot="16200000">
              <a:off x="3329280" y="2142720"/>
              <a:ext cx="1075320" cy="80640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0">
              <a:noFill/>
            </a:ln>
            <a:effectLst>
              <a:outerShdw dist="153753" dir="2700000" blurRad="0" rotWithShape="0">
                <a:srgbClr val="9061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نظار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قضائ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35"/>
            <p:cNvSpPr/>
            <p:nvPr/>
          </p:nvSpPr>
          <p:spPr>
            <a:xfrm>
              <a:off x="2509920" y="2545920"/>
              <a:ext cx="95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37"/>
            <p:cNvSpPr/>
            <p:nvPr/>
          </p:nvSpPr>
          <p:spPr>
            <a:xfrm flipV="1">
              <a:off x="2949480" y="1563840"/>
              <a:ext cx="0" cy="9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Group 49"/>
          <p:cNvGrpSpPr/>
          <p:nvPr/>
        </p:nvGrpSpPr>
        <p:grpSpPr>
          <a:xfrm>
            <a:off x="3492360" y="3673440"/>
            <a:ext cx="5040360" cy="2635200"/>
            <a:chOff x="3492360" y="3673440"/>
            <a:chExt cx="5040360" cy="2635200"/>
          </a:xfrm>
        </p:grpSpPr>
        <p:sp>
          <p:nvSpPr>
            <p:cNvPr id="534" name="AutoShape 41"/>
            <p:cNvSpPr/>
            <p:nvPr/>
          </p:nvSpPr>
          <p:spPr>
            <a:xfrm>
              <a:off x="3492360" y="5229360"/>
              <a:ext cx="5040360" cy="107928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0">
              <a:noFill/>
            </a:ln>
            <a:effectLst>
              <a:outerShdw dist="153753" dir="2700000" blurRad="0" rotWithShape="0">
                <a:srgbClr val="9061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نظارت قبل از خرج با اهرمهاي 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r" rtl="1">
                <a:lnSpc>
                  <a:spcPct val="100000"/>
                </a:lnSpc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  ذيحساب و از طريق تامين اعتبار و تطبيق با قوانين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r" rtl="1">
                <a:lnSpc>
                  <a:spcPct val="100000"/>
                </a:lnSpc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  خزانه و از طريق نظارت بر صحت درخواست وجه و مطابقت آن با اعتبارات مصوب و مقررات قانون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42"/>
            <p:cNvSpPr/>
            <p:nvPr/>
          </p:nvSpPr>
          <p:spPr>
            <a:xfrm>
              <a:off x="4383000" y="3673440"/>
              <a:ext cx="4106880" cy="107964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0">
              <a:noFill/>
            </a:ln>
            <a:effectLst>
              <a:outerShdw dist="153753" dir="2700000" blurRad="0" rotWithShape="0">
                <a:srgbClr val="9061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نظارت عملياتي از راههاي ذيل صورت ميگيرد 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  دريافت گزارشهاي توجيهي از دستگاهها توسط سازمان مديري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  تخصيص دوره اي اعتبارات با توجه به عملكرد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Group 47"/>
          <p:cNvGrpSpPr/>
          <p:nvPr/>
        </p:nvGrpSpPr>
        <p:grpSpPr>
          <a:xfrm>
            <a:off x="3492360" y="477720"/>
            <a:ext cx="5040360" cy="2590920"/>
            <a:chOff x="3492360" y="477720"/>
            <a:chExt cx="5040360" cy="2590920"/>
          </a:xfrm>
        </p:grpSpPr>
        <p:sp>
          <p:nvSpPr>
            <p:cNvPr id="537" name="AutoShape 43"/>
            <p:cNvSpPr/>
            <p:nvPr/>
          </p:nvSpPr>
          <p:spPr>
            <a:xfrm>
              <a:off x="4400640" y="1989000"/>
              <a:ext cx="4106880" cy="107964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0">
              <a:noFill/>
            </a:ln>
            <a:effectLst>
              <a:outerShdw dist="153753" dir="2700000" blurRad="0" rotWithShape="0">
                <a:srgbClr val="9061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دیوان محاسبات مسئول انجام  نظارت قضائی بوده و  حسابرسی آن بر دو محور تاکید دارد 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r" rtl="1">
                <a:lnSpc>
                  <a:spcPct val="100000"/>
                </a:lnSpc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  هیچ هزینه ای از اعتبارات مصوب تجاوز نکن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r" rtl="1">
                <a:lnSpc>
                  <a:spcPct val="100000"/>
                </a:lnSpc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  <a:ea typeface="Arial"/>
                </a:rPr>
                <a:t>  هر وجهی در محل خود بمصرف برس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utoShape 44"/>
            <p:cNvSpPr/>
            <p:nvPr/>
          </p:nvSpPr>
          <p:spPr>
            <a:xfrm>
              <a:off x="3492360" y="477720"/>
              <a:ext cx="5040360" cy="107964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0">
              <a:noFill/>
            </a:ln>
            <a:effectLst>
              <a:outerShdw dist="153753" dir="2700000" blurRad="0" rotWithShape="0">
                <a:srgbClr val="9061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کنترل مجلس و نمایندگان مردم به دو صورت است 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  با طرح سوال و در صورت استیضاح وزر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600" spc="-1" strike="noStrike">
                  <a:solidFill>
                    <a:srgbClr val="000099"/>
                  </a:solidFill>
                  <a:latin typeface="Arial"/>
                </a:rPr>
                <a:t>  مجلس بعنوان مجمع عمومی جامعه به حسابرسی کلی عملیات دولت  هیات مدیره در قالب گزارش تفریغ بودجه میپرداز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0" name="Rectangle 4"/>
            <p:cNvSpPr/>
            <p:nvPr/>
          </p:nvSpPr>
          <p:spPr>
            <a:xfrm>
              <a:off x="0" y="0"/>
              <a:ext cx="4572000" cy="3429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8"/>
            <p:cNvSpPr/>
            <p:nvPr/>
          </p:nvSpPr>
          <p:spPr>
            <a:xfrm>
              <a:off x="4572000" y="0"/>
              <a:ext cx="4572000" cy="3429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9"/>
            <p:cNvSpPr/>
            <p:nvPr/>
          </p:nvSpPr>
          <p:spPr>
            <a:xfrm>
              <a:off x="4572000" y="3427560"/>
              <a:ext cx="4572000" cy="3429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10"/>
            <p:cNvSpPr/>
            <p:nvPr/>
          </p:nvSpPr>
          <p:spPr>
            <a:xfrm>
              <a:off x="0" y="3429000"/>
              <a:ext cx="4572000" cy="3429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Group 12"/>
          <p:cNvGrpSpPr/>
          <p:nvPr/>
        </p:nvGrpSpPr>
        <p:grpSpPr>
          <a:xfrm>
            <a:off x="1033560" y="2233080"/>
            <a:ext cx="7210440" cy="2232360"/>
            <a:chOff x="1033560" y="2233080"/>
            <a:chExt cx="7210440" cy="2232360"/>
          </a:xfrm>
        </p:grpSpPr>
        <p:sp>
          <p:nvSpPr>
            <p:cNvPr id="545" name="AutoShape 13"/>
            <p:cNvSpPr/>
            <p:nvPr/>
          </p:nvSpPr>
          <p:spPr>
            <a:xfrm>
              <a:off x="4767480" y="3484440"/>
              <a:ext cx="3467160" cy="981000"/>
            </a:xfrm>
            <a:custGeom>
              <a:avLst/>
              <a:gdLst>
                <a:gd name="textAreaLeft" fmla="*/ 0 w 3467160"/>
                <a:gd name="textAreaRight" fmla="*/ 3467520 w 3467160"/>
                <a:gd name="textAreaTop" fmla="*/ 42048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6" y="0"/>
                  </a:moveTo>
                  <a:lnTo>
                    <a:pt x="9252" y="4677"/>
                  </a:lnTo>
                  <a:lnTo>
                    <a:pt x="9252" y="9252"/>
                  </a:lnTo>
                  <a:lnTo>
                    <a:pt x="0" y="9252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4677"/>
                  </a:lnTo>
                  <a:close/>
                </a:path>
              </a:pathLst>
            </a:custGeom>
            <a:solidFill>
              <a:srgbClr val="f0a22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utoShape 14"/>
            <p:cNvSpPr/>
            <p:nvPr/>
          </p:nvSpPr>
          <p:spPr>
            <a:xfrm rot="16200000">
              <a:off x="6019200" y="990720"/>
              <a:ext cx="982440" cy="3467160"/>
            </a:xfrm>
            <a:custGeom>
              <a:avLst/>
              <a:gdLst>
                <a:gd name="textAreaLeft" fmla="*/ 0 w 982440"/>
                <a:gd name="textAreaRight" fmla="*/ 982800 w 982440"/>
                <a:gd name="textAreaTop" fmla="*/ 1484280 h 3467160"/>
                <a:gd name="textAreaBottom" fmla="*/ 3467520 h 346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6" y="0"/>
                  </a:moveTo>
                  <a:lnTo>
                    <a:pt x="9252" y="4677"/>
                  </a:lnTo>
                  <a:lnTo>
                    <a:pt x="9252" y="9252"/>
                  </a:lnTo>
                  <a:lnTo>
                    <a:pt x="0" y="9252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4677"/>
                  </a:lnTo>
                  <a:close/>
                </a:path>
              </a:pathLst>
            </a:custGeom>
            <a:solidFill>
              <a:srgbClr val="f0a22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5"/>
            <p:cNvSpPr/>
            <p:nvPr/>
          </p:nvSpPr>
          <p:spPr>
            <a:xfrm>
              <a:off x="6361200" y="2304720"/>
              <a:ext cx="166068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000000"/>
                  </a:solidFill>
                  <a:latin typeface="Franklin Gothic Book"/>
                  <a:cs typeface="Tahoma"/>
                </a:rPr>
                <a:t>تصويب  بودج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16"/>
            <p:cNvSpPr/>
            <p:nvPr/>
          </p:nvSpPr>
          <p:spPr>
            <a:xfrm rot="10800000">
              <a:off x="1033560" y="2233080"/>
              <a:ext cx="3468960" cy="98244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420480 h 982440"/>
                <a:gd name="textAreaBottom" fmla="*/ 982800 h 9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6" y="0"/>
                  </a:moveTo>
                  <a:lnTo>
                    <a:pt x="9252" y="4677"/>
                  </a:lnTo>
                  <a:lnTo>
                    <a:pt x="9252" y="9252"/>
                  </a:lnTo>
                  <a:lnTo>
                    <a:pt x="0" y="9252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4677"/>
                  </a:lnTo>
                  <a:close/>
                </a:path>
              </a:pathLst>
            </a:custGeom>
            <a:solidFill>
              <a:srgbClr val="f0a22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7"/>
            <p:cNvSpPr/>
            <p:nvPr/>
          </p:nvSpPr>
          <p:spPr>
            <a:xfrm>
              <a:off x="1320840" y="2304720"/>
              <a:ext cx="230508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000000"/>
                  </a:solidFill>
                  <a:latin typeface="Franklin Gothic Book"/>
                  <a:cs typeface="Tahoma"/>
                </a:rPr>
                <a:t>اجراي</a:t>
              </a:r>
              <a:r>
                <a:rPr b="0" lang="en-US" sz="2000" spc="-1" strike="noStrike">
                  <a:solidFill>
                    <a:srgbClr val="000000"/>
                  </a:solidFill>
                  <a:latin typeface="Franklin Gothic Book"/>
                </a:rPr>
                <a:t> </a:t>
              </a:r>
              <a:r>
                <a:rPr b="0" lang="fa-IR" sz="2000" spc="-1" strike="noStrike">
                  <a:solidFill>
                    <a:srgbClr val="000000"/>
                  </a:solidFill>
                  <a:latin typeface="Franklin Gothic Book"/>
                  <a:cs typeface="Tahoma"/>
                </a:rPr>
                <a:t>بودج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utoShape 18"/>
            <p:cNvSpPr/>
            <p:nvPr/>
          </p:nvSpPr>
          <p:spPr>
            <a:xfrm rot="5400000">
              <a:off x="2277360" y="2240280"/>
              <a:ext cx="981000" cy="3468960"/>
            </a:xfrm>
            <a:custGeom>
              <a:avLst/>
              <a:gdLst>
                <a:gd name="textAreaLeft" fmla="*/ 0 w 981000"/>
                <a:gd name="textAreaRight" fmla="*/ 981360 w 981000"/>
                <a:gd name="textAreaTop" fmla="*/ 1486080 h 3468960"/>
                <a:gd name="textAreaBottom" fmla="*/ 3469320 h 346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6" y="0"/>
                  </a:moveTo>
                  <a:lnTo>
                    <a:pt x="9252" y="4677"/>
                  </a:lnTo>
                  <a:lnTo>
                    <a:pt x="9252" y="9252"/>
                  </a:lnTo>
                  <a:lnTo>
                    <a:pt x="0" y="9252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4677"/>
                  </a:lnTo>
                  <a:close/>
                </a:path>
              </a:pathLst>
            </a:custGeom>
            <a:solidFill>
              <a:srgbClr val="f0a22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19"/>
            <p:cNvSpPr/>
            <p:nvPr/>
          </p:nvSpPr>
          <p:spPr>
            <a:xfrm>
              <a:off x="1263960" y="3850920"/>
              <a:ext cx="264960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000000"/>
                  </a:solidFill>
                  <a:latin typeface="Franklin Gothic Book"/>
                  <a:cs typeface="Tahoma"/>
                </a:rPr>
                <a:t>كنترل و نظارت بر بودج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20"/>
            <p:cNvSpPr/>
            <p:nvPr/>
          </p:nvSpPr>
          <p:spPr>
            <a:xfrm>
              <a:off x="5785200" y="3816000"/>
              <a:ext cx="23558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2000" spc="-1" strike="noStrike">
                  <a:solidFill>
                    <a:srgbClr val="000000"/>
                  </a:solidFill>
                  <a:latin typeface="Franklin Gothic Book"/>
                  <a:cs typeface="Tahoma"/>
                </a:rPr>
                <a:t>تهيه و تنظيم بودج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21"/>
            <p:cNvSpPr/>
            <p:nvPr/>
          </p:nvSpPr>
          <p:spPr>
            <a:xfrm>
              <a:off x="3410280" y="3168360"/>
              <a:ext cx="2689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3200" spc="-1" strike="noStrike">
                  <a:solidFill>
                    <a:srgbClr val="000000"/>
                  </a:solidFill>
                  <a:latin typeface="Franklin Gothic Book"/>
                  <a:cs typeface="Tahoma"/>
                </a:rPr>
                <a:t>چرخه  بودج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Rectangle 22"/>
          <p:cNvSpPr/>
          <p:nvPr/>
        </p:nvSpPr>
        <p:spPr>
          <a:xfrm>
            <a:off x="108000" y="4653000"/>
            <a:ext cx="4464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  نظارت برعمليات اجرائي بودجه از طريق سازمان مديريت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  نظارت براجراي بودجه درحين خرج  توسط وزارت امور اقتصادي و دارائ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  نظارت براجراي بودجه بعد از خرج  توسط ديوان محاسبات و تنظيم گزارش تفريغ بودج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  رسيدگي به گزارش تفريغ بودجه از سوي مجل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23"/>
          <p:cNvSpPr/>
          <p:nvPr/>
        </p:nvSpPr>
        <p:spPr>
          <a:xfrm>
            <a:off x="4716360" y="4437000"/>
            <a:ext cx="4176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  تعيين هدفها و سياستهادر تنظيم بودجه سالانه توسط     شوراي اقتصا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  ابلاغ بخشنامه بودجه از سوي رياست جمهور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  پيش بيني درآمدها و منابع از سوي سازمان مديري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  تدوين بودجه پيشنهادي از سوي دستگاههاي اجرائ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99"/>
                </a:solidFill>
                <a:latin typeface="Arial"/>
              </a:rPr>
              <a:t>  تدوين لايحه بودجه از سوي دولت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24"/>
          <p:cNvSpPr/>
          <p:nvPr/>
        </p:nvSpPr>
        <p:spPr>
          <a:xfrm>
            <a:off x="4788000" y="260280"/>
            <a:ext cx="4176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99"/>
                </a:solidFill>
                <a:latin typeface="Arial"/>
              </a:rPr>
              <a:t>  بررسي لايحه بودجه در كميسيونهاي مختلف مجل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99"/>
                </a:solidFill>
                <a:latin typeface="Arial"/>
              </a:rPr>
              <a:t>  رسيدگي نهائي در كميسيون تلفيق اصل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99"/>
                </a:solidFill>
                <a:latin typeface="Arial"/>
              </a:rPr>
              <a:t>  تصويب بودجه در صحن مجل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5"/>
          <p:cNvSpPr/>
          <p:nvPr/>
        </p:nvSpPr>
        <p:spPr>
          <a:xfrm>
            <a:off x="324000" y="189000"/>
            <a:ext cx="417672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99"/>
                </a:solidFill>
                <a:latin typeface="Arial"/>
              </a:rPr>
              <a:t>  ابلاغ بودجه به دستگاههاي دول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99"/>
                </a:solidFill>
                <a:latin typeface="Arial"/>
              </a:rPr>
              <a:t>  تنظيم موافقتنامه و تبادل آن با سازمان مديري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99"/>
                </a:solidFill>
                <a:latin typeface="Arial"/>
              </a:rPr>
              <a:t>  تخصيص اعتبارات توسط سازمان مديري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99"/>
                </a:solidFill>
                <a:latin typeface="Arial"/>
              </a:rPr>
              <a:t>  اخذ وجه از خزان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99"/>
                </a:solidFill>
                <a:latin typeface="Arial"/>
              </a:rPr>
              <a:t>  و بطور كلي انجام كليه مراحل در جه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99"/>
                </a:solidFill>
                <a:latin typeface="Arial"/>
                <a:ea typeface="Arial"/>
              </a:rPr>
              <a:t>  وصول درآمد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99"/>
                </a:solidFill>
                <a:latin typeface="Arial"/>
                <a:ea typeface="Arial"/>
              </a:rPr>
              <a:t>  پرداخت هزينه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4"/>
          <p:cNvSpPr/>
          <p:nvPr/>
        </p:nvSpPr>
        <p:spPr>
          <a:xfrm rot="5400000">
            <a:off x="5604840" y="3139920"/>
            <a:ext cx="5832360" cy="505080"/>
          </a:xfrm>
          <a:prstGeom prst="rect">
            <a:avLst/>
          </a:prstGeom>
          <a:solidFill>
            <a:srgbClr val="ad1f1f"/>
          </a:solidFill>
          <a:ln w="0">
            <a:noFill/>
          </a:ln>
          <a:effectLst>
            <a:outerShdw dist="153753" dir="2700000" blurRad="0" rotWithShape="0">
              <a:srgbClr val="68131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Franklin Gothic Book"/>
                <a:cs typeface="Tahoma"/>
              </a:rPr>
              <a:t>سازمانهاي موثر بر بودج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6084720" y="455760"/>
            <a:ext cx="2087640" cy="504720"/>
          </a:xfrm>
          <a:prstGeom prst="rect">
            <a:avLst/>
          </a:prstGeom>
          <a:solidFill>
            <a:srgbClr val="ad1f1f"/>
          </a:solidFill>
          <a:ln w="0">
            <a:noFill/>
          </a:ln>
          <a:effectLst>
            <a:outerShdw dist="153753" dir="2700000" blurRad="0" rotWithShape="0">
              <a:srgbClr val="68131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Franklin Gothic Book"/>
                <a:cs typeface="Tahoma"/>
              </a:rPr>
              <a:t>عنوان ساز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611280" y="455760"/>
            <a:ext cx="5402160" cy="504720"/>
          </a:xfrm>
          <a:prstGeom prst="rect">
            <a:avLst/>
          </a:prstGeom>
          <a:solidFill>
            <a:srgbClr val="ad1f1f"/>
          </a:solidFill>
          <a:ln w="0">
            <a:noFill/>
          </a:ln>
          <a:effectLst>
            <a:outerShdw dist="153753" dir="2700000" blurRad="0" rotWithShape="0">
              <a:srgbClr val="68131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Franklin Gothic Book"/>
                <a:cs typeface="Tahoma"/>
              </a:rPr>
              <a:t>تاث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8"/>
          <p:cNvSpPr/>
          <p:nvPr/>
        </p:nvSpPr>
        <p:spPr>
          <a:xfrm>
            <a:off x="6084720" y="1052640"/>
            <a:ext cx="208764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قوه مقنن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9"/>
          <p:cNvSpPr/>
          <p:nvPr/>
        </p:nvSpPr>
        <p:spPr>
          <a:xfrm>
            <a:off x="6084720" y="1654200"/>
            <a:ext cx="208764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ديوان محاسب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0"/>
          <p:cNvSpPr/>
          <p:nvPr/>
        </p:nvSpPr>
        <p:spPr>
          <a:xfrm>
            <a:off x="6084720" y="2255760"/>
            <a:ext cx="2087640" cy="50508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قوه مجري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1"/>
          <p:cNvSpPr/>
          <p:nvPr/>
        </p:nvSpPr>
        <p:spPr>
          <a:xfrm>
            <a:off x="6084720" y="2857680"/>
            <a:ext cx="208764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شوراي اقتصا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2"/>
          <p:cNvSpPr/>
          <p:nvPr/>
        </p:nvSpPr>
        <p:spPr>
          <a:xfrm>
            <a:off x="622440" y="1044720"/>
            <a:ext cx="540216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تدوين سياستهاي اقتصادي و مالي و تصويب بودج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3"/>
          <p:cNvSpPr/>
          <p:nvPr/>
        </p:nvSpPr>
        <p:spPr>
          <a:xfrm>
            <a:off x="609480" y="1658880"/>
            <a:ext cx="540252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كنترل و نظارت مستمر مالي و تدوين گزارش تفريغ بودج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4"/>
          <p:cNvSpPr/>
          <p:nvPr/>
        </p:nvSpPr>
        <p:spPr>
          <a:xfrm>
            <a:off x="609480" y="2255760"/>
            <a:ext cx="5402520" cy="50508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تنظيم خط مشي هاي اقتصادي و تدوين لايحه بودج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5"/>
          <p:cNvSpPr/>
          <p:nvPr/>
        </p:nvSpPr>
        <p:spPr>
          <a:xfrm>
            <a:off x="609480" y="2844720"/>
            <a:ext cx="5402520" cy="50508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هدايت و ايجاد هماهنگي در امور اقتصادي كش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6"/>
          <p:cNvSpPr/>
          <p:nvPr/>
        </p:nvSpPr>
        <p:spPr>
          <a:xfrm>
            <a:off x="6084720" y="3457440"/>
            <a:ext cx="2087640" cy="50508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وزارت امور اقتصادي و دارائ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7"/>
          <p:cNvSpPr/>
          <p:nvPr/>
        </p:nvSpPr>
        <p:spPr>
          <a:xfrm>
            <a:off x="6084720" y="4056120"/>
            <a:ext cx="208764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خزان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8"/>
          <p:cNvSpPr/>
          <p:nvPr/>
        </p:nvSpPr>
        <p:spPr>
          <a:xfrm>
            <a:off x="6084720" y="4632480"/>
            <a:ext cx="208764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سازمان مديريت و برنامه ري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9"/>
          <p:cNvSpPr/>
          <p:nvPr/>
        </p:nvSpPr>
        <p:spPr>
          <a:xfrm>
            <a:off x="611280" y="3454560"/>
            <a:ext cx="540216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پيش بيني و وصول درآمدهاي دولت و نظارت مالي قبل از خر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20"/>
          <p:cNvSpPr/>
          <p:nvPr/>
        </p:nvSpPr>
        <p:spPr>
          <a:xfrm>
            <a:off x="611280" y="4056120"/>
            <a:ext cx="540216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دريافت و اداره كليه وجوه و درآمدهاي عمومي و اختصاص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1"/>
          <p:cNvSpPr/>
          <p:nvPr/>
        </p:nvSpPr>
        <p:spPr>
          <a:xfrm>
            <a:off x="611280" y="4645080"/>
            <a:ext cx="540216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برنامه ريزي ، تنظيم لايحه و نظارت بر بودج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22"/>
          <p:cNvSpPr/>
          <p:nvPr/>
        </p:nvSpPr>
        <p:spPr>
          <a:xfrm>
            <a:off x="611280" y="5221440"/>
            <a:ext cx="540216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تنظيم بودجه استاني</a:t>
            </a: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23"/>
          <p:cNvSpPr/>
          <p:nvPr/>
        </p:nvSpPr>
        <p:spPr>
          <a:xfrm>
            <a:off x="6084720" y="5229360"/>
            <a:ext cx="208764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كميته هاي برنامه ريزي استان و شهرستا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24"/>
          <p:cNvSpPr/>
          <p:nvPr/>
        </p:nvSpPr>
        <p:spPr>
          <a:xfrm>
            <a:off x="611280" y="5803920"/>
            <a:ext cx="5402160" cy="50472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برآورد بودجه و ارائه گزارشهاي مالي</a:t>
            </a:r>
            <a:r>
              <a:rPr b="0" lang="fa-IR" sz="18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25"/>
          <p:cNvSpPr/>
          <p:nvPr/>
        </p:nvSpPr>
        <p:spPr>
          <a:xfrm>
            <a:off x="6084720" y="5805360"/>
            <a:ext cx="2087640" cy="505080"/>
          </a:xfrm>
          <a:prstGeom prst="rect">
            <a:avLst/>
          </a:prstGeom>
          <a:solidFill>
            <a:srgbClr val="f0a22e"/>
          </a:solidFill>
          <a:ln w="0">
            <a:noFill/>
          </a:ln>
          <a:effectLst>
            <a:outerShdw dist="153753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دستگاههاي اجرائ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Rectangle 2" descr=""/>
          <p:cNvPicPr/>
          <p:nvPr/>
        </p:nvPicPr>
        <p:blipFill>
          <a:blip r:embed="rId1"/>
          <a:stretch/>
        </p:blipFill>
        <p:spPr>
          <a:xfrm>
            <a:off x="231840" y="182520"/>
            <a:ext cx="8588160" cy="1249560"/>
          </a:xfrm>
          <a:prstGeom prst="rect">
            <a:avLst/>
          </a:prstGeom>
          <a:ln w="0">
            <a:noFill/>
          </a:ln>
        </p:spPr>
      </p:pic>
      <p:sp>
        <p:nvSpPr>
          <p:cNvPr id="580" name="Rectangle 5"/>
          <p:cNvSpPr/>
          <p:nvPr/>
        </p:nvSpPr>
        <p:spPr>
          <a:xfrm>
            <a:off x="289080" y="1700280"/>
            <a:ext cx="8604000" cy="20160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 مقتدر و متمركز بوده و از حمايت قانوني و سياسي برخوردار باش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 تعامل دستگاه با واحد مركزي بودجه و ارائه اطلاعات دقي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6"/>
          <p:cNvSpPr/>
          <p:nvPr/>
        </p:nvSpPr>
        <p:spPr>
          <a:xfrm>
            <a:off x="324000" y="4149720"/>
            <a:ext cx="8569080" cy="24480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 تلاش درجهت حداكثر صرفه جوئي و كارآئي دستگاه از نظر منابع مالي ،امكانات و نيروي انسا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 تهيه و اجراي برنامه هاي دولت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7"/>
          <p:cNvSpPr/>
          <p:nvPr/>
        </p:nvSpPr>
        <p:spPr>
          <a:xfrm>
            <a:off x="2556000" y="1341360"/>
            <a:ext cx="3887640" cy="647640"/>
          </a:xfrm>
          <a:prstGeom prst="ellipse">
            <a:avLst/>
          </a:prstGeom>
          <a:solidFill>
            <a:srgbClr val="f0a22e"/>
          </a:solidFill>
          <a:ln w="0">
            <a:noFill/>
          </a:ln>
          <a:effectLst>
            <a:outerShdw dist="17819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اصول ك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8"/>
          <p:cNvSpPr/>
          <p:nvPr/>
        </p:nvSpPr>
        <p:spPr>
          <a:xfrm>
            <a:off x="2556000" y="3789360"/>
            <a:ext cx="3887640" cy="647640"/>
          </a:xfrm>
          <a:prstGeom prst="ellipse">
            <a:avLst/>
          </a:prstGeom>
          <a:solidFill>
            <a:srgbClr val="ff99ff"/>
          </a:solidFill>
          <a:ln w="0">
            <a:noFill/>
          </a:ln>
          <a:effectLst>
            <a:outerShdw dist="17819" dir="2700000" blurRad="0" rotWithShape="0">
              <a:srgbClr val="99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وظيفه اص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Rectangle 2" descr=""/>
          <p:cNvPicPr/>
          <p:nvPr/>
        </p:nvPicPr>
        <p:blipFill>
          <a:blip r:embed="rId1"/>
          <a:stretch/>
        </p:blipFill>
        <p:spPr>
          <a:xfrm>
            <a:off x="122400" y="-36360"/>
            <a:ext cx="8583480" cy="151128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3"/>
          <p:cNvSpPr/>
          <p:nvPr/>
        </p:nvSpPr>
        <p:spPr>
          <a:xfrm>
            <a:off x="179280" y="1143000"/>
            <a:ext cx="7135920" cy="173664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Arial"/>
              </a:rPr>
              <a:t>  ارقام هزينه اي منشا تعهد براي دولت نبوده و پرداخت بهاي كالا و خدمات منشاء بدهكاري  ميباشد و ارقام مخارج مصوب تنها مجوزي براي پرداخت هزينه هاي دولت در چهارچوب موافقتنامه هاي مربوطه ميباش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Arial"/>
              </a:rPr>
              <a:t>  قانون بودجه فقط براي استفاده دولت بتصويب رسيده و اشخاص حقيقي و حقوقي براي دعاوي و يا احقاق حق خود نمي توانند به آن اتكا كنن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179280" y="2952720"/>
            <a:ext cx="7128000" cy="1584360"/>
          </a:xfrm>
          <a:prstGeom prst="rect">
            <a:avLst/>
          </a:prstGeom>
          <a:solidFill>
            <a:srgbClr val="f0d7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Arial"/>
              </a:rPr>
              <a:t>ارقام مندرج در بودجه منشا حقوقي مطالبات دولت نبوده بلكه منشا حقوقي اين مطالبات قوانين مالياتي و يا ساير قوانين مربوطه اس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Arial"/>
              </a:rPr>
              <a:t>  برخلاف مخارج در مورد هزينه ها ذكر ارقام درآمدي براي دستگاه مربوطه ايجاد وظيفه و تكليف ميكن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7380360" y="1066680"/>
            <a:ext cx="1512720" cy="181296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Arial"/>
              </a:rPr>
              <a:t>ارقام مخارج (تحديدي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6"/>
          <p:cNvSpPr/>
          <p:nvPr/>
        </p:nvSpPr>
        <p:spPr>
          <a:xfrm>
            <a:off x="7380360" y="2952720"/>
            <a:ext cx="1511280" cy="1584360"/>
          </a:xfrm>
          <a:prstGeom prst="rect">
            <a:avLst/>
          </a:prstGeom>
          <a:solidFill>
            <a:srgbClr val="f0d7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Arial"/>
              </a:rPr>
              <a:t>ارقام درآم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Arial"/>
              </a:rPr>
              <a:t>(تخميني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7"/>
          <p:cNvSpPr/>
          <p:nvPr/>
        </p:nvSpPr>
        <p:spPr>
          <a:xfrm>
            <a:off x="7315200" y="4608360"/>
            <a:ext cx="1576440" cy="2249640"/>
          </a:xfrm>
          <a:prstGeom prst="rect">
            <a:avLst/>
          </a:prstGeom>
          <a:solidFill>
            <a:srgbClr val="b2ec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99"/>
                </a:solidFill>
                <a:latin typeface="Arial"/>
              </a:rPr>
              <a:t>ضوابط تصوي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8"/>
          <p:cNvSpPr/>
          <p:nvPr/>
        </p:nvSpPr>
        <p:spPr>
          <a:xfrm>
            <a:off x="179280" y="4608360"/>
            <a:ext cx="7128000" cy="2249640"/>
          </a:xfrm>
          <a:prstGeom prst="rect">
            <a:avLst/>
          </a:prstGeom>
          <a:solidFill>
            <a:srgbClr val="b2ec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Arial"/>
              </a:rPr>
              <a:t>  بودجه در قالب لايحه و از سوي دولت به مجلس تقديم ميگردد و نمايندگان نميتوانند در قالب   طرح آن را ارائه دهن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Arial"/>
              </a:rPr>
              <a:t>  قانون بودجه مربوط به سال مشخصي بوده و ميبايست لايحه بودجه هر سال بتصويب برسد و نميتوان بودجه سال قبل را عينا براي سال بعد ارائه دا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Arial"/>
              </a:rPr>
              <a:t>  رسيدگي و تصويب بودجه بايد در صحن مجلس انجام گيريد و تصويب آن در كميسيونها امكانپذير ني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99"/>
                </a:solidFill>
                <a:latin typeface="Arial"/>
              </a:rPr>
              <a:t>  نمايندگان مجلس نميتوانند پشنهاداتي بدهند كه هزينه را افزايش ده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Oval 4"/>
          <p:cNvSpPr/>
          <p:nvPr/>
        </p:nvSpPr>
        <p:spPr>
          <a:xfrm rot="5400000">
            <a:off x="4319280" y="-2584440"/>
            <a:ext cx="647640" cy="6048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Franklin Gothic Book"/>
                <a:cs typeface="Tahoma"/>
              </a:rPr>
              <a:t>روشهای برآورد و تنظیم درآمد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324000" y="907920"/>
          <a:ext cx="8569080" cy="5784840"/>
        </p:xfrm>
        <a:graphic>
          <a:graphicData uri="http://schemas.openxmlformats.org/drawingml/2006/table">
            <a:tbl>
              <a:tblPr/>
              <a:tblGrid>
                <a:gridCol w="2062080"/>
                <a:gridCol w="2065320"/>
                <a:gridCol w="3182760"/>
                <a:gridCol w="1258920"/>
              </a:tblGrid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معای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مزای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شرح اقدام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روش برآو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فاصله یک ساله نادیده گرفته شده و اوضاع واحوال اقتصادی که در نظر گرفته نمی شو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چون درآمد سال مورد نظر قطعا وصول شده بودجه دارای استحکام و تعادل ا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مبنای برآورد درآمدها  ، آخرین بودجه ای که اجرای آن خاتمه پذیرفته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B Titr"/>
                        </a:rPr>
                        <a:t>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میباش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سال ما قبل آخ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اتکا  به وقایع اقتصادی سالهای قبل و عدم نگاه به آیند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d7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بدلیل وجود منطق مربوطه در بسیاری از کشورها استفاده میشو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d7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حد متوسط و آهنگ افزایش یا کاهش هر یک از انواع درآمدها در یک دوره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ea typeface="B Titr"/>
                        </a:rPr>
                        <a:t>3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ea typeface="B Titr"/>
                        </a:rPr>
                        <a:t> تا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ea typeface="B Titr"/>
                        </a:rPr>
                        <a:t>5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ea typeface="B Titr"/>
                        </a:rPr>
                        <a:t> ساله قبلی مبنا قرار میگی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d7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روش حد متوسطه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d7ae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اتکا  به وقایع اقتصادی سالهای قبل و عدم نگاه به آیند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استفاده از مبانی علمی وروشهای  آماری همزمان با تخصص و تجارب کارشناسان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استفاده از روشهای دقیق آماری برای بررسی اثر عوامل گوناگون در وصول درآمدها در یک محدوده زمانی مشخ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روش پیش بینی مستقی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149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درکشورهائی که با فقر آماری مواجه هستند استفاده از این روش دشوار ا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عدم وجود خطاهای فاحش روشهای قبلی و نزدیک بودن درآمد وصولی با درآمد پیش بینی شد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براساس تجزیه و تحلیل همبستگی و جمع آوری پرسشنامه ها و استفاده از فنون پیشرفته آماری چون ضریب همبستگی ، سریهای زمانی و محاسبه کشش پذیر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  <a:cs typeface="B Titr"/>
                        </a:rPr>
                        <a:t>روش سنجیده منظ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0a22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Diagram 4" descr=""/>
          <p:cNvPicPr/>
          <p:nvPr/>
        </p:nvPicPr>
        <p:blipFill>
          <a:blip r:embed="rId1"/>
          <a:stretch/>
        </p:blipFill>
        <p:spPr>
          <a:xfrm>
            <a:off x="755640" y="96840"/>
            <a:ext cx="7632720" cy="6638760"/>
          </a:xfrm>
          <a:prstGeom prst="rect">
            <a:avLst/>
          </a:prstGeom>
          <a:ln w="0">
            <a:noFill/>
          </a:ln>
        </p:spPr>
      </p:pic>
      <p:grpSp>
        <p:nvGrpSpPr>
          <p:cNvPr id="413" name="Curved Left Arrow 6"/>
          <p:cNvGrpSpPr/>
          <p:nvPr/>
        </p:nvGrpSpPr>
        <p:grpSpPr>
          <a:xfrm>
            <a:off x="6076800" y="2189160"/>
            <a:ext cx="1182960" cy="2382840"/>
            <a:chOff x="6076800" y="2189160"/>
            <a:chExt cx="1182960" cy="2382840"/>
          </a:xfrm>
        </p:grpSpPr>
        <p:pic>
          <p:nvPicPr>
            <p:cNvPr id="414" name="Curved Left Arrow 6" descr=""/>
            <p:cNvPicPr/>
            <p:nvPr/>
          </p:nvPicPr>
          <p:blipFill>
            <a:blip r:embed="rId2"/>
            <a:stretch/>
          </p:blipFill>
          <p:spPr>
            <a:xfrm>
              <a:off x="6076800" y="2189160"/>
              <a:ext cx="1182960" cy="23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6324480" y="2438280"/>
              <a:ext cx="68580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Curved Left Arrow 7"/>
          <p:cNvGrpSpPr/>
          <p:nvPr/>
        </p:nvGrpSpPr>
        <p:grpSpPr>
          <a:xfrm>
            <a:off x="1274760" y="2139840"/>
            <a:ext cx="1187280" cy="2303640"/>
            <a:chOff x="1274760" y="2139840"/>
            <a:chExt cx="1187280" cy="2303640"/>
          </a:xfrm>
        </p:grpSpPr>
        <p:pic>
          <p:nvPicPr>
            <p:cNvPr id="417" name="Curved Left Arrow 7" descr=""/>
            <p:cNvPicPr/>
            <p:nvPr/>
          </p:nvPicPr>
          <p:blipFill>
            <a:blip r:embed="rId3"/>
            <a:stretch/>
          </p:blipFill>
          <p:spPr>
            <a:xfrm>
              <a:off x="1274760" y="2139840"/>
              <a:ext cx="1187280" cy="23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 rot="10800000">
              <a:off x="1523520" y="2362320"/>
              <a:ext cx="6858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Curved Left Arrow 8"/>
          <p:cNvGrpSpPr/>
          <p:nvPr/>
        </p:nvGrpSpPr>
        <p:grpSpPr>
          <a:xfrm>
            <a:off x="2724120" y="249120"/>
            <a:ext cx="3054240" cy="1219320"/>
            <a:chOff x="2724120" y="249120"/>
            <a:chExt cx="3054240" cy="1219320"/>
          </a:xfrm>
        </p:grpSpPr>
        <p:pic>
          <p:nvPicPr>
            <p:cNvPr id="420" name="Curved Left Arrow 8" descr=""/>
            <p:cNvPicPr/>
            <p:nvPr/>
          </p:nvPicPr>
          <p:blipFill>
            <a:blip r:embed="rId4"/>
            <a:stretch/>
          </p:blipFill>
          <p:spPr>
            <a:xfrm>
              <a:off x="2724120" y="249120"/>
              <a:ext cx="30542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 rot="16200000">
              <a:off x="3908160" y="-434880"/>
              <a:ext cx="71784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Curved Left Arrow 9"/>
          <p:cNvGrpSpPr/>
          <p:nvPr/>
        </p:nvGrpSpPr>
        <p:grpSpPr>
          <a:xfrm>
            <a:off x="2682720" y="5162400"/>
            <a:ext cx="3052800" cy="1335240"/>
            <a:chOff x="2682720" y="5162400"/>
            <a:chExt cx="3052800" cy="1335240"/>
          </a:xfrm>
        </p:grpSpPr>
        <p:pic>
          <p:nvPicPr>
            <p:cNvPr id="423" name="Curved Left Arrow 9" descr=""/>
            <p:cNvPicPr/>
            <p:nvPr/>
          </p:nvPicPr>
          <p:blipFill>
            <a:blip r:embed="rId5"/>
            <a:stretch/>
          </p:blipFill>
          <p:spPr>
            <a:xfrm>
              <a:off x="2682720" y="5162400"/>
              <a:ext cx="305280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 rot="5400000">
              <a:off x="3771360" y="4533840"/>
              <a:ext cx="83844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AutoShape 11"/>
          <p:cNvSpPr/>
          <p:nvPr/>
        </p:nvSpPr>
        <p:spPr>
          <a:xfrm>
            <a:off x="898560" y="1916280"/>
            <a:ext cx="1441440" cy="720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cc"/>
          </a:solidFill>
          <a:ln w="0">
            <a:noFill/>
          </a:ln>
          <a:effectLst>
            <a:outerShdw dist="17819" dir="2700000" blurRad="0" rotWithShape="0">
              <a:srgbClr val="3d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درخواست بودج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6"/>
          <p:cNvSpPr/>
          <p:nvPr/>
        </p:nvSpPr>
        <p:spPr>
          <a:xfrm>
            <a:off x="2914560" y="1916280"/>
            <a:ext cx="1441440" cy="720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cc"/>
          </a:solidFill>
          <a:ln w="0">
            <a:noFill/>
          </a:ln>
          <a:effectLst>
            <a:outerShdw dist="17819" dir="2700000" blurRad="0" rotWithShape="0">
              <a:srgbClr val="3d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پيشنهاد بودج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48"/>
          <p:cNvGrpSpPr/>
          <p:nvPr/>
        </p:nvGrpSpPr>
        <p:grpSpPr>
          <a:xfrm>
            <a:off x="898560" y="3917880"/>
            <a:ext cx="5473800" cy="720720"/>
            <a:chOff x="898560" y="3917880"/>
            <a:chExt cx="5473800" cy="720720"/>
          </a:xfrm>
        </p:grpSpPr>
        <p:sp>
          <p:nvSpPr>
            <p:cNvPr id="428" name="AutoShape 10"/>
            <p:cNvSpPr/>
            <p:nvPr/>
          </p:nvSpPr>
          <p:spPr>
            <a:xfrm>
              <a:off x="898560" y="3917880"/>
              <a:ext cx="1441440" cy="720720"/>
            </a:xfrm>
            <a:custGeom>
              <a:avLst/>
              <a:gdLst>
                <a:gd name="textAreaLeft" fmla="*/ 0 w 1441440"/>
                <a:gd name="textAreaRight" fmla="*/ 1441800 w 14414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  <a:effectLst>
              <a:outerShdw dist="17819" dir="2700000" blurRad="0" rotWithShape="0">
                <a:srgbClr val="99003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400" spc="-1" strike="noStrike">
                  <a:solidFill>
                    <a:srgbClr val="ffffff"/>
                  </a:solidFill>
                  <a:latin typeface="Franklin Gothic Book"/>
                  <a:cs typeface="Tahoma"/>
                </a:rPr>
                <a:t>گزارشهاي مالي-عمليات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AutoShape 15"/>
            <p:cNvSpPr/>
            <p:nvPr/>
          </p:nvSpPr>
          <p:spPr>
            <a:xfrm>
              <a:off x="2914560" y="3917880"/>
              <a:ext cx="1441440" cy="720720"/>
            </a:xfrm>
            <a:custGeom>
              <a:avLst/>
              <a:gdLst>
                <a:gd name="textAreaLeft" fmla="*/ 0 w 1441440"/>
                <a:gd name="textAreaRight" fmla="*/ 1441800 w 14414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  <a:effectLst>
              <a:outerShdw dist="17819" dir="2700000" blurRad="0" rotWithShape="0">
                <a:srgbClr val="99003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400" spc="-1" strike="noStrike">
                  <a:solidFill>
                    <a:srgbClr val="ffffff"/>
                  </a:solidFill>
                  <a:latin typeface="Franklin Gothic Book"/>
                  <a:cs typeface="Tahoma"/>
                </a:rPr>
                <a:t>گزارش انجام عمليا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19"/>
            <p:cNvSpPr/>
            <p:nvPr/>
          </p:nvSpPr>
          <p:spPr>
            <a:xfrm>
              <a:off x="4930920" y="3917880"/>
              <a:ext cx="1441440" cy="720720"/>
            </a:xfrm>
            <a:custGeom>
              <a:avLst/>
              <a:gdLst>
                <a:gd name="textAreaLeft" fmla="*/ 0 w 1441440"/>
                <a:gd name="textAreaRight" fmla="*/ 1441800 w 14414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  <a:effectLst>
              <a:outerShdw dist="17819" dir="2700000" blurRad="0" rotWithShape="0">
                <a:srgbClr val="99003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400" spc="-1" strike="noStrike">
                  <a:solidFill>
                    <a:srgbClr val="ffffff"/>
                  </a:solidFill>
                  <a:latin typeface="Franklin Gothic Book"/>
                  <a:cs typeface="Tahoma"/>
                </a:rPr>
                <a:t>خلاصه گزارش انجام عملیا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AutoShape 20"/>
          <p:cNvSpPr/>
          <p:nvPr/>
        </p:nvSpPr>
        <p:spPr>
          <a:xfrm>
            <a:off x="4930920" y="1916280"/>
            <a:ext cx="1441440" cy="720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cc"/>
          </a:solidFill>
          <a:ln w="0">
            <a:noFill/>
          </a:ln>
          <a:effectLst>
            <a:outerShdw dist="17819" dir="2700000" blurRad="0" rotWithShape="0">
              <a:srgbClr val="3d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لايحه بودج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24"/>
          <p:cNvSpPr/>
          <p:nvPr/>
        </p:nvSpPr>
        <p:spPr>
          <a:xfrm>
            <a:off x="6946920" y="1916280"/>
            <a:ext cx="1441440" cy="720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cc"/>
          </a:solidFill>
          <a:ln w="0">
            <a:noFill/>
          </a:ln>
          <a:effectLst>
            <a:outerShdw dist="17819" dir="2700000" blurRad="0" rotWithShape="0">
              <a:srgbClr val="3d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لايحه بودج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47"/>
          <p:cNvGrpSpPr/>
          <p:nvPr/>
        </p:nvGrpSpPr>
        <p:grpSpPr>
          <a:xfrm>
            <a:off x="826560" y="2924280"/>
            <a:ext cx="7491960" cy="720720"/>
            <a:chOff x="826560" y="2924280"/>
            <a:chExt cx="7491960" cy="720720"/>
          </a:xfrm>
        </p:grpSpPr>
        <p:sp>
          <p:nvSpPr>
            <p:cNvPr id="434" name="AutoShape 12"/>
            <p:cNvSpPr/>
            <p:nvPr/>
          </p:nvSpPr>
          <p:spPr>
            <a:xfrm flipH="1">
              <a:off x="826200" y="2924280"/>
              <a:ext cx="1443240" cy="720720"/>
            </a:xfrm>
            <a:custGeom>
              <a:avLst/>
              <a:gdLst>
                <a:gd name="textAreaLeft" fmla="*/ -360 w 1443240"/>
                <a:gd name="textAreaRight" fmla="*/ 1443240 w 14432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ff"/>
            </a:solidFill>
            <a:ln w="0">
              <a:noFill/>
            </a:ln>
            <a:effectLst>
              <a:outerShdw dist="17819" dir="2700000" blurRad="0" rotWithShape="0">
                <a:srgbClr val="99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200" spc="-1" strike="noStrike">
                  <a:solidFill>
                    <a:srgbClr val="000000"/>
                  </a:solidFill>
                  <a:latin typeface="Franklin Gothic Book"/>
                  <a:cs typeface="Tahoma"/>
                </a:rPr>
                <a:t>موافقتنامه ها و توزيع اعتبارات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AutoShape 17"/>
            <p:cNvSpPr/>
            <p:nvPr/>
          </p:nvSpPr>
          <p:spPr>
            <a:xfrm flipH="1">
              <a:off x="2843280" y="2924280"/>
              <a:ext cx="1442880" cy="720720"/>
            </a:xfrm>
            <a:custGeom>
              <a:avLst/>
              <a:gdLst>
                <a:gd name="textAreaLeft" fmla="*/ 360 w 1442880"/>
                <a:gd name="textAreaRight" fmla="*/ 1443600 w 144288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ff"/>
            </a:solidFill>
            <a:ln w="0">
              <a:noFill/>
            </a:ln>
            <a:effectLst>
              <a:outerShdw dist="17819" dir="2700000" blurRad="0" rotWithShape="0">
                <a:srgbClr val="99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200" spc="-1" strike="noStrike">
                  <a:solidFill>
                    <a:srgbClr val="000000"/>
                  </a:solidFill>
                  <a:latin typeface="Franklin Gothic Book"/>
                  <a:cs typeface="Tahoma"/>
                </a:rPr>
                <a:t>تبادل موافقتنامه ها و ابلاغ تخصي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21"/>
            <p:cNvSpPr/>
            <p:nvPr/>
          </p:nvSpPr>
          <p:spPr>
            <a:xfrm flipH="1">
              <a:off x="4858560" y="2924280"/>
              <a:ext cx="1443240" cy="720720"/>
            </a:xfrm>
            <a:custGeom>
              <a:avLst/>
              <a:gdLst>
                <a:gd name="textAreaLeft" fmla="*/ -360 w 1443240"/>
                <a:gd name="textAreaRight" fmla="*/ 1443240 w 14432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ff"/>
            </a:solidFill>
            <a:ln w="0">
              <a:noFill/>
            </a:ln>
            <a:effectLst>
              <a:outerShdw dist="17819" dir="2700000" blurRad="0" rotWithShape="0">
                <a:srgbClr val="99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400" spc="-1" strike="noStrike">
                  <a:solidFill>
                    <a:srgbClr val="000000"/>
                  </a:solidFill>
                  <a:latin typeface="Franklin Gothic Book"/>
                  <a:cs typeface="Tahoma"/>
                </a:rPr>
                <a:t>ابلاغ قانون بودج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25"/>
            <p:cNvSpPr/>
            <p:nvPr/>
          </p:nvSpPr>
          <p:spPr>
            <a:xfrm flipH="1">
              <a:off x="6875640" y="2924280"/>
              <a:ext cx="1442880" cy="720720"/>
            </a:xfrm>
            <a:custGeom>
              <a:avLst/>
              <a:gdLst>
                <a:gd name="textAreaLeft" fmla="*/ 360 w 1442880"/>
                <a:gd name="textAreaRight" fmla="*/ 1443600 w 144288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ff"/>
            </a:solidFill>
            <a:ln w="0">
              <a:noFill/>
            </a:ln>
            <a:effectLst>
              <a:outerShdw dist="17819" dir="2700000" blurRad="0" rotWithShape="0">
                <a:srgbClr val="99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a-IR" sz="1400" spc="-1" strike="noStrike">
                  <a:solidFill>
                    <a:srgbClr val="000000"/>
                  </a:solidFill>
                  <a:latin typeface="Franklin Gothic Book"/>
                  <a:cs typeface="Tahoma"/>
                </a:rPr>
                <a:t>تصویب قانون بودج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49"/>
          <p:cNvGrpSpPr/>
          <p:nvPr/>
        </p:nvGrpSpPr>
        <p:grpSpPr>
          <a:xfrm>
            <a:off x="252360" y="691920"/>
            <a:ext cx="8567280" cy="5785200"/>
            <a:chOff x="252360" y="691920"/>
            <a:chExt cx="8567280" cy="5785200"/>
          </a:xfrm>
        </p:grpSpPr>
        <p:grpSp>
          <p:nvGrpSpPr>
            <p:cNvPr id="439" name="Group 45"/>
            <p:cNvGrpSpPr/>
            <p:nvPr/>
          </p:nvGrpSpPr>
          <p:grpSpPr>
            <a:xfrm>
              <a:off x="252360" y="691920"/>
              <a:ext cx="8567280" cy="4105080"/>
              <a:chOff x="252360" y="691920"/>
              <a:chExt cx="8567280" cy="4105080"/>
            </a:xfrm>
          </p:grpSpPr>
          <p:sp>
            <p:nvSpPr>
              <p:cNvPr id="440" name="AutoShape 4"/>
              <p:cNvSpPr/>
              <p:nvPr/>
            </p:nvSpPr>
            <p:spPr>
              <a:xfrm rot="16200000">
                <a:off x="-1486440" y="2568960"/>
                <a:ext cx="409536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a5644e"/>
              </a:solidFill>
              <a:ln w="0">
                <a:noFill/>
              </a:ln>
              <a:effectLst>
                <a:outerShdw dist="17819" dir="2700000" blurRad="0" rotWithShape="0">
                  <a:srgbClr val="633c2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800" spc="-1" strike="noStrike">
                    <a:solidFill>
                      <a:srgbClr val="ffffff"/>
                    </a:solidFill>
                    <a:latin typeface="Franklin Gothic Book"/>
                    <a:cs typeface="Tahoma"/>
                  </a:rPr>
                  <a:t>واحد اجرائي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AutoShape 5"/>
              <p:cNvSpPr/>
              <p:nvPr/>
            </p:nvSpPr>
            <p:spPr>
              <a:xfrm rot="16200000">
                <a:off x="529920" y="2568960"/>
                <a:ext cx="409536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a5644e"/>
              </a:solidFill>
              <a:ln w="0">
                <a:noFill/>
              </a:ln>
              <a:effectLst>
                <a:outerShdw dist="17819" dir="2700000" blurRad="0" rotWithShape="0">
                  <a:srgbClr val="633c2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800" spc="-1" strike="noStrike">
                    <a:solidFill>
                      <a:srgbClr val="ffffff"/>
                    </a:solidFill>
                    <a:latin typeface="Franklin Gothic Book"/>
                    <a:cs typeface="Tahoma"/>
                  </a:rPr>
                  <a:t>دستگاههاي اجرائي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AutoShape 6"/>
              <p:cNvSpPr/>
              <p:nvPr/>
            </p:nvSpPr>
            <p:spPr>
              <a:xfrm rot="16200000">
                <a:off x="2557800" y="2559600"/>
                <a:ext cx="409572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a5644e"/>
              </a:solidFill>
              <a:ln w="0">
                <a:noFill/>
              </a:ln>
              <a:effectLst>
                <a:outerShdw dist="17819" dir="2700000" blurRad="0" rotWithShape="0">
                  <a:srgbClr val="633c2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800" spc="-1" strike="noStrike">
                    <a:solidFill>
                      <a:srgbClr val="ffffff"/>
                    </a:solidFill>
                    <a:latin typeface="Franklin Gothic Book"/>
                    <a:cs typeface="Tahoma"/>
                  </a:rPr>
                  <a:t>سازمان مديريت و برنامه ريزي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AutoShape 7"/>
              <p:cNvSpPr/>
              <p:nvPr/>
            </p:nvSpPr>
            <p:spPr>
              <a:xfrm rot="16200000">
                <a:off x="4574880" y="2559600"/>
                <a:ext cx="409572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a5644e"/>
              </a:solidFill>
              <a:ln w="0">
                <a:noFill/>
              </a:ln>
              <a:effectLst>
                <a:outerShdw dist="17819" dir="2700000" blurRad="0" rotWithShape="0">
                  <a:srgbClr val="633c2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800" spc="-1" strike="noStrike">
                    <a:solidFill>
                      <a:srgbClr val="ffffff"/>
                    </a:solidFill>
                    <a:latin typeface="Franklin Gothic Book"/>
                    <a:cs typeface="Tahoma"/>
                  </a:rPr>
                  <a:t>قوه مجري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AutoShape 8"/>
              <p:cNvSpPr/>
              <p:nvPr/>
            </p:nvSpPr>
            <p:spPr>
              <a:xfrm rot="16200000">
                <a:off x="6591600" y="2559600"/>
                <a:ext cx="409572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a5644e"/>
              </a:solidFill>
              <a:ln w="0">
                <a:noFill/>
              </a:ln>
              <a:effectLst>
                <a:outerShdw dist="17819" dir="2700000" blurRad="0" rotWithShape="0">
                  <a:srgbClr val="633c2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800" spc="-1" strike="noStrike">
                    <a:solidFill>
                      <a:srgbClr val="ffffff"/>
                    </a:solidFill>
                    <a:latin typeface="Franklin Gothic Book"/>
                    <a:cs typeface="Tahoma"/>
                  </a:rPr>
                  <a:t>قوه مقنن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Oval 29"/>
              <p:cNvSpPr/>
              <p:nvPr/>
            </p:nvSpPr>
            <p:spPr>
              <a:xfrm rot="16200000">
                <a:off x="127080" y="3938760"/>
                <a:ext cx="897840" cy="647640"/>
              </a:xfrm>
              <a:prstGeom prst="ellipse">
                <a:avLst/>
              </a:prstGeom>
              <a:solidFill>
                <a:srgbClr val="a5644e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99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800" spc="-1" strike="noStrike">
                    <a:solidFill>
                      <a:srgbClr val="ffffff"/>
                    </a:solidFill>
                    <a:latin typeface="Franklin Gothic Book"/>
                    <a:cs typeface="Tahoma"/>
                  </a:rPr>
                  <a:t>عمليات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AutoShape 30"/>
            <p:cNvSpPr/>
            <p:nvPr/>
          </p:nvSpPr>
          <p:spPr>
            <a:xfrm>
              <a:off x="3924360" y="5842080"/>
              <a:ext cx="1474560" cy="635040"/>
            </a:xfrm>
            <a:prstGeom prst="roundRect">
              <a:avLst>
                <a:gd name="adj" fmla="val 16667"/>
              </a:avLst>
            </a:prstGeom>
            <a:solidFill>
              <a:srgbClr val="a5644e"/>
            </a:solidFill>
            <a:ln w="0">
              <a:noFill/>
            </a:ln>
            <a:effectLst>
              <a:outerShdw dist="17819" dir="2700000" blurRad="0" rotWithShape="0">
                <a:srgbClr val="633c2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400" spc="-1" strike="noStrike">
                  <a:solidFill>
                    <a:srgbClr val="ffffff"/>
                  </a:solidFill>
                  <a:latin typeface="Franklin Gothic Book"/>
                  <a:cs typeface="Tahoma"/>
                </a:rPr>
                <a:t>وزارت امور اقتصادي و دارائي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50"/>
          <p:cNvGrpSpPr/>
          <p:nvPr/>
        </p:nvGrpSpPr>
        <p:grpSpPr>
          <a:xfrm>
            <a:off x="826560" y="289080"/>
            <a:ext cx="7561800" cy="5578200"/>
            <a:chOff x="826560" y="289080"/>
            <a:chExt cx="7561800" cy="5578200"/>
          </a:xfrm>
        </p:grpSpPr>
        <p:grpSp>
          <p:nvGrpSpPr>
            <p:cNvPr id="448" name="Group 46"/>
            <p:cNvGrpSpPr/>
            <p:nvPr/>
          </p:nvGrpSpPr>
          <p:grpSpPr>
            <a:xfrm>
              <a:off x="826560" y="289080"/>
              <a:ext cx="7561800" cy="1411200"/>
              <a:chOff x="826560" y="289080"/>
              <a:chExt cx="7561800" cy="1411200"/>
            </a:xfrm>
          </p:grpSpPr>
          <p:sp>
            <p:nvSpPr>
              <p:cNvPr id="449" name="AutoShape 14"/>
              <p:cNvSpPr/>
              <p:nvPr/>
            </p:nvSpPr>
            <p:spPr>
              <a:xfrm flipH="1">
                <a:off x="826200" y="907920"/>
                <a:ext cx="1443240" cy="720720"/>
              </a:xfrm>
              <a:custGeom>
                <a:avLst/>
                <a:gdLst>
                  <a:gd name="textAreaLeft" fmla="*/ -360 w 1443240"/>
                  <a:gd name="textAreaRight" fmla="*/ 1443240 w 1443240"/>
                  <a:gd name="textAreaTop" fmla="*/ 0 h 720720"/>
                  <a:gd name="textAreaBottom" fmla="*/ 721080 h 72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  <a:effectLst>
                <a:outerShdw dist="17819" dir="2700000" blurRad="0" rotWithShape="0">
                  <a:srgbClr val="9061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400" spc="-1" strike="noStrike">
                    <a:solidFill>
                      <a:srgbClr val="000000"/>
                    </a:solidFill>
                    <a:latin typeface="Franklin Gothic Book"/>
                    <a:cs typeface="Tahoma"/>
                  </a:rPr>
                  <a:t>خط مشي ها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AutoShape 18"/>
              <p:cNvSpPr/>
              <p:nvPr/>
            </p:nvSpPr>
            <p:spPr>
              <a:xfrm flipH="1">
                <a:off x="2843280" y="907920"/>
                <a:ext cx="1442880" cy="720720"/>
              </a:xfrm>
              <a:custGeom>
                <a:avLst/>
                <a:gdLst>
                  <a:gd name="textAreaLeft" fmla="*/ 360 w 1442880"/>
                  <a:gd name="textAreaRight" fmla="*/ 1443600 w 1442880"/>
                  <a:gd name="textAreaTop" fmla="*/ 0 h 720720"/>
                  <a:gd name="textAreaBottom" fmla="*/ 721080 h 72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  <a:effectLst>
                <a:outerShdw dist="17819" dir="2700000" blurRad="0" rotWithShape="0">
                  <a:srgbClr val="9061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400" spc="-1" strike="noStrike">
                    <a:solidFill>
                      <a:srgbClr val="000000"/>
                    </a:solidFill>
                    <a:latin typeface="Franklin Gothic Book"/>
                    <a:cs typeface="Tahoma"/>
                  </a:rPr>
                  <a:t>بخشنامه بودجه و سياستها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AutoShape 22"/>
              <p:cNvSpPr/>
              <p:nvPr/>
            </p:nvSpPr>
            <p:spPr>
              <a:xfrm flipH="1">
                <a:off x="4858560" y="907920"/>
                <a:ext cx="1443240" cy="720720"/>
              </a:xfrm>
              <a:custGeom>
                <a:avLst/>
                <a:gdLst>
                  <a:gd name="textAreaLeft" fmla="*/ -360 w 1443240"/>
                  <a:gd name="textAreaRight" fmla="*/ 1443240 w 1443240"/>
                  <a:gd name="textAreaTop" fmla="*/ 0 h 720720"/>
                  <a:gd name="textAreaBottom" fmla="*/ 721080 h 72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  <a:effectLst>
                <a:outerShdw dist="17819" dir="2700000" blurRad="0" rotWithShape="0">
                  <a:srgbClr val="9061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1400" spc="-1" strike="noStrike">
                    <a:solidFill>
                      <a:srgbClr val="000000"/>
                    </a:solidFill>
                    <a:latin typeface="Franklin Gothic Book"/>
                    <a:cs typeface="Tahoma"/>
                  </a:rPr>
                  <a:t>سياستها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2" name="Group 44"/>
              <p:cNvGrpSpPr/>
              <p:nvPr/>
            </p:nvGrpSpPr>
            <p:grpSpPr>
              <a:xfrm>
                <a:off x="6948360" y="289080"/>
                <a:ext cx="1440000" cy="1411200"/>
                <a:chOff x="6948360" y="289080"/>
                <a:chExt cx="1440000" cy="1411200"/>
              </a:xfrm>
            </p:grpSpPr>
            <p:sp>
              <p:nvSpPr>
                <p:cNvPr id="453" name="AutoShape 27"/>
                <p:cNvSpPr/>
                <p:nvPr/>
              </p:nvSpPr>
              <p:spPr>
                <a:xfrm>
                  <a:off x="6948360" y="547560"/>
                  <a:ext cx="1440000" cy="1152720"/>
                </a:xfrm>
                <a:prstGeom prst="pie">
                  <a:avLst/>
                </a:prstGeom>
                <a:solidFill>
                  <a:srgbClr val="f0a22e"/>
                </a:solidFill>
                <a:ln w="0">
                  <a:noFill/>
                </a:ln>
                <a:effectLst>
                  <a:outerShdw dist="17819" dir="2700000" blurRad="0" rotWithShape="0">
                    <a:srgbClr val="90611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a-IR" sz="1400" spc="-1" strike="noStrike">
                      <a:solidFill>
                        <a:srgbClr val="000000"/>
                      </a:solidFill>
                      <a:latin typeface="Franklin Gothic Book"/>
                      <a:cs typeface="Tahoma"/>
                    </a:rPr>
                    <a:t>نيازها و احتياجات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Oval 28"/>
                <p:cNvSpPr/>
                <p:nvPr/>
              </p:nvSpPr>
              <p:spPr>
                <a:xfrm>
                  <a:off x="7135920" y="289080"/>
                  <a:ext cx="1079280" cy="718920"/>
                </a:xfrm>
                <a:prstGeom prst="ellipse">
                  <a:avLst/>
                </a:prstGeom>
                <a:solidFill>
                  <a:srgbClr val="f0a22e"/>
                </a:solidFill>
                <a:ln w="0">
                  <a:noFill/>
                </a:ln>
                <a:effectLst>
                  <a:outerShdw dist="17819" dir="2700000" blurRad="0" rotWithShape="0">
                    <a:srgbClr val="90611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a-IR" sz="1800" spc="-1" strike="noStrike">
                      <a:solidFill>
                        <a:srgbClr val="000000"/>
                      </a:solidFill>
                      <a:latin typeface="Franklin Gothic Book"/>
                      <a:cs typeface="Tahoma"/>
                    </a:rPr>
                    <a:t>جامعه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5" name="AutoShape 31"/>
            <p:cNvSpPr/>
            <p:nvPr/>
          </p:nvSpPr>
          <p:spPr>
            <a:xfrm>
              <a:off x="3886200" y="4800600"/>
              <a:ext cx="1600200" cy="1066680"/>
            </a:xfrm>
            <a:prstGeom prst="upDownArrow">
              <a:avLst>
                <a:gd name="adj1" fmla="val 56713"/>
                <a:gd name="adj2" fmla="val 28074"/>
              </a:avLst>
            </a:prstGeom>
            <a:solidFill>
              <a:srgbClr val="f0a22e"/>
            </a:solidFill>
            <a:ln w="0">
              <a:noFill/>
            </a:ln>
            <a:effectLst>
              <a:outerShdw dist="17819" dir="2700000" blurRad="0" rotWithShape="0">
                <a:srgbClr val="9061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1800" spc="-1" strike="noStrike">
                  <a:solidFill>
                    <a:srgbClr val="000000"/>
                  </a:solidFill>
                  <a:latin typeface="Franklin Gothic Book"/>
                  <a:cs typeface="Tahoma"/>
                </a:rPr>
                <a:t>پيش بيني درآمده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AutoShape 33"/>
          <p:cNvSpPr/>
          <p:nvPr/>
        </p:nvSpPr>
        <p:spPr>
          <a:xfrm>
            <a:off x="5533920" y="5734080"/>
            <a:ext cx="1944720" cy="720720"/>
          </a:xfrm>
          <a:prstGeom prst="leftRightArrow">
            <a:avLst>
              <a:gd name="adj1" fmla="val 50000"/>
              <a:gd name="adj2" fmla="val 53716"/>
            </a:avLst>
          </a:prstGeom>
          <a:solidFill>
            <a:srgbClr val="f0a22e"/>
          </a:solidFill>
          <a:ln w="0">
            <a:noFill/>
          </a:ln>
          <a:effectLst>
            <a:outerShdw dist="17819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لايحه تفريغ بودج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34"/>
          <p:cNvSpPr/>
          <p:nvPr/>
        </p:nvSpPr>
        <p:spPr>
          <a:xfrm rot="16200000">
            <a:off x="7401600" y="5736240"/>
            <a:ext cx="1092240" cy="592200"/>
          </a:xfrm>
          <a:prstGeom prst="roundRect">
            <a:avLst>
              <a:gd name="adj" fmla="val 11111"/>
            </a:avLst>
          </a:prstGeom>
          <a:solidFill>
            <a:srgbClr val="a5644e"/>
          </a:solidFill>
          <a:ln w="0">
            <a:noFill/>
          </a:ln>
          <a:effectLst>
            <a:outerShdw dist="17819" dir="2700000" blurRad="0" rotWithShape="0">
              <a:srgbClr val="633c2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fffff"/>
                </a:solidFill>
                <a:latin typeface="Franklin Gothic Book"/>
                <a:cs typeface="Tahoma"/>
              </a:rPr>
              <a:t>ديوان محاسب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8" name="AutoShape 35"/>
          <p:cNvCxnSpPr/>
          <p:nvPr/>
        </p:nvCxnSpPr>
        <p:spPr>
          <a:xfrm>
            <a:off x="2700360" y="4797360"/>
            <a:ext cx="1224720" cy="1153440"/>
          </a:xfrm>
          <a:prstGeom prst="bentConnector3">
            <a:avLst>
              <a:gd name="adj1" fmla="val 646"/>
            </a:avLst>
          </a:prstGeom>
          <a:ln w="38160">
            <a:solidFill>
              <a:srgbClr val="000080"/>
            </a:solidFill>
            <a:miter/>
            <a:tailEnd len="lg" type="triangle" w="med"/>
          </a:ln>
        </p:spPr>
      </p:cxnSp>
      <p:cxnSp>
        <p:nvCxnSpPr>
          <p:cNvPr id="459" name="AutoShape 36"/>
          <p:cNvCxnSpPr/>
          <p:nvPr/>
        </p:nvCxnSpPr>
        <p:spPr>
          <a:xfrm flipV="1" rot="16200000">
            <a:off x="2448720" y="4832640"/>
            <a:ext cx="1512000" cy="1440360"/>
          </a:xfrm>
          <a:prstGeom prst="bentConnector3">
            <a:avLst>
              <a:gd name="adj1" fmla="val 4286"/>
            </a:avLst>
          </a:prstGeom>
          <a:ln w="38160">
            <a:solidFill>
              <a:srgbClr val="000080"/>
            </a:solidFill>
            <a:miter/>
            <a:tailEnd len="lg" type="triangle" w="med"/>
          </a:ln>
        </p:spPr>
      </p:cxnSp>
      <p:sp>
        <p:nvSpPr>
          <p:cNvPr id="460" name="Rectangle 37"/>
          <p:cNvSpPr/>
          <p:nvPr/>
        </p:nvSpPr>
        <p:spPr>
          <a:xfrm>
            <a:off x="2627280" y="55897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a5644e"/>
                </a:solidFill>
                <a:latin typeface="Franklin Gothic Book"/>
                <a:cs typeface="Tahoma"/>
              </a:rPr>
              <a:t>گزارش مال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8"/>
          <p:cNvSpPr/>
          <p:nvPr/>
        </p:nvSpPr>
        <p:spPr>
          <a:xfrm rot="16200000">
            <a:off x="1510920" y="533700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a5644e"/>
                </a:solidFill>
                <a:latin typeface="Franklin Gothic Book"/>
                <a:cs typeface="Tahoma"/>
              </a:rPr>
              <a:t>واريز وجه تخصي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2" name="AutoShape 41"/>
          <p:cNvCxnSpPr>
            <a:stCxn id="457" idx="2"/>
            <a:endCxn id="444" idx="1"/>
          </p:cNvCxnSpPr>
          <p:nvPr/>
        </p:nvCxnSpPr>
        <p:spPr>
          <a:xfrm flipV="1">
            <a:off x="8244000" y="4800600"/>
            <a:ext cx="396000" cy="1232280"/>
          </a:xfrm>
          <a:prstGeom prst="bentConnector2">
            <a:avLst/>
          </a:prstGeom>
          <a:ln w="38160">
            <a:solidFill>
              <a:srgbClr val="000080"/>
            </a:solidFill>
            <a:miter/>
            <a:tailEnd len="lg" type="triangle" w="med"/>
          </a:ln>
        </p:spPr>
      </p:cxnSp>
      <p:sp>
        <p:nvSpPr>
          <p:cNvPr id="463" name="Rectangle 42"/>
          <p:cNvSpPr/>
          <p:nvPr/>
        </p:nvSpPr>
        <p:spPr>
          <a:xfrm rot="16200000">
            <a:off x="7547760" y="5420160"/>
            <a:ext cx="1752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a5644e"/>
                </a:solidFill>
                <a:latin typeface="Franklin Gothic Book"/>
                <a:cs typeface="Tahoma"/>
              </a:rPr>
              <a:t>گزارش تفريغ بودج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Diagram 3" descr=""/>
          <p:cNvPicPr/>
          <p:nvPr/>
        </p:nvPicPr>
        <p:blipFill>
          <a:blip r:embed="rId1"/>
          <a:stretch/>
        </p:blipFill>
        <p:spPr>
          <a:xfrm>
            <a:off x="-19080" y="6480"/>
            <a:ext cx="9175680" cy="69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1"/>
          <p:cNvSpPr/>
          <p:nvPr/>
        </p:nvSpPr>
        <p:spPr>
          <a:xfrm>
            <a:off x="-695880" y="533520"/>
            <a:ext cx="1241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000000"/>
                </a:solidFill>
                <a:latin typeface="Arial"/>
                <a:cs typeface="B Titr"/>
              </a:rPr>
              <a:t>تهيه وتنظيم  وپيشنهاد بودجه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"/>
          <p:cNvSpPr/>
          <p:nvPr/>
        </p:nvSpPr>
        <p:spPr>
          <a:xfrm>
            <a:off x="4680360" y="1981080"/>
            <a:ext cx="427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Titr"/>
              </a:rPr>
              <a:t>بخشنامه بودج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-1335600" y="3124080"/>
            <a:ext cx="1148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Titr"/>
              </a:rPr>
              <a:t>تهيه وتنظيم بودجه در دستگاههاي اجراي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-533520" y="4467240"/>
            <a:ext cx="891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Titr"/>
              </a:rPr>
              <a:t>بررسي بودجه در معاونت برنامه ريزي ونظارت راهبردي رياست جمهور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5-Point Star 5"/>
          <p:cNvSpPr/>
          <p:nvPr/>
        </p:nvSpPr>
        <p:spPr>
          <a:xfrm>
            <a:off x="8381880" y="4419720"/>
            <a:ext cx="762120" cy="685800"/>
          </a:xfrm>
          <a:custGeom>
            <a:avLst/>
            <a:gdLst>
              <a:gd name="textAreaLeft" fmla="*/ 235440 w 762120"/>
              <a:gd name="textAreaRight" fmla="*/ 526680 w 762120"/>
              <a:gd name="textAreaTop" fmla="*/ 262080 h 685800"/>
              <a:gd name="textAreaBottom" fmla="*/ 524160 h 685800"/>
            </a:gdLst>
            <a:ahLst/>
            <a:rect l="textAreaLeft" t="textAreaTop" r="textAreaRight" b="textAreaBottom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7" y="423846"/>
                </a:lnTo>
                <a:lnTo>
                  <a:pt x="616471" y="685798"/>
                </a:lnTo>
                <a:lnTo>
                  <a:pt x="381000" y="523901"/>
                </a:lnTo>
                <a:lnTo>
                  <a:pt x="145529" y="685798"/>
                </a:lnTo>
                <a:lnTo>
                  <a:pt x="235473" y="423846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5-Point Star 6"/>
          <p:cNvSpPr/>
          <p:nvPr/>
        </p:nvSpPr>
        <p:spPr>
          <a:xfrm>
            <a:off x="8381880" y="3124080"/>
            <a:ext cx="762120" cy="609840"/>
          </a:xfrm>
          <a:custGeom>
            <a:avLst/>
            <a:gdLst>
              <a:gd name="textAreaLeft" fmla="*/ 235440 w 762120"/>
              <a:gd name="textAreaRight" fmla="*/ 526680 w 762120"/>
              <a:gd name="textAreaTop" fmla="*/ 232920 h 609840"/>
              <a:gd name="textAreaBottom" fmla="*/ 465840 h 609840"/>
            </a:gdLst>
            <a:ahLst/>
            <a:rect l="textAreaLeft" t="textAreaTop" r="textAreaRight" b="textAreaBottom"/>
            <a:pathLst>
              <a:path w="762000" h="609600">
                <a:moveTo>
                  <a:pt x="1" y="232846"/>
                </a:moveTo>
                <a:lnTo>
                  <a:pt x="291060" y="232847"/>
                </a:lnTo>
                <a:lnTo>
                  <a:pt x="381000" y="0"/>
                </a:lnTo>
                <a:lnTo>
                  <a:pt x="470940" y="232847"/>
                </a:lnTo>
                <a:lnTo>
                  <a:pt x="761999" y="232846"/>
                </a:lnTo>
                <a:lnTo>
                  <a:pt x="526527" y="376752"/>
                </a:lnTo>
                <a:lnTo>
                  <a:pt x="616471" y="609598"/>
                </a:lnTo>
                <a:lnTo>
                  <a:pt x="381000" y="465690"/>
                </a:lnTo>
                <a:lnTo>
                  <a:pt x="145529" y="609598"/>
                </a:lnTo>
                <a:lnTo>
                  <a:pt x="235473" y="376752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5-Point Star 7"/>
          <p:cNvSpPr/>
          <p:nvPr/>
        </p:nvSpPr>
        <p:spPr>
          <a:xfrm>
            <a:off x="8458200" y="2057400"/>
            <a:ext cx="685800" cy="533520"/>
          </a:xfrm>
          <a:custGeom>
            <a:avLst/>
            <a:gdLst>
              <a:gd name="textAreaLeft" fmla="*/ 211680 w 685800"/>
              <a:gd name="textAreaRight" fmla="*/ 474120 w 685800"/>
              <a:gd name="textAreaTop" fmla="*/ 203760 h 533520"/>
              <a:gd name="textAreaBottom" fmla="*/ 407520 h 533520"/>
            </a:gdLst>
            <a:ahLst/>
            <a:rect l="textAreaLeft" t="textAreaTop" r="textAreaRight" b="textAreaBottom"/>
            <a:pathLst>
              <a:path w="685800" h="533400">
                <a:moveTo>
                  <a:pt x="1" y="203740"/>
                </a:moveTo>
                <a:lnTo>
                  <a:pt x="261954" y="203742"/>
                </a:lnTo>
                <a:lnTo>
                  <a:pt x="342900" y="0"/>
                </a:lnTo>
                <a:lnTo>
                  <a:pt x="423846" y="203742"/>
                </a:lnTo>
                <a:lnTo>
                  <a:pt x="685799" y="203740"/>
                </a:lnTo>
                <a:lnTo>
                  <a:pt x="473874" y="329658"/>
                </a:lnTo>
                <a:lnTo>
                  <a:pt x="554824" y="533398"/>
                </a:lnTo>
                <a:lnTo>
                  <a:pt x="342900" y="407479"/>
                </a:lnTo>
                <a:lnTo>
                  <a:pt x="130976" y="533398"/>
                </a:lnTo>
                <a:lnTo>
                  <a:pt x="211926" y="329658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1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solidFill>
            <a:srgbClr val="b58b80"/>
          </a:solidFill>
          <a:ln w="25560">
            <a:solidFill>
              <a:srgbClr val="8465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000" spc="-1" strike="noStrike">
                <a:solidFill>
                  <a:srgbClr val="ffffff"/>
                </a:solidFill>
                <a:latin typeface="Arial"/>
                <a:cs typeface="B Titr"/>
              </a:rPr>
              <a:t>بخشنامه بودج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"/>
          <p:cNvSpPr/>
          <p:nvPr/>
        </p:nvSpPr>
        <p:spPr>
          <a:xfrm>
            <a:off x="-944640" y="1523880"/>
            <a:ext cx="118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Arial"/>
                <a:cs typeface="B Titr"/>
              </a:rPr>
              <a:t>سياستها  وخط مشي ها ي لازم درباره تهيه بودجه دردستگاهها براي سال آيند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3"/>
          <p:cNvSpPr/>
          <p:nvPr/>
        </p:nvSpPr>
        <p:spPr>
          <a:xfrm>
            <a:off x="-581760" y="2362320"/>
            <a:ext cx="1122984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Titr"/>
              </a:rPr>
              <a:t>بهمراه آ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0000"/>
                </a:solidFill>
                <a:latin typeface="Arial"/>
                <a:ea typeface="B Titr"/>
              </a:rPr>
              <a:t>*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Titr"/>
              </a:rPr>
              <a:t>برنامه زمان بند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b050"/>
                </a:solidFill>
                <a:latin typeface="Arial"/>
                <a:ea typeface="B Titr"/>
              </a:rPr>
              <a:t>*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Titr"/>
              </a:rPr>
              <a:t>دستور كار ها منضم به فرمهاي مخصوص اخذ اطلاع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Titr"/>
              </a:rPr>
              <a:t>مالي  وعمليات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ff00"/>
                </a:solidFill>
                <a:latin typeface="Arial"/>
                <a:ea typeface="B Titr"/>
              </a:rPr>
              <a:t>*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Titr"/>
              </a:rPr>
              <a:t>ضوابط مالي ناظر به تهيه وتنظيم بودج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b0f0"/>
                </a:solidFill>
                <a:latin typeface="Arial"/>
                <a:ea typeface="B Titr"/>
              </a:rPr>
              <a:t>*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Titr"/>
              </a:rPr>
              <a:t>تاريخ ارسال بودجه پيشنهادي  به معاونت برنامه ريز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Titr"/>
              </a:rPr>
              <a:t>ونظارت راهبردي ارسال مي گرد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TextBox 1" descr=""/>
          <p:cNvPicPr/>
          <p:nvPr/>
        </p:nvPicPr>
        <p:blipFill>
          <a:blip r:embed="rId1"/>
          <a:stretch/>
        </p:blipFill>
        <p:spPr>
          <a:xfrm>
            <a:off x="438120" y="208080"/>
            <a:ext cx="8267760" cy="1114200"/>
          </a:xfrm>
          <a:prstGeom prst="rect">
            <a:avLst/>
          </a:prstGeom>
          <a:ln w="0">
            <a:noFill/>
          </a:ln>
        </p:spPr>
      </p:pic>
      <p:sp>
        <p:nvSpPr>
          <p:cNvPr id="476" name="TextBox 2"/>
          <p:cNvSpPr/>
          <p:nvPr/>
        </p:nvSpPr>
        <p:spPr>
          <a:xfrm>
            <a:off x="0" y="1600200"/>
            <a:ext cx="892188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1</a:t>
            </a: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-سقف اعتبارات هزينه  وتملك دارايي هاي سرمايه ا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2</a:t>
            </a: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-دستورالعمل تهيه  وتنظيم برنامه سالانه دولت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3</a:t>
            </a: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- دستورالعمل تهيه  وتنظيم  بودجه هزينه اي  وبودج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0000"/>
                </a:solidFill>
                <a:latin typeface="Arial"/>
                <a:cs typeface="B Titr"/>
              </a:rPr>
              <a:t>تملك دارايي هاي  سرمايه اي دستگاههاي مل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4</a:t>
            </a: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- دستورالعمل تهيه  وتنظيم  بودجه شركتهاي دولت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5</a:t>
            </a: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- دستورالعمل تهيه  وتنظيم  بودجه دستگاههاي استان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6</a:t>
            </a:r>
            <a:r>
              <a:rPr b="1" i="1" lang="fa-IR" sz="3600" spc="-1" strike="noStrike">
                <a:solidFill>
                  <a:srgbClr val="000000"/>
                </a:solidFill>
                <a:latin typeface="Arial"/>
                <a:ea typeface="B Titr"/>
              </a:rPr>
              <a:t>-ضوابط مالي ناظر برتنظيم بودجه كل كشو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b58b8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ffffff"/>
                </a:solidFill>
                <a:latin typeface="Arial"/>
              </a:rPr>
              <a:t>تهيه وتنظيم بودجه در دستگاههاي اجراي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2"/>
          <p:cNvSpPr/>
          <p:nvPr/>
        </p:nvSpPr>
        <p:spPr>
          <a:xfrm>
            <a:off x="210960" y="1600200"/>
            <a:ext cx="89330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*دفتر بودجه يا اداره كل بودج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 *تهيه و تنظيم بودجه پيشنهادي دستگاهها وواحدهاي اجرايي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 *تصويب وزير يا بالاترين مقام دستگاه اجرايي ويا مجمع عموم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</a:rPr>
              <a:t>       صاحبان سه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02:59:33Z</dcterms:created>
  <dc:creator>m</dc:creator>
  <dc:description/>
  <dc:language>en-US</dc:language>
  <cp:lastModifiedBy>Guest</cp:lastModifiedBy>
  <dcterms:modified xsi:type="dcterms:W3CDTF">2011-12-18T18:02:45Z</dcterms:modified>
  <cp:revision>70</cp:revision>
  <dc:subject/>
  <dc:title>Slide 1</dc:title>
</cp:coreProperties>
</file>