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F3C-EAE6-413B-B3FE-213A4A393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ودجه از تنظيم تا كنتر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03A3-C799-402D-A4D6-BD4E278E6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هيه وتنظيم  وپيشنهاد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صويب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جرا  ي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كنترل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161B-A7B6-4402-AE7E-5391494EB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6D8F-E06D-41E8-94F5-9F725269E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خشنامه بودج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هيه وتنظيم بودجه در دستگاههاي اجراي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ررسي بودجه در معاونت برنامه ريزي ونظارت راهبردي رياست جمهور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9A9A-26E5-415B-9DCD-BB2EA410B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052-B11A-4822-AD96-3EE51498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386-F35A-4F98-9C35-B7372D54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27187-AE83-43B0-9485-7CEC04BD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46CB9-61C3-4191-8F16-9EA9D117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06863-4FB3-4721-BC93-18F0880B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6B5BA-F38A-44CB-A7B7-07A37ED0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353F3-62DD-4B19-8703-6E280DB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80AB6-289D-4D76-A685-0076ADF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91B58-27CE-43DE-A0EF-94A2E878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5BEC6-28EB-439F-85EA-953031E2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7D614-3F04-43DE-9E83-8BA117E7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8CE-9379-487B-9BE7-5C29F59D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04A-674A-4281-B9BD-296C0F0F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2FEC-0E79-49A1-836D-EDB9BC1A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1B92-CC9D-48C9-9643-980B5F60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F480-239B-4F7F-B287-E0B8B029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D163-A000-443F-BE29-8148D73D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7B6E-64D3-46A8-94D8-DA3F8C45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CA8D-FBD3-45D7-B2E9-085CDFEE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73AF-7237-41B7-B1C4-CF0660A5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063-1674-489D-BDA5-E84E55AF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2BE7-73B4-4C18-8985-1831A611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71E2-938A-4AAB-B930-D3BE3C6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2236-F6E3-4004-8F84-217BC01A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9079-3113-4B5E-968F-82C94BE9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C169-BFDB-4FD3-83F0-A560901C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C0DC-EBD7-46BF-B476-23B34150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79CC-21FE-495C-8873-BF2BF906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FA00-3471-4CD7-88D7-6D811775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3216-A52A-4F7D-9DC0-59937A88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20E0-A32F-4062-8AEA-B785C413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DFC-A0D8-4908-8479-F623E567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1A016-7708-463B-8A39-A92F4996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B13E-A156-46C3-998F-5CA73EE5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6E09-55B4-499C-B8E6-82B1449A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9A0E-2292-4631-A099-E6F84F5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D181-6959-4372-B41A-8E13D4C7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FCFA-4BB9-453A-B047-C93AE4A3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0BB9-E23F-4B3E-99E1-D02EF2FA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6301-59F6-4C6E-8487-0A05FAA9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2F61-BD69-4F67-9BFA-E3D58FCE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5CB9-6F55-4623-8DEE-265B96A2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7D8-DBD1-4719-9EE6-C328CF11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88622-1729-46A0-82C9-EE5C9914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2EEB8-3A1A-4975-AC87-ACF04AAE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BEBB-8091-43C6-8933-BB982D44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08FC-4CBC-4C33-BE1E-20C1B9A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0AA83-04EE-45DE-B433-97685CE2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363A-8419-40A3-A0BF-0D8879F4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C818-A15B-4B0D-8319-572EF756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2935-8E59-46B8-A043-58EB4C45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BB74-B049-4D91-AB21-5422659A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A98C-6923-462E-BEBC-1A1F2EB7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1FF-7539-40C4-BBED-32D2E247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64469-4D33-4C96-B1A6-EBA193F6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4FF6-9926-4E35-9537-D6A8D0A4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E00E-C650-43A7-9D38-E3CD508D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0E06-83F4-450A-802C-390CD63D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432C3-5924-4148-9B4B-F0A29760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CDB32-D8C9-4949-9223-CC4C4C91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2BC7-4B47-485C-8B09-C675CF09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F2A9-A860-4B4B-992E-91BB0E79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334D8-55D9-4569-B742-A7ED393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CE686-D180-4D5E-BE77-B174231C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8BD-853B-48E5-9918-ACCDE3E6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C1307-7F70-46B9-8F6A-477920F8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9781-E871-4610-872D-B72D627C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19151-D936-4F53-9D1D-A258CE9A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48BAA-CAA4-4A49-BD14-5BDB2C07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DA03B-E0E3-49BF-BDEB-E336AE46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3B9AA-9851-4C93-9C39-A286F512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D0419-EFBB-49AF-9AE0-8762F88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DC8EE-BA3F-4ACD-9856-DC771952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F3FAA-EB46-4FA9-BE5E-855174B6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68A5-6587-49A8-81C7-4125B1B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88F-3A52-450E-B30B-8D6425D2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74509-6B2B-481B-888E-00DEAABF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FDC24-E0BE-4706-899B-FCFC9DBB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54E32-22E7-4916-870D-40513398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B33C0-54C2-4531-9E61-20B948AA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C64B3-59E5-4575-B197-D8EC04DC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9864D-E4B6-421D-812C-579197DC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CDFF0-0D13-4E0E-A3A8-28F852CA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9299B-D3C0-444F-BA0B-B58E2FF8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7E38-E4FA-4FB2-B7F5-89A255F4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6306-99FC-4B8A-B25E-D2EAF03A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100-FF35-4F71-9735-D301C183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72BD0-861E-4AC2-A2FE-72CFA47C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05B9-7704-4B29-94D3-36A71296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09DB0-4F41-4435-A949-F1522C2E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1EF33-2EFF-45EB-B8E8-C7FE044F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E99FD-1DA4-4950-A4C1-C2AF46BC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8A70D-A021-4042-9765-A5D8AE51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9A1C2-AEE0-4559-AAF7-330F1788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BDD33-1B47-40D1-AB25-AE8C552A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CEADA-79A8-4061-BA0B-88636E2E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917DC-46C9-439C-B920-DF0021DF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6C4-601D-48C9-ADBE-0D6A859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EBF34-DCA7-4CC7-8D2B-224A28BF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093E7-278D-4981-BCA4-F7D91903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558EF-E256-4D99-84FB-20086AC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461F2-690E-4683-B4C2-07406263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68594-CB12-4FCE-98E3-3F61B549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24002-CD34-4994-BB71-E58369A0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8F23D-059F-413C-B55D-59B25A99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BD138-EFE1-4AE6-8DE2-BC9009F4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41D3C-E97F-4859-A0C6-42B37074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6496F-8954-4FF6-854D-54BBAF55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D17A-1C80-4F9A-B7D8-8B7FAAFB1B3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1EED-A03B-46AF-A690-89733C047EE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B61B-0D57-4FF0-A7D2-A8E53155000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7CB-9ADB-4396-B4A5-CB771B7B9C3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6A92-12AE-4F41-9D9D-A8DFCDC54D5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7D36-E00A-48FB-A010-648C50FE565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CE3F-FDBA-4621-90BD-1AA137EAAE7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1203-ADA2-48D2-A0F4-5B884BDC6B4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6604-FAB7-41EA-B7B5-920ED1EF9E0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3" descr=""/>
          <p:cNvPicPr/>
          <p:nvPr/>
        </p:nvPicPr>
        <p:blipFill>
          <a:blip r:embed="rId1"/>
          <a:stretch/>
        </p:blipFill>
        <p:spPr>
          <a:xfrm>
            <a:off x="-6480" y="-890640"/>
            <a:ext cx="9156960" cy="705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Arial"/>
              </a:rPr>
              <a:t>بررسي بودجه در معاونت برنامه ريزي ونظارت                راهبردي رياست جمهو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"/>
          <p:cNvSpPr/>
          <p:nvPr/>
        </p:nvSpPr>
        <p:spPr>
          <a:xfrm>
            <a:off x="0" y="1779480"/>
            <a:ext cx="8915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آغاز بررسي در مديريتهاي مربوط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كميل اطلاعات و توجيه ارقام پيشنهادي توسط دستگاههاي اج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هيه پيش نويس مقدماتي بود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400" spc="-1" strike="noStrike">
                <a:solidFill>
                  <a:srgbClr val="595959"/>
                </a:solidFill>
                <a:latin typeface="Arial"/>
              </a:rPr>
              <a:t>تاييد شوراي اقتصا 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بررسي در هيئت وزيران (تاييد يا ارجاع براي اصلاح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سال لايحه بودجه به مجلس شوراي اسلامي با امضاي رئيس جمه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لايحه بودجه در يك ماده و چند تبصره تنظيم مي گردد .تبصره هاي بودج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 نيز منابع تامين اعتبار را مشخص و چگونگي انجام هزينه ها وتخصي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  اعتبار به دستگاههاي اجرايي را مشخص مي كنن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تصويب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-1291680" y="1600200"/>
            <a:ext cx="12153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اصل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 قانون اساس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:تصويب بودجه از وظايف و اختيارات قوه قانونگذاري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قديم لايحه در جلسه علني مجلس توسط رئيس قوه مجريه با ارايه توضيحات لاز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جاع لايحه بودجه به تمام نمايندگان و كميسيونهاي مربوطه توسط رئيس مجل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صويب لايحه بودجه در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كميسيونها ي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ايه لايحه به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كميسيون تلف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طرح لايحه نهايي شده در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صحن علني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صويب بودجه با اكثريت آر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جاع  بودجه تصويب شده  به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شوراي نگهبان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ا امضاي رئيس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علام موارد اصلاحي ويا تاييد شوراي نگهب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طرح لايحه اصلاح شده در جلسه علني مجلس براي تصو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سال مجدد به شوراي نگهب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400" spc="-1" strike="noStrike">
                <a:solidFill>
                  <a:srgbClr val="c00000"/>
                </a:solidFill>
                <a:latin typeface="Arial"/>
              </a:rPr>
              <a:t>ابلاغ  قانون بودج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ه دولت براي اجرا با </a:t>
            </a:r>
            <a:r>
              <a:rPr b="1" lang="fa-IR" sz="2400" spc="-1" strike="noStrike">
                <a:solidFill>
                  <a:srgbClr val="c00000"/>
                </a:solidFill>
                <a:latin typeface="Arial"/>
              </a:rPr>
              <a:t>امضاي  رئيس مجل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اجراي بودجه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380880" y="1828800"/>
            <a:ext cx="855036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ابلاغ بودج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مبادله موافقت نامه فعاليتهاي جاري وطرح ه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         تملك ودارايي هاي سرمايه 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تخصيص اعتبا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اجراي مالي بودجه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ابلاغ بودجه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"/>
          <p:cNvSpPr/>
          <p:nvPr/>
        </p:nvSpPr>
        <p:spPr>
          <a:xfrm>
            <a:off x="228600" y="1447920"/>
            <a:ext cx="89154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ابلاغ  بودجه هر يك از دستگاههاي اجرايي به تفكيك اعتبارات جاري وعمراني در </a:t>
            </a:r>
            <a:r>
              <a:rPr b="1" lang="fa-IR" sz="2800" spc="-1" strike="noStrike">
                <a:solidFill>
                  <a:srgbClr val="002060"/>
                </a:solidFill>
                <a:latin typeface="Arial"/>
              </a:rPr>
              <a:t>قالب برنامه ها وبه همان صورتي كه به تصويب رسي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است توسط </a:t>
            </a:r>
            <a:r>
              <a:rPr b="1" lang="fa-IR" sz="2800" spc="-1" strike="noStrike">
                <a:solidFill>
                  <a:srgbClr val="c00000"/>
                </a:solidFill>
                <a:latin typeface="Arial"/>
              </a:rPr>
              <a:t>معاونت برنامه ريزي ونظارت راهبردي رياست جمهو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ابلاغ بودجه در دستگاههاي  اجرايي به واحدهاي اجرايي زير پوشش خود توسط </a:t>
            </a:r>
            <a:r>
              <a:rPr b="1" lang="fa-IR" sz="2800" spc="-1" strike="noStrike">
                <a:solidFill>
                  <a:srgbClr val="c00000"/>
                </a:solidFill>
                <a:latin typeface="Arial"/>
              </a:rPr>
              <a:t>ادارات يا دفاتر بودج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مبادله موافقت نامه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-76320" y="144792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000000"/>
                </a:solidFill>
                <a:uFillTx/>
                <a:latin typeface="Arial"/>
              </a:rPr>
              <a:t>موافقتنام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نوعي قرارداد است كه در چارچوب بودجه مصوب ب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 u="sng">
                <a:solidFill>
                  <a:srgbClr val="ff0000"/>
                </a:solidFill>
                <a:uFillTx/>
                <a:latin typeface="Arial"/>
              </a:rPr>
              <a:t>دستگاه اجراي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ff0000"/>
                </a:solidFill>
                <a:uFillTx/>
                <a:latin typeface="Arial"/>
              </a:rPr>
              <a:t>معاونت برنامه ريزي ونظارت راهبردي رياست جمهوري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بادله مي گردد وب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وجب آن از يك سو دستگاه اجرايي تعهد مي كند شرح عمليات و شرايط خا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مندرج درآن را رعايت كند .از سوي ديگر معاونت برنامه ريزي ونظارت راهبرد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رياست جمهوري نيز به موازات پيشرفت فيزيكي عمليات براساس بودجه مص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تخصي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عتبار نموده  وآن را دراختياردستگاه اجرايي قرار مي ده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-تخصيص اعتب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"/>
          <p:cNvSpPr/>
          <p:nvPr/>
        </p:nvSpPr>
        <p:spPr>
          <a:xfrm>
            <a:off x="-2176920" y="1371600"/>
            <a:ext cx="133344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تخصيص اعتبار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تقسيط اعتبار مصوب در فواصل مشخص يا تحقق شرايط معين كه بصورت مشترك توس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عاونت برنامه ريزي ونظارت راهبردي رياست جمهوري و وزارت امور قتصادي ودا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نجام شده و به دستگاههاي اجرايي ابلاغ مي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تخصيص اعتبار دربرگيرنده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بودجه عمومي دول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ست و منابع داخلي شركتها ودر آم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ختصاصي دستگاهها از شمول آن خارج بوده واز ضوابط خاصي تبعيت مي كن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اجراي مالي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3751200" y="1371600"/>
            <a:ext cx="5164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ش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امين اع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عه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سج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حوا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درخواست و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هزين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7010280" y="762120"/>
            <a:ext cx="165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ش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380880" y="1676520"/>
            <a:ext cx="849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تعيين وانتخاب كالا وخدمات ها خدمات وساير پرداختها يي كه تحصيل يا انج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آن براي نيل به اجراي برنامه هاي دستگاه اجرايي ضروري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6205320" y="2743200"/>
            <a:ext cx="27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امين اع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"/>
          <p:cNvSpPr/>
          <p:nvPr/>
        </p:nvSpPr>
        <p:spPr>
          <a:xfrm>
            <a:off x="322920" y="3657600"/>
            <a:ext cx="9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ختصاص دادن تمام  يا قسمتي از اعتبار مصوب براي هزينه مع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7198920" y="4419720"/>
            <a:ext cx="145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عه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6"/>
          <p:cNvSpPr/>
          <p:nvPr/>
        </p:nvSpPr>
        <p:spPr>
          <a:xfrm>
            <a:off x="-892800" y="5410080"/>
            <a:ext cx="108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يجاد دين برذمه دولت ناشي از تحويل كالا يا انجام خدمت ؛اجراي قرارداد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حكام صادر شده از مراجع قانوني ذيصل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6909480" y="609480"/>
            <a:ext cx="184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سج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-632520" y="1676520"/>
            <a:ext cx="109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تعيين ميزان بدهي قابل پرداخت به موجب اسناد ومدارك اثبات كننده ب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7174800" y="2438280"/>
            <a:ext cx="146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</a:rPr>
              <a:t>* حوا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-884160" y="3352680"/>
            <a:ext cx="11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ندي كه بوسيله دستگاه اجرايي براي تاديه تعهدات وپرداخت بدهيها از مح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عتبارات مربوطه در وجه ذينفع صادر گرد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6316200" y="43434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* درخواست و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-924120" y="5029200"/>
            <a:ext cx="113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ندي كه ذيحساب براي دريافت وجه به منظور پرداخت حواله هاي صادر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ز محل اعتبارات مربوطه در وجه حساب بانكي پرداخت دستگاه اجرايي ذيرب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صادر مي ك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كنترل 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0" y="15238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فرايندي است براي حصول اطمينان از اينكه عمليات يا اقدامات واقعي ب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عمليات پيش بيني شده برنامه ربزي شده همانند 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با كنترل بودجه مي توان فهميد كه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*  آيا بودجه اجرا شده همان بودجه اي است كه به تصو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 قوه مقننه رسيد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*  آيا هدفهاي از پيش تعيين شده  تحقق يافت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*  آيا برنامه ها وسياستهاي مالي مصوب نمايندگان مردم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همان شكل اجرا شده 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Arial"/>
                <a:cs typeface="B Titr"/>
              </a:rPr>
              <a:t>مراحل</a:t>
            </a:r>
            <a:r>
              <a:rPr b="1" lang="fa-IR" sz="9600" spc="-1" strike="noStrike">
                <a:solidFill>
                  <a:srgbClr val="ffffff"/>
                </a:solidFill>
                <a:latin typeface="Arial"/>
                <a:ea typeface="B Titr"/>
              </a:rPr>
              <a:t> فراگرد بودج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-1618920" y="1828800"/>
            <a:ext cx="1240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تهيه وتنظيم  وپيشنهاد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086640" y="2819520"/>
            <a:ext cx="659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تصويب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3416400" y="3711600"/>
            <a:ext cx="623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3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اجراي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531240" y="4549680"/>
            <a:ext cx="618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4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كنترل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0" y="0"/>
            <a:ext cx="8915400" cy="82512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Arial"/>
              </a:rPr>
              <a:t>منظور اصلي از كنترل بودج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-1074600" y="1066680"/>
            <a:ext cx="11179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 u="sng">
                <a:solidFill>
                  <a:srgbClr val="000000"/>
                </a:solidFill>
                <a:uFillTx/>
                <a:latin typeface="Arial"/>
              </a:rPr>
              <a:t>در گذشته 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جلوگيري از تجاوز تعهدات و مخارج از اعتبارات مص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صرفه جويي در هزين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"/>
          <p:cNvSpPr/>
          <p:nvPr/>
        </p:nvSpPr>
        <p:spPr>
          <a:xfrm>
            <a:off x="0" y="3657600"/>
            <a:ext cx="85345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 u="sng">
                <a:solidFill>
                  <a:srgbClr val="000000"/>
                </a:solidFill>
                <a:uFillTx/>
                <a:latin typeface="Arial"/>
              </a:rPr>
              <a:t>امروز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حصول اطمينان از تطبيق عملكردهاي بودجه با برنامه ها 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هدفهاي پيش بيني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4"/>
          <p:cNvGrpSpPr/>
          <p:nvPr/>
        </p:nvGrpSpPr>
        <p:grpSpPr>
          <a:xfrm>
            <a:off x="0" y="14400"/>
            <a:ext cx="9144000" cy="6858000"/>
            <a:chOff x="0" y="14400"/>
            <a:chExt cx="9144000" cy="6858000"/>
          </a:xfrm>
        </p:grpSpPr>
        <p:sp>
          <p:nvSpPr>
            <p:cNvPr id="511" name="Rectangle 6"/>
            <p:cNvSpPr/>
            <p:nvPr/>
          </p:nvSpPr>
          <p:spPr>
            <a:xfrm>
              <a:off x="4572000" y="1440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7"/>
            <p:cNvSpPr/>
            <p:nvPr/>
          </p:nvSpPr>
          <p:spPr>
            <a:xfrm>
              <a:off x="4572000" y="344196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8"/>
            <p:cNvSpPr/>
            <p:nvPr/>
          </p:nvSpPr>
          <p:spPr>
            <a:xfrm>
              <a:off x="0" y="34434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"/>
            <p:cNvSpPr/>
            <p:nvPr/>
          </p:nvSpPr>
          <p:spPr>
            <a:xfrm>
              <a:off x="0" y="144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AutoShape 17"/>
          <p:cNvSpPr/>
          <p:nvPr/>
        </p:nvSpPr>
        <p:spPr>
          <a:xfrm rot="16200000">
            <a:off x="45000" y="2964240"/>
            <a:ext cx="1074600" cy="806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انوا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كنتر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5"/>
          <p:cNvGrpSpPr/>
          <p:nvPr/>
        </p:nvGrpSpPr>
        <p:grpSpPr>
          <a:xfrm>
            <a:off x="985680" y="2011320"/>
            <a:ext cx="1498320" cy="2763360"/>
            <a:chOff x="985680" y="2011320"/>
            <a:chExt cx="1498320" cy="2763360"/>
          </a:xfrm>
        </p:grpSpPr>
        <p:sp>
          <p:nvSpPr>
            <p:cNvPr id="517" name="AutoShape 18"/>
            <p:cNvSpPr/>
            <p:nvPr/>
          </p:nvSpPr>
          <p:spPr>
            <a:xfrm rot="16200000">
              <a:off x="1454040" y="2056320"/>
              <a:ext cx="1074960" cy="9846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بير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( 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وه مقننه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9"/>
            <p:cNvSpPr/>
            <p:nvPr/>
          </p:nvSpPr>
          <p:spPr>
            <a:xfrm rot="16200000">
              <a:off x="1454400" y="3745080"/>
              <a:ext cx="1074600" cy="9846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در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وه مجريه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8"/>
            <p:cNvSpPr/>
            <p:nvPr/>
          </p:nvSpPr>
          <p:spPr>
            <a:xfrm flipV="1">
              <a:off x="1207440" y="2523960"/>
              <a:ext cx="0" cy="16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>
              <a:off x="985680" y="3395520"/>
              <a:ext cx="22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1207440" y="421308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3"/>
            <p:cNvSpPr/>
            <p:nvPr/>
          </p:nvSpPr>
          <p:spPr>
            <a:xfrm>
              <a:off x="1207440" y="2525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48"/>
          <p:cNvGrpSpPr/>
          <p:nvPr/>
        </p:nvGrpSpPr>
        <p:grpSpPr>
          <a:xfrm>
            <a:off x="2509920" y="3679560"/>
            <a:ext cx="1760400" cy="2630880"/>
            <a:chOff x="2509920" y="3679560"/>
            <a:chExt cx="1760400" cy="2630880"/>
          </a:xfrm>
        </p:grpSpPr>
        <p:sp>
          <p:nvSpPr>
            <p:cNvPr id="524" name="AutoShape 22"/>
            <p:cNvSpPr/>
            <p:nvPr/>
          </p:nvSpPr>
          <p:spPr>
            <a:xfrm rot="16200000">
              <a:off x="2447640" y="5368680"/>
              <a:ext cx="1074960" cy="8082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مال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 rot="16200000">
              <a:off x="3329640" y="3813480"/>
              <a:ext cx="1074600" cy="8064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عمليات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>
              <a:off x="2509920" y="421308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>
              <a:off x="2949480" y="4211640"/>
              <a:ext cx="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46"/>
          <p:cNvGrpSpPr/>
          <p:nvPr/>
        </p:nvGrpSpPr>
        <p:grpSpPr>
          <a:xfrm>
            <a:off x="2509920" y="476280"/>
            <a:ext cx="1760400" cy="2607480"/>
            <a:chOff x="2509920" y="476280"/>
            <a:chExt cx="1760400" cy="2607480"/>
          </a:xfrm>
        </p:grpSpPr>
        <p:sp>
          <p:nvSpPr>
            <p:cNvPr id="529" name="AutoShape 25"/>
            <p:cNvSpPr/>
            <p:nvPr/>
          </p:nvSpPr>
          <p:spPr>
            <a:xfrm rot="16200000">
              <a:off x="2447640" y="609480"/>
              <a:ext cx="1074960" cy="8082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پارلما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26"/>
            <p:cNvSpPr/>
            <p:nvPr/>
          </p:nvSpPr>
          <p:spPr>
            <a:xfrm rot="16200000">
              <a:off x="3329280" y="2142720"/>
              <a:ext cx="1075320" cy="8064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ضائ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5"/>
            <p:cNvSpPr/>
            <p:nvPr/>
          </p:nvSpPr>
          <p:spPr>
            <a:xfrm>
              <a:off x="2509920" y="254592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7"/>
            <p:cNvSpPr/>
            <p:nvPr/>
          </p:nvSpPr>
          <p:spPr>
            <a:xfrm flipV="1">
              <a:off x="2949480" y="156384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49"/>
          <p:cNvGrpSpPr/>
          <p:nvPr/>
        </p:nvGrpSpPr>
        <p:grpSpPr>
          <a:xfrm>
            <a:off x="3492360" y="3673440"/>
            <a:ext cx="5040360" cy="2635200"/>
            <a:chOff x="3492360" y="3673440"/>
            <a:chExt cx="5040360" cy="2635200"/>
          </a:xfrm>
        </p:grpSpPr>
        <p:sp>
          <p:nvSpPr>
            <p:cNvPr id="534" name="AutoShape 41"/>
            <p:cNvSpPr/>
            <p:nvPr/>
          </p:nvSpPr>
          <p:spPr>
            <a:xfrm>
              <a:off x="3492360" y="5229360"/>
              <a:ext cx="5040360" cy="10792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قبل از خرج با اهرمهاي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ذيحساب و از طريق تامين اعتبار و تطبيق با قوانين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خزانه و از طريق نظارت بر صحت درخواست وجه و مطابقت آن با اعتبارات مصوب و مقررات قان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42"/>
            <p:cNvSpPr/>
            <p:nvPr/>
          </p:nvSpPr>
          <p:spPr>
            <a:xfrm>
              <a:off x="4383000" y="3673440"/>
              <a:ext cx="410688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عملياتي از راههاي ذيل صورت ميگيرد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دريافت گزارشهاي توجيهي از دستگاهها توسط سازمان مديري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تخصيص دوره اي اعتبارات با توجه به عملكرد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47"/>
          <p:cNvGrpSpPr/>
          <p:nvPr/>
        </p:nvGrpSpPr>
        <p:grpSpPr>
          <a:xfrm>
            <a:off x="3492360" y="477720"/>
            <a:ext cx="5040360" cy="2590920"/>
            <a:chOff x="3492360" y="477720"/>
            <a:chExt cx="5040360" cy="2590920"/>
          </a:xfrm>
        </p:grpSpPr>
        <p:sp>
          <p:nvSpPr>
            <p:cNvPr id="537" name="AutoShape 43"/>
            <p:cNvSpPr/>
            <p:nvPr/>
          </p:nvSpPr>
          <p:spPr>
            <a:xfrm>
              <a:off x="4400640" y="1989000"/>
              <a:ext cx="410688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دیوان محاسبات مسئول انجام  نظارت قضائی بوده و  حسابرسی آن بر دو محور تاکید دارد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هیچ هزینه ای از اعتبارات مصوب تجاوز نکن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هر وجهی در محل خود بمصرف برس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4"/>
            <p:cNvSpPr/>
            <p:nvPr/>
          </p:nvSpPr>
          <p:spPr>
            <a:xfrm>
              <a:off x="3492360" y="477720"/>
              <a:ext cx="504036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کنترل مجلس و نمایندگان مردم به دو صورت است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با طرح سوال و در صورت استیضاح وزر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مجلس بعنوان مجمع عمومی جامعه به حسابرسی کلی عملیات دولت  هیات مدیره در قالب گزارش تفریغ بودجه میپرداز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0" name="Rectangle 4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4572000" y="342756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2"/>
          <p:cNvGrpSpPr/>
          <p:nvPr/>
        </p:nvGrpSpPr>
        <p:grpSpPr>
          <a:xfrm>
            <a:off x="1033560" y="2233080"/>
            <a:ext cx="7210440" cy="2232360"/>
            <a:chOff x="1033560" y="2233080"/>
            <a:chExt cx="7210440" cy="2232360"/>
          </a:xfrm>
        </p:grpSpPr>
        <p:sp>
          <p:nvSpPr>
            <p:cNvPr id="545" name="AutoShape 13"/>
            <p:cNvSpPr/>
            <p:nvPr/>
          </p:nvSpPr>
          <p:spPr>
            <a:xfrm>
              <a:off x="4767480" y="3484440"/>
              <a:ext cx="3467160" cy="98100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42048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4"/>
            <p:cNvSpPr/>
            <p:nvPr/>
          </p:nvSpPr>
          <p:spPr>
            <a:xfrm rot="16200000">
              <a:off x="6019200" y="990720"/>
              <a:ext cx="982440" cy="346716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1484280 h 3467160"/>
                <a:gd name="textAreaBottom" fmla="*/ 3467520 h 346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5"/>
            <p:cNvSpPr/>
            <p:nvPr/>
          </p:nvSpPr>
          <p:spPr>
            <a:xfrm>
              <a:off x="6361200" y="2304720"/>
              <a:ext cx="1660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صويب 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6"/>
            <p:cNvSpPr/>
            <p:nvPr/>
          </p:nvSpPr>
          <p:spPr>
            <a:xfrm rot="10800000">
              <a:off x="1033560" y="2233080"/>
              <a:ext cx="3468960" cy="98244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42048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7"/>
            <p:cNvSpPr/>
            <p:nvPr/>
          </p:nvSpPr>
          <p:spPr>
            <a:xfrm>
              <a:off x="1320840" y="2304720"/>
              <a:ext cx="23050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اجراي</a:t>
              </a: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8"/>
            <p:cNvSpPr/>
            <p:nvPr/>
          </p:nvSpPr>
          <p:spPr>
            <a:xfrm rot="5400000">
              <a:off x="2277360" y="2240280"/>
              <a:ext cx="981000" cy="346896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1486080 h 3468960"/>
                <a:gd name="textAreaBottom" fmla="*/ 3469320 h 346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9"/>
            <p:cNvSpPr/>
            <p:nvPr/>
          </p:nvSpPr>
          <p:spPr>
            <a:xfrm>
              <a:off x="1263960" y="3850920"/>
              <a:ext cx="26496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كنترل و نظارت بر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0"/>
            <p:cNvSpPr/>
            <p:nvPr/>
          </p:nvSpPr>
          <p:spPr>
            <a:xfrm>
              <a:off x="5785200" y="3816000"/>
              <a:ext cx="23558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هيه و تنظيم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1"/>
            <p:cNvSpPr/>
            <p:nvPr/>
          </p:nvSpPr>
          <p:spPr>
            <a:xfrm>
              <a:off x="3410280" y="3168360"/>
              <a:ext cx="268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چرخه  بودج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22"/>
          <p:cNvSpPr/>
          <p:nvPr/>
        </p:nvSpPr>
        <p:spPr>
          <a:xfrm>
            <a:off x="108000" y="4653000"/>
            <a:ext cx="446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عمليات اجرائي بودجه از طريق سازمان مديريت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اجراي بودجه درحين خرج  توسط وزارت امور اقتصادي و دارائ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اجراي بودجه بعد از خرج  توسط ديوان محاسبات و تنظيم گزارش تفريغ بودج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رسيدگي به گزارش تفريغ بودجه از سوي مجل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4716360" y="4437000"/>
            <a:ext cx="4176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عيين هدفها و سياستهادر تنظيم بودجه سالانه توسط     شوراي اقتصا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ابلاغ بخشنامه بودجه از سوي رياست جمهو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پيش بيني درآمدها و منابع از سوي سازمان مديري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دوين بودجه پيشنهادي از سوي دستگاههاي اجرائ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دوين لايحه بودجه از سوي دول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4"/>
          <p:cNvSpPr/>
          <p:nvPr/>
        </p:nvSpPr>
        <p:spPr>
          <a:xfrm>
            <a:off x="4788000" y="2602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بررسي لايحه بودجه در كميسيونهاي مختلف مجل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رسيدگي نهائي در كميسيون تلفيق اصل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صويب بودجه در صحن مجل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5"/>
          <p:cNvSpPr/>
          <p:nvPr/>
        </p:nvSpPr>
        <p:spPr>
          <a:xfrm>
            <a:off x="324000" y="189000"/>
            <a:ext cx="4176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ابلاغ بودجه به دستگاههاي دول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نظيم موافقتنامه و تبادل آن با سازمان مدي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خصيص اعتبارات توسط سازمان مدي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اخذ وجه از خز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و بطور كلي انجام كليه مراحل در جه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  <a:ea typeface="Arial"/>
              </a:rPr>
              <a:t>  وصول درآمد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  <a:ea typeface="Arial"/>
              </a:rPr>
              <a:t>  پرداخت هزين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 rot="5400000">
            <a:off x="5604840" y="3139920"/>
            <a:ext cx="5832360" cy="50508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سازمانهاي موثر بر بودج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084720" y="455760"/>
            <a:ext cx="2087640" cy="50472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عنوان ساز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11280" y="455760"/>
            <a:ext cx="5402160" cy="50472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تاث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6084720" y="105264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قوه مقن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6084720" y="165420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يوان محاسب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6084720" y="225576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قوه مجر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6084720" y="285768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شوراي اقتص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22440" y="10447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دوين سياستهاي اقتصادي و مالي و تصويب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3"/>
          <p:cNvSpPr/>
          <p:nvPr/>
        </p:nvSpPr>
        <p:spPr>
          <a:xfrm>
            <a:off x="609480" y="1658880"/>
            <a:ext cx="540252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نترل و نظارت مستمر مالي و تدوين گزارش تفريغ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609480" y="2255760"/>
            <a:ext cx="540252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نظيم خط مشي هاي اقتصادي و تدوين لايحه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5"/>
          <p:cNvSpPr/>
          <p:nvPr/>
        </p:nvSpPr>
        <p:spPr>
          <a:xfrm>
            <a:off x="609480" y="2844720"/>
            <a:ext cx="540252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هدايت و ايجاد هماهنگي در امور اقتصادي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6"/>
          <p:cNvSpPr/>
          <p:nvPr/>
        </p:nvSpPr>
        <p:spPr>
          <a:xfrm>
            <a:off x="6084720" y="345744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وزارت امور اقتصادي و دارائ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6084720" y="405612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خز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6084720" y="463248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سازمان مديريت و برنامه ري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611280" y="345456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پيش بيني و وصول درآمدهاي دولت و نظارت مالي قبل از خر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11280" y="40561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يافت و اداره كليه وجوه و درآمدهاي عمومي و اختصاص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1"/>
          <p:cNvSpPr/>
          <p:nvPr/>
        </p:nvSpPr>
        <p:spPr>
          <a:xfrm>
            <a:off x="611280" y="464508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برنامه ريزي ، تنظيم لايحه و نظارت بر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2"/>
          <p:cNvSpPr/>
          <p:nvPr/>
        </p:nvSpPr>
        <p:spPr>
          <a:xfrm>
            <a:off x="611280" y="522144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نظيم بودجه استاني</a:t>
            </a: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3"/>
          <p:cNvSpPr/>
          <p:nvPr/>
        </p:nvSpPr>
        <p:spPr>
          <a:xfrm>
            <a:off x="6084720" y="522936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ميته هاي برنامه ريزي استان و شهرستا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4"/>
          <p:cNvSpPr/>
          <p:nvPr/>
        </p:nvSpPr>
        <p:spPr>
          <a:xfrm>
            <a:off x="611280" y="58039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برآورد بودجه و ارائه گزارشهاي مالي</a:t>
            </a: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6084720" y="580536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ستگاههاي اجرائ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231840" y="182520"/>
            <a:ext cx="8588160" cy="124956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5"/>
          <p:cNvSpPr/>
          <p:nvPr/>
        </p:nvSpPr>
        <p:spPr>
          <a:xfrm>
            <a:off x="289080" y="1700280"/>
            <a:ext cx="8604000" cy="2016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مقتدر و متمركز بوده و از حمايت قانوني و سياسي برخوردار با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عامل دستگاه با واحد مركزي بودجه و ارائه اطلاعات دق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324000" y="4149720"/>
            <a:ext cx="8569080" cy="2448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لاش درجهت حداكثر صرفه جوئي و كارآئي دستگاه از نظر منابع مالي ،امكانات و نيروي انس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هيه و اجراي برنامه هاي دول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7"/>
          <p:cNvSpPr/>
          <p:nvPr/>
        </p:nvSpPr>
        <p:spPr>
          <a:xfrm>
            <a:off x="2556000" y="1341360"/>
            <a:ext cx="3887640" cy="647640"/>
          </a:xfrm>
          <a:prstGeom prst="ellipse">
            <a:avLst/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اصول ك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556000" y="3789360"/>
            <a:ext cx="3887640" cy="64764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99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وظيفه اص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Rectangle 2" descr=""/>
          <p:cNvPicPr/>
          <p:nvPr/>
        </p:nvPicPr>
        <p:blipFill>
          <a:blip r:embed="rId1"/>
          <a:stretch/>
        </p:blipFill>
        <p:spPr>
          <a:xfrm>
            <a:off x="122400" y="-36360"/>
            <a:ext cx="8583480" cy="15112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179280" y="1143000"/>
            <a:ext cx="7135920" cy="1736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ارقام هزينه اي منشا تعهد براي دولت نبوده و پرداخت بهاي كالا و خدمات منشاء بدهكاري  ميباشد و ارقام مخارج مصوب تنها مجوزي براي پرداخت هزينه هاي دولت در چهارچوب موافقتنامه هاي مربوطه مي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قانون بودجه فقط براي استفاده دولت بتصويب رسيده و اشخاص حقيقي و حقوقي براي دعاوي و يا احقاق حق خود نمي توانند به آن اتكا كن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79280" y="2952720"/>
            <a:ext cx="7128000" cy="1584360"/>
          </a:xfrm>
          <a:prstGeom prst="rect">
            <a:avLst/>
          </a:prstGeom>
          <a:solidFill>
            <a:srgbClr val="f0d7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ارقام مندرج در بودجه منشا حقوقي مطالبات دولت نبوده بلكه منشا حقوقي اين مطالبات قوانين مالياتي و يا ساير قوانين مربوطه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برخلاف مخارج در مورد هزينه ها ذكر ارقام درآمدي براي دستگاه مربوطه ايجاد وظيفه و تكليف ميكن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380360" y="1066680"/>
            <a:ext cx="1512720" cy="18129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ارقام مخارج (تحديدي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380360" y="2952720"/>
            <a:ext cx="1511280" cy="1584360"/>
          </a:xfrm>
          <a:prstGeom prst="rect">
            <a:avLst/>
          </a:prstGeom>
          <a:solidFill>
            <a:srgbClr val="f0d7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ارقام درآم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(تخمي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315200" y="4608360"/>
            <a:ext cx="1576440" cy="224964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ضوابط تصو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179280" y="4608360"/>
            <a:ext cx="7128000" cy="224964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بودجه در قالب لايحه و از سوي دولت به مجلس تقديم ميگردد و نمايندگان نميتوانند در قالب   طرح آن را ارائه ده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قانون بودجه مربوط به سال مشخصي بوده و ميبايست لايحه بودجه هر سال بتصويب برسد و نميتوان بودجه سال قبل را عينا براي سال بعد ارائه د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رسيدگي و تصويب بودجه بايد در صحن مجلس انجام گيريد و تصويب آن در كميسيونها امكانپذير ني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نمايندگان مجلس نميتوانند پشنهاداتي بدهند كه هزينه را افزايش ده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Oval 4"/>
          <p:cNvSpPr/>
          <p:nvPr/>
        </p:nvSpPr>
        <p:spPr>
          <a:xfrm rot="5400000">
            <a:off x="4319280" y="-2584440"/>
            <a:ext cx="647640" cy="604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روشهای برآورد و تنظیم درآم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324000" y="907920"/>
          <a:ext cx="8569080" cy="5784840"/>
        </p:xfrm>
        <a:graphic>
          <a:graphicData uri="http://schemas.openxmlformats.org/drawingml/2006/table">
            <a:tbl>
              <a:tblPr/>
              <a:tblGrid>
                <a:gridCol w="2062080"/>
                <a:gridCol w="2065320"/>
                <a:gridCol w="3182760"/>
                <a:gridCol w="125892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عای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زای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شرح اقدام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برآو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فاصله یک ساله نادیده گرفته شده و اوضاع واحوال اقتصادی که در نظر گرفته نمی 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چون درآمد سال مورد نظر قطعا وصول شده بودجه دارای استحکام و تعادل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بنای برآورد درآمدها  ، آخرین بودجه ای که اجرای آن خاتمه پذیرفته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یباش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سال ما قبل آخ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تکا  به وقایع اقتصادی سالهای قبل و عدم نگاه به آین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بدلیل وجود منطق مربوطه در بسیاری از کشورها استفاده می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حد متوسط و آهنگ افزایش یا کاهش هر یک از انواع درآمدها در یک دوره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ساله قبلی مبنا قرار میگی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حد متوسط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تکا  به وقایع اقتصادی سالهای قبل و عدم نگاه به آین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ستفاده از مبانی علمی وروشهای  آماری همزمان با تخصص و تجارب کارشناسا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ستفاده از روشهای دقیق آماری برای بررسی اثر عوامل گوناگون در وصول درآمدها در یک محدوده زمانی مشخ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پیش بینی مستقی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درکشورهائی که با فقر آماری مواجه هستند استفاده از این روش دشوار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عدم وجود خطاهای فاحش روشهای قبلی و نزدیک بودن درآمد وصولی با درآمد پیش بینی ش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براساس تجزیه و تحلیل همبستگی و جمع آوری پرسشنامه ها و استفاده از فنون پیشرفته آماری چون ضریب همبستگی ، سریهای زمانی و محاسبه کشش پذیر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سنجیده منظ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Diagram 4" descr=""/>
          <p:cNvPicPr/>
          <p:nvPr/>
        </p:nvPicPr>
        <p:blipFill>
          <a:blip r:embed="rId1"/>
          <a:stretch/>
        </p:blipFill>
        <p:spPr>
          <a:xfrm>
            <a:off x="755640" y="96840"/>
            <a:ext cx="7632720" cy="6638760"/>
          </a:xfrm>
          <a:prstGeom prst="rect">
            <a:avLst/>
          </a:prstGeom>
          <a:ln w="0">
            <a:noFill/>
          </a:ln>
        </p:spPr>
      </p:pic>
      <p:grpSp>
        <p:nvGrpSpPr>
          <p:cNvPr id="413" name="Curved Left Arrow 6"/>
          <p:cNvGrpSpPr/>
          <p:nvPr/>
        </p:nvGrpSpPr>
        <p:grpSpPr>
          <a:xfrm>
            <a:off x="6076800" y="2189160"/>
            <a:ext cx="1182960" cy="2382840"/>
            <a:chOff x="6076800" y="2189160"/>
            <a:chExt cx="1182960" cy="2382840"/>
          </a:xfrm>
        </p:grpSpPr>
        <p:pic>
          <p:nvPicPr>
            <p:cNvPr id="414" name="Curved Left Arrow 6" descr=""/>
            <p:cNvPicPr/>
            <p:nvPr/>
          </p:nvPicPr>
          <p:blipFill>
            <a:blip r:embed="rId2"/>
            <a:stretch/>
          </p:blipFill>
          <p:spPr>
            <a:xfrm>
              <a:off x="6076800" y="2189160"/>
              <a:ext cx="11829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324480" y="2438280"/>
              <a:ext cx="6858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Curved Left Arrow 7"/>
          <p:cNvGrpSpPr/>
          <p:nvPr/>
        </p:nvGrpSpPr>
        <p:grpSpPr>
          <a:xfrm>
            <a:off x="1274760" y="2139840"/>
            <a:ext cx="1187280" cy="2303640"/>
            <a:chOff x="1274760" y="2139840"/>
            <a:chExt cx="1187280" cy="2303640"/>
          </a:xfrm>
        </p:grpSpPr>
        <p:pic>
          <p:nvPicPr>
            <p:cNvPr id="417" name="Curved Left Arrow 7" descr=""/>
            <p:cNvPicPr/>
            <p:nvPr/>
          </p:nvPicPr>
          <p:blipFill>
            <a:blip r:embed="rId3"/>
            <a:stretch/>
          </p:blipFill>
          <p:spPr>
            <a:xfrm>
              <a:off x="1274760" y="2139840"/>
              <a:ext cx="118728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10800000">
              <a:off x="1523520" y="2362320"/>
              <a:ext cx="6858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Curved Left Arrow 8"/>
          <p:cNvGrpSpPr/>
          <p:nvPr/>
        </p:nvGrpSpPr>
        <p:grpSpPr>
          <a:xfrm>
            <a:off x="2724120" y="249120"/>
            <a:ext cx="3054240" cy="1219320"/>
            <a:chOff x="2724120" y="249120"/>
            <a:chExt cx="3054240" cy="1219320"/>
          </a:xfrm>
        </p:grpSpPr>
        <p:pic>
          <p:nvPicPr>
            <p:cNvPr id="420" name="Curved Left Arrow 8" descr=""/>
            <p:cNvPicPr/>
            <p:nvPr/>
          </p:nvPicPr>
          <p:blipFill>
            <a:blip r:embed="rId4"/>
            <a:stretch/>
          </p:blipFill>
          <p:spPr>
            <a:xfrm>
              <a:off x="2724120" y="249120"/>
              <a:ext cx="3054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 rot="16200000">
              <a:off x="3908160" y="-434880"/>
              <a:ext cx="71784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Curved Left Arrow 9"/>
          <p:cNvGrpSpPr/>
          <p:nvPr/>
        </p:nvGrpSpPr>
        <p:grpSpPr>
          <a:xfrm>
            <a:off x="2682720" y="5162400"/>
            <a:ext cx="3052800" cy="1335240"/>
            <a:chOff x="2682720" y="5162400"/>
            <a:chExt cx="3052800" cy="1335240"/>
          </a:xfrm>
        </p:grpSpPr>
        <p:pic>
          <p:nvPicPr>
            <p:cNvPr id="423" name="Curved Left Arrow 9" descr=""/>
            <p:cNvPicPr/>
            <p:nvPr/>
          </p:nvPicPr>
          <p:blipFill>
            <a:blip r:embed="rId5"/>
            <a:stretch/>
          </p:blipFill>
          <p:spPr>
            <a:xfrm>
              <a:off x="2682720" y="5162400"/>
              <a:ext cx="30528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5400000">
              <a:off x="3771360" y="4533840"/>
              <a:ext cx="83844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11"/>
          <p:cNvSpPr/>
          <p:nvPr/>
        </p:nvSpPr>
        <p:spPr>
          <a:xfrm>
            <a:off x="89856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خواست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6"/>
          <p:cNvSpPr/>
          <p:nvPr/>
        </p:nvSpPr>
        <p:spPr>
          <a:xfrm>
            <a:off x="291456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پيشنهاد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8"/>
          <p:cNvGrpSpPr/>
          <p:nvPr/>
        </p:nvGrpSpPr>
        <p:grpSpPr>
          <a:xfrm>
            <a:off x="898560" y="3917880"/>
            <a:ext cx="5473800" cy="720720"/>
            <a:chOff x="898560" y="3917880"/>
            <a:chExt cx="5473800" cy="720720"/>
          </a:xfrm>
        </p:grpSpPr>
        <p:sp>
          <p:nvSpPr>
            <p:cNvPr id="428" name="AutoShape 10"/>
            <p:cNvSpPr/>
            <p:nvPr/>
          </p:nvSpPr>
          <p:spPr>
            <a:xfrm>
              <a:off x="89856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گزارشهاي مالي-عمليات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15"/>
            <p:cNvSpPr/>
            <p:nvPr/>
          </p:nvSpPr>
          <p:spPr>
            <a:xfrm>
              <a:off x="291456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گزارش انجام عمليا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9"/>
            <p:cNvSpPr/>
            <p:nvPr/>
          </p:nvSpPr>
          <p:spPr>
            <a:xfrm>
              <a:off x="493092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خلاصه گزارش انجام عملیا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utoShape 20"/>
          <p:cNvSpPr/>
          <p:nvPr/>
        </p:nvSpPr>
        <p:spPr>
          <a:xfrm>
            <a:off x="493092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4"/>
          <p:cNvSpPr/>
          <p:nvPr/>
        </p:nvSpPr>
        <p:spPr>
          <a:xfrm>
            <a:off x="694692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7"/>
          <p:cNvGrpSpPr/>
          <p:nvPr/>
        </p:nvGrpSpPr>
        <p:grpSpPr>
          <a:xfrm>
            <a:off x="826560" y="2924280"/>
            <a:ext cx="7491960" cy="720720"/>
            <a:chOff x="826560" y="2924280"/>
            <a:chExt cx="7491960" cy="720720"/>
          </a:xfrm>
        </p:grpSpPr>
        <p:sp>
          <p:nvSpPr>
            <p:cNvPr id="434" name="AutoShape 12"/>
            <p:cNvSpPr/>
            <p:nvPr/>
          </p:nvSpPr>
          <p:spPr>
            <a:xfrm flipH="1">
              <a:off x="826200" y="2924280"/>
              <a:ext cx="1443240" cy="720720"/>
            </a:xfrm>
            <a:custGeom>
              <a:avLst/>
              <a:gdLst>
                <a:gd name="textAreaLeft" fmla="*/ -360 w 1443240"/>
                <a:gd name="textAreaRight" fmla="*/ 1443240 w 14432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موافقتنامه ها و توزيع اعتبار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7"/>
            <p:cNvSpPr/>
            <p:nvPr/>
          </p:nvSpPr>
          <p:spPr>
            <a:xfrm flipH="1">
              <a:off x="2843280" y="2924280"/>
              <a:ext cx="1442880" cy="720720"/>
            </a:xfrm>
            <a:custGeom>
              <a:avLst/>
              <a:gdLst>
                <a:gd name="textAreaLeft" fmla="*/ 360 w 1442880"/>
                <a:gd name="textAreaRight" fmla="*/ 1443600 w 14428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بادل موافقتنامه ها و ابلاغ تخصي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21"/>
            <p:cNvSpPr/>
            <p:nvPr/>
          </p:nvSpPr>
          <p:spPr>
            <a:xfrm flipH="1">
              <a:off x="4858560" y="2924280"/>
              <a:ext cx="1443240" cy="720720"/>
            </a:xfrm>
            <a:custGeom>
              <a:avLst/>
              <a:gdLst>
                <a:gd name="textAreaLeft" fmla="*/ -360 w 1443240"/>
                <a:gd name="textAreaRight" fmla="*/ 1443240 w 14432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ابلاغ قانون بودج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flipH="1">
              <a:off x="6875640" y="2924280"/>
              <a:ext cx="1442880" cy="720720"/>
            </a:xfrm>
            <a:custGeom>
              <a:avLst/>
              <a:gdLst>
                <a:gd name="textAreaLeft" fmla="*/ 360 w 1442880"/>
                <a:gd name="textAreaRight" fmla="*/ 1443600 w 14428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صویب قانون بودج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252360" y="691920"/>
            <a:ext cx="8567280" cy="5785200"/>
            <a:chOff x="252360" y="691920"/>
            <a:chExt cx="8567280" cy="5785200"/>
          </a:xfrm>
        </p:grpSpPr>
        <p:grpSp>
          <p:nvGrpSpPr>
            <p:cNvPr id="439" name="Group 45"/>
            <p:cNvGrpSpPr/>
            <p:nvPr/>
          </p:nvGrpSpPr>
          <p:grpSpPr>
            <a:xfrm>
              <a:off x="252360" y="691920"/>
              <a:ext cx="8567280" cy="4105080"/>
              <a:chOff x="252360" y="691920"/>
              <a:chExt cx="8567280" cy="4105080"/>
            </a:xfrm>
          </p:grpSpPr>
          <p:sp>
            <p:nvSpPr>
              <p:cNvPr id="440" name="AutoShape 4"/>
              <p:cNvSpPr/>
              <p:nvPr/>
            </p:nvSpPr>
            <p:spPr>
              <a:xfrm rot="16200000">
                <a:off x="-1486440" y="2568960"/>
                <a:ext cx="4095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واحد اجر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5"/>
              <p:cNvSpPr/>
              <p:nvPr/>
            </p:nvSpPr>
            <p:spPr>
              <a:xfrm rot="16200000">
                <a:off x="529920" y="2568960"/>
                <a:ext cx="4095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دستگاههاي اجر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6"/>
              <p:cNvSpPr/>
              <p:nvPr/>
            </p:nvSpPr>
            <p:spPr>
              <a:xfrm rot="16200000">
                <a:off x="255780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سازمان مديريت و برنامه ريز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7"/>
              <p:cNvSpPr/>
              <p:nvPr/>
            </p:nvSpPr>
            <p:spPr>
              <a:xfrm rot="16200000">
                <a:off x="457488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قوه مجري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8"/>
              <p:cNvSpPr/>
              <p:nvPr/>
            </p:nvSpPr>
            <p:spPr>
              <a:xfrm rot="16200000">
                <a:off x="659160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قوه مقنن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29"/>
              <p:cNvSpPr/>
              <p:nvPr/>
            </p:nvSpPr>
            <p:spPr>
              <a:xfrm rot="16200000">
                <a:off x="127080" y="3938760"/>
                <a:ext cx="897840" cy="647640"/>
              </a:xfrm>
              <a:prstGeom prst="ellipse">
                <a:avLst/>
              </a:prstGeom>
              <a:solidFill>
                <a:srgbClr val="a5644e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عملي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AutoShape 30"/>
            <p:cNvSpPr/>
            <p:nvPr/>
          </p:nvSpPr>
          <p:spPr>
            <a:xfrm>
              <a:off x="3924360" y="5842080"/>
              <a:ext cx="1474560" cy="635040"/>
            </a:xfrm>
            <a:prstGeom prst="roundRect">
              <a:avLst>
                <a:gd name="adj" fmla="val 16667"/>
              </a:avLst>
            </a:prstGeom>
            <a:solidFill>
              <a:srgbClr val="a5644e"/>
            </a:solidFill>
            <a:ln w="0">
              <a:noFill/>
            </a:ln>
            <a:effectLst>
              <a:outerShdw dist="17819" dir="2700000" blurRad="0" rotWithShape="0">
                <a:srgbClr val="633c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وزارت امور اقتصادي و دارائ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50"/>
          <p:cNvGrpSpPr/>
          <p:nvPr/>
        </p:nvGrpSpPr>
        <p:grpSpPr>
          <a:xfrm>
            <a:off x="826560" y="289080"/>
            <a:ext cx="7561800" cy="5578200"/>
            <a:chOff x="826560" y="289080"/>
            <a:chExt cx="7561800" cy="5578200"/>
          </a:xfrm>
        </p:grpSpPr>
        <p:grpSp>
          <p:nvGrpSpPr>
            <p:cNvPr id="448" name="Group 46"/>
            <p:cNvGrpSpPr/>
            <p:nvPr/>
          </p:nvGrpSpPr>
          <p:grpSpPr>
            <a:xfrm>
              <a:off x="826560" y="289080"/>
              <a:ext cx="7561800" cy="1411200"/>
              <a:chOff x="826560" y="289080"/>
              <a:chExt cx="7561800" cy="1411200"/>
            </a:xfrm>
          </p:grpSpPr>
          <p:sp>
            <p:nvSpPr>
              <p:cNvPr id="449" name="AutoShape 14"/>
              <p:cNvSpPr/>
              <p:nvPr/>
            </p:nvSpPr>
            <p:spPr>
              <a:xfrm flipH="1">
                <a:off x="826200" y="907920"/>
                <a:ext cx="1443240" cy="720720"/>
              </a:xfrm>
              <a:custGeom>
                <a:avLst/>
                <a:gdLst>
                  <a:gd name="textAreaLeft" fmla="*/ -360 w 1443240"/>
                  <a:gd name="textAreaRight" fmla="*/ 1443240 w 144324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خط مشي 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18"/>
              <p:cNvSpPr/>
              <p:nvPr/>
            </p:nvSpPr>
            <p:spPr>
              <a:xfrm flipH="1">
                <a:off x="2843280" y="907920"/>
                <a:ext cx="1442880" cy="720720"/>
              </a:xfrm>
              <a:custGeom>
                <a:avLst/>
                <a:gdLst>
                  <a:gd name="textAreaLeft" fmla="*/ 360 w 1442880"/>
                  <a:gd name="textAreaRight" fmla="*/ 1443600 w 14428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بخشنامه بودجه و سياست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22"/>
              <p:cNvSpPr/>
              <p:nvPr/>
            </p:nvSpPr>
            <p:spPr>
              <a:xfrm flipH="1">
                <a:off x="4858560" y="907920"/>
                <a:ext cx="1443240" cy="720720"/>
              </a:xfrm>
              <a:custGeom>
                <a:avLst/>
                <a:gdLst>
                  <a:gd name="textAreaLeft" fmla="*/ -360 w 1443240"/>
                  <a:gd name="textAreaRight" fmla="*/ 1443240 w 144324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سياست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44"/>
              <p:cNvGrpSpPr/>
              <p:nvPr/>
            </p:nvGrpSpPr>
            <p:grpSpPr>
              <a:xfrm>
                <a:off x="6948360" y="289080"/>
                <a:ext cx="1440000" cy="1411200"/>
                <a:chOff x="6948360" y="289080"/>
                <a:chExt cx="1440000" cy="1411200"/>
              </a:xfrm>
            </p:grpSpPr>
            <p:sp>
              <p:nvSpPr>
                <p:cNvPr id="453" name="AutoShape 27"/>
                <p:cNvSpPr/>
                <p:nvPr/>
              </p:nvSpPr>
              <p:spPr>
                <a:xfrm>
                  <a:off x="6948360" y="547560"/>
                  <a:ext cx="1440000" cy="1152720"/>
                </a:xfrm>
                <a:prstGeom prst="pie">
                  <a:avLst/>
                </a:prstGeom>
                <a:solidFill>
                  <a:srgbClr val="f0a22e"/>
                </a:solidFill>
                <a:ln w="0">
                  <a:noFill/>
                </a:ln>
                <a:effectLst>
                  <a:outerShdw dist="17819" dir="2700000" blurRad="0" rotWithShape="0">
                    <a:srgbClr val="9061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400" spc="-1" strike="noStrike">
                      <a:solidFill>
                        <a:srgbClr val="000000"/>
                      </a:solidFill>
                      <a:latin typeface="Franklin Gothic Book"/>
                      <a:cs typeface="Tahoma"/>
                    </a:rPr>
                    <a:t>نيازها و احتياجات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8"/>
                <p:cNvSpPr/>
                <p:nvPr/>
              </p:nvSpPr>
              <p:spPr>
                <a:xfrm>
                  <a:off x="7135920" y="289080"/>
                  <a:ext cx="1079280" cy="718920"/>
                </a:xfrm>
                <a:prstGeom prst="ellipse">
                  <a:avLst/>
                </a:prstGeom>
                <a:solidFill>
                  <a:srgbClr val="f0a22e"/>
                </a:solidFill>
                <a:ln w="0">
                  <a:noFill/>
                </a:ln>
                <a:effectLst>
                  <a:outerShdw dist="17819" dir="2700000" blurRad="0" rotWithShape="0">
                    <a:srgbClr val="9061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800" spc="-1" strike="noStrike">
                      <a:solidFill>
                        <a:srgbClr val="000000"/>
                      </a:solidFill>
                      <a:latin typeface="Franklin Gothic Book"/>
                      <a:cs typeface="Tahoma"/>
                    </a:rPr>
                    <a:t>جامعه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AutoShape 31"/>
            <p:cNvSpPr/>
            <p:nvPr/>
          </p:nvSpPr>
          <p:spPr>
            <a:xfrm>
              <a:off x="3886200" y="4800600"/>
              <a:ext cx="1600200" cy="1066680"/>
            </a:xfrm>
            <a:prstGeom prst="upDownArrow">
              <a:avLst>
                <a:gd name="adj1" fmla="val 56713"/>
                <a:gd name="adj2" fmla="val 28074"/>
              </a:avLst>
            </a:prstGeom>
            <a:solidFill>
              <a:srgbClr val="f0a22e"/>
            </a:solidFill>
            <a:ln w="0">
              <a:noFill/>
            </a:ln>
            <a:effectLst>
              <a:outerShdw dist="17819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پيش بيني درآمده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AutoShape 33"/>
          <p:cNvSpPr/>
          <p:nvPr/>
        </p:nvSpPr>
        <p:spPr>
          <a:xfrm>
            <a:off x="5533920" y="5734080"/>
            <a:ext cx="1944720" cy="720720"/>
          </a:xfrm>
          <a:prstGeom prst="leftRightArrow">
            <a:avLst>
              <a:gd name="adj1" fmla="val 50000"/>
              <a:gd name="adj2" fmla="val 53716"/>
            </a:avLst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تفريغ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4"/>
          <p:cNvSpPr/>
          <p:nvPr/>
        </p:nvSpPr>
        <p:spPr>
          <a:xfrm rot="16200000">
            <a:off x="7401600" y="5736240"/>
            <a:ext cx="1092240" cy="592200"/>
          </a:xfrm>
          <a:prstGeom prst="roundRect">
            <a:avLst>
              <a:gd name="adj" fmla="val 11111"/>
            </a:avLst>
          </a:prstGeom>
          <a:solidFill>
            <a:srgbClr val="a5644e"/>
          </a:solidFill>
          <a:ln w="0">
            <a:noFill/>
          </a:ln>
          <a:effectLst>
            <a:outerShdw dist="17819" dir="2700000" blurRad="0" rotWithShape="0">
              <a:srgbClr val="633c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ديوان محاسب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35"/>
          <p:cNvCxnSpPr/>
          <p:nvPr/>
        </p:nvCxnSpPr>
        <p:spPr>
          <a:xfrm>
            <a:off x="2700360" y="4797360"/>
            <a:ext cx="1224720" cy="1153440"/>
          </a:xfrm>
          <a:prstGeom prst="bentConnector3">
            <a:avLst>
              <a:gd name="adj1" fmla="val 646"/>
            </a:avLst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cxnSp>
        <p:nvCxnSpPr>
          <p:cNvPr id="459" name="AutoShape 36"/>
          <p:cNvCxnSpPr/>
          <p:nvPr/>
        </p:nvCxnSpPr>
        <p:spPr>
          <a:xfrm flipV="1" rot="16200000">
            <a:off x="2448720" y="4832640"/>
            <a:ext cx="1512000" cy="1440360"/>
          </a:xfrm>
          <a:prstGeom prst="bentConnector3">
            <a:avLst>
              <a:gd name="adj1" fmla="val 4286"/>
            </a:avLst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sp>
        <p:nvSpPr>
          <p:cNvPr id="460" name="Rectangle 37"/>
          <p:cNvSpPr/>
          <p:nvPr/>
        </p:nvSpPr>
        <p:spPr>
          <a:xfrm>
            <a:off x="2627280" y="55897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گزارش مال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8"/>
          <p:cNvSpPr/>
          <p:nvPr/>
        </p:nvSpPr>
        <p:spPr>
          <a:xfrm rot="16200000">
            <a:off x="1510920" y="533700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واريز وجه تخصي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AutoShape 41"/>
          <p:cNvCxnSpPr>
            <a:stCxn id="457" idx="2"/>
            <a:endCxn id="444" idx="1"/>
          </p:cNvCxnSpPr>
          <p:nvPr/>
        </p:nvCxnSpPr>
        <p:spPr>
          <a:xfrm flipV="1">
            <a:off x="8244000" y="4800600"/>
            <a:ext cx="396000" cy="1232280"/>
          </a:xfrm>
          <a:prstGeom prst="bentConnector2">
            <a:avLst/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sp>
        <p:nvSpPr>
          <p:cNvPr id="463" name="Rectangle 42"/>
          <p:cNvSpPr/>
          <p:nvPr/>
        </p:nvSpPr>
        <p:spPr>
          <a:xfrm rot="16200000">
            <a:off x="7547760" y="5420160"/>
            <a:ext cx="1752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گزارش تفريغ بودج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Diagram 3" descr=""/>
          <p:cNvPicPr/>
          <p:nvPr/>
        </p:nvPicPr>
        <p:blipFill>
          <a:blip r:embed="rId1"/>
          <a:stretch/>
        </p:blipFill>
        <p:spPr>
          <a:xfrm>
            <a:off x="-19080" y="6480"/>
            <a:ext cx="917568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"/>
          <p:cNvSpPr/>
          <p:nvPr/>
        </p:nvSpPr>
        <p:spPr>
          <a:xfrm>
            <a:off x="-695880" y="533520"/>
            <a:ext cx="1241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Titr"/>
              </a:rPr>
              <a:t>تهيه وتنظيم  وپيشنهاد بودجه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4680360" y="198108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بخشنامه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-1335600" y="3124080"/>
            <a:ext cx="114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تهيه وتنظيم بودجه در دستگاههاي اجراي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-533520" y="446724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بررسي بودجه در معاونت برنامه ريزي ونظارت راهبردي رياست جمهو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5-Point Star 5"/>
          <p:cNvSpPr/>
          <p:nvPr/>
        </p:nvSpPr>
        <p:spPr>
          <a:xfrm>
            <a:off x="8381880" y="4419720"/>
            <a:ext cx="762120" cy="685800"/>
          </a:xfrm>
          <a:custGeom>
            <a:avLst/>
            <a:gdLst>
              <a:gd name="textAreaLeft" fmla="*/ 235440 w 762120"/>
              <a:gd name="textAreaRight" fmla="*/ 526680 w 76212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5-Point Star 6"/>
          <p:cNvSpPr/>
          <p:nvPr/>
        </p:nvSpPr>
        <p:spPr>
          <a:xfrm>
            <a:off x="8381880" y="3124080"/>
            <a:ext cx="762120" cy="609840"/>
          </a:xfrm>
          <a:custGeom>
            <a:avLst/>
            <a:gdLst>
              <a:gd name="textAreaLeft" fmla="*/ 235440 w 762120"/>
              <a:gd name="textAreaRight" fmla="*/ 526680 w 762120"/>
              <a:gd name="textAreaTop" fmla="*/ 232920 h 609840"/>
              <a:gd name="textAreaBottom" fmla="*/ 465840 h 609840"/>
            </a:gdLst>
            <a:ahLst/>
            <a:rect l="textAreaLeft" t="textAreaTop" r="textAreaRight" b="textAreaBottom"/>
            <a:pathLst>
              <a:path w="762000" h="609600">
                <a:moveTo>
                  <a:pt x="1" y="232846"/>
                </a:moveTo>
                <a:lnTo>
                  <a:pt x="291060" y="232847"/>
                </a:lnTo>
                <a:lnTo>
                  <a:pt x="381000" y="0"/>
                </a:lnTo>
                <a:lnTo>
                  <a:pt x="470940" y="232847"/>
                </a:lnTo>
                <a:lnTo>
                  <a:pt x="761999" y="232846"/>
                </a:lnTo>
                <a:lnTo>
                  <a:pt x="526527" y="376752"/>
                </a:lnTo>
                <a:lnTo>
                  <a:pt x="616471" y="609598"/>
                </a:lnTo>
                <a:lnTo>
                  <a:pt x="381000" y="465690"/>
                </a:lnTo>
                <a:lnTo>
                  <a:pt x="145529" y="609598"/>
                </a:lnTo>
                <a:lnTo>
                  <a:pt x="235473" y="376752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5-Point Star 7"/>
          <p:cNvSpPr/>
          <p:nvPr/>
        </p:nvSpPr>
        <p:spPr>
          <a:xfrm>
            <a:off x="8458200" y="2057400"/>
            <a:ext cx="685800" cy="533520"/>
          </a:xfrm>
          <a:custGeom>
            <a:avLst/>
            <a:gdLst>
              <a:gd name="textAreaLeft" fmla="*/ 211680 w 685800"/>
              <a:gd name="textAreaRight" fmla="*/ 474120 w 68580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685800" h="533400">
                <a:moveTo>
                  <a:pt x="1" y="203740"/>
                </a:moveTo>
                <a:lnTo>
                  <a:pt x="261954" y="203742"/>
                </a:lnTo>
                <a:lnTo>
                  <a:pt x="342900" y="0"/>
                </a:lnTo>
                <a:lnTo>
                  <a:pt x="423846" y="203742"/>
                </a:lnTo>
                <a:lnTo>
                  <a:pt x="685799" y="203740"/>
                </a:lnTo>
                <a:lnTo>
                  <a:pt x="473874" y="329658"/>
                </a:lnTo>
                <a:lnTo>
                  <a:pt x="554824" y="533398"/>
                </a:lnTo>
                <a:lnTo>
                  <a:pt x="342900" y="407479"/>
                </a:lnTo>
                <a:lnTo>
                  <a:pt x="130976" y="533398"/>
                </a:lnTo>
                <a:lnTo>
                  <a:pt x="211926" y="329658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b58b80"/>
          </a:solidFill>
          <a:ln w="25560">
            <a:solidFill>
              <a:srgbClr val="8465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ffffff"/>
                </a:solidFill>
                <a:latin typeface="Arial"/>
                <a:cs typeface="B Titr"/>
              </a:rPr>
              <a:t>بخشنامه بودج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"/>
          <p:cNvSpPr/>
          <p:nvPr/>
        </p:nvSpPr>
        <p:spPr>
          <a:xfrm>
            <a:off x="-944640" y="1523880"/>
            <a:ext cx="118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  <a:cs typeface="B Titr"/>
              </a:rPr>
              <a:t>سياستها  وخط مشي ها ي لازم درباره تهيه بودجه دردستگاهها براي سال آين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"/>
          <p:cNvSpPr/>
          <p:nvPr/>
        </p:nvSpPr>
        <p:spPr>
          <a:xfrm>
            <a:off x="-581760" y="2362320"/>
            <a:ext cx="11229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Titr"/>
              </a:rPr>
              <a:t>بهمراه آ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000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برنامه زمان بن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5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دستور كار ها منضم به فرمهاي مخصوص اخذ اطلاع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مالي  وعمليات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0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ضوابط مالي ناظر به تهيه وتنظيم بود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b0f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تاريخ ارسال بودجه پيشنهادي  به معاونت برنامه ري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ونظارت راهبردي ارسال مي گر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1" descr=""/>
          <p:cNvPicPr/>
          <p:nvPr/>
        </p:nvPicPr>
        <p:blipFill>
          <a:blip r:embed="rId1"/>
          <a:stretch/>
        </p:blipFill>
        <p:spPr>
          <a:xfrm>
            <a:off x="438120" y="208080"/>
            <a:ext cx="8267760" cy="11142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2"/>
          <p:cNvSpPr/>
          <p:nvPr/>
        </p:nvSpPr>
        <p:spPr>
          <a:xfrm>
            <a:off x="0" y="1600200"/>
            <a:ext cx="89218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سقف اعتبارات هزينه  وتملك دارايي هاي سرمايه ا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دستورالعمل تهيه  وتنظيم برنامه سالانه دول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3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هزينه اي  وبودج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cs typeface="B Titr"/>
              </a:rPr>
              <a:t>تملك دارايي هاي  سرمايه اي دستگاههاي م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4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شركتهاي دولت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5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دستگاههاي استان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6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ضوابط مالي ناظر برتنظيم بودجه كل كشو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Arial"/>
              </a:rPr>
              <a:t>تهيه وتنظيم بودجه در دستگاههاي اجراي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210960" y="1600200"/>
            <a:ext cx="8933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دفتر بودجه يا اداره كل بودج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*تهيه و تنظيم بودجه پيشنهادي دستگاهها وواحدهاي اجراي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*تصويب وزير يا بالاترين مقام دستگاه اجرايي ويا مجمع عمو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      صاحبان س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2:59:33Z</dcterms:created>
  <dc:creator>m</dc:creator>
  <dc:description/>
  <dc:language>en-US</dc:language>
  <cp:lastModifiedBy>Guest</cp:lastModifiedBy>
  <dcterms:modified xsi:type="dcterms:W3CDTF">2011-12-18T18:02:45Z</dcterms:modified>
  <cp:revision>70</cp:revision>
  <dc:subject/>
  <dc:title>Slide 1</dc:title>
</cp:coreProperties>
</file>