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3DBA-E4AE-4B00-8180-7C2299E42E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دانشگاه علوم پزشكي و خدمات بهداشتي  ودرمان تهران</a:t>
            </a:r>
            <a:r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4B10-389F-4930-8285-639A7FD266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5E40-46C9-4E4D-B240-98704B5BC0A3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5D9B-09CD-4F2A-B693-BEEB78D6A6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تخصیص  توزیع  تثبیت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1D12-DFAC-4672-A09D-E287295EAE36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BE34-6554-47D3-9075-CF5B2792A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5953-5D9F-4A5E-943F-8384686D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3C6C-C9E0-4C21-96B5-E00C5CAA9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418A-EF38-4DED-9C65-72CB68D89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280E-9110-4450-B4A6-3A0FE361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3EBB-8C7D-4418-A0E0-639E2DD5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252D-1FAF-4851-99C0-FEDE895F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AD97-31B2-4165-A9A5-5177D28C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E745-73D7-4449-903C-FBC3E1FA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23FA-960F-47A4-BA22-72B253D0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DE0A-4F63-4EE9-BA52-E162B5E1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5BB9-ED83-4B1C-B073-BE0E5A72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4CE6-BEAD-464F-97BF-048632DE11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3"/>
          <p:cNvSpPr/>
          <p:nvPr/>
        </p:nvSpPr>
        <p:spPr>
          <a:xfrm>
            <a:off x="0" y="609480"/>
            <a:ext cx="914400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00000"/>
                </a:solidFill>
                <a:latin typeface="Arial"/>
                <a:cs typeface="B Jadid"/>
              </a:rPr>
              <a:t>دانشگاه علوم پزشكي</a:t>
            </a:r>
            <a:r>
              <a:rPr b="1" lang="fa-IR" sz="6600" spc="-1" strike="noStrike">
                <a:solidFill>
                  <a:srgbClr val="000000"/>
                </a:solidFill>
                <a:latin typeface="Arial"/>
                <a:ea typeface="B Jadid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00000"/>
                </a:solidFill>
                <a:latin typeface="Arial"/>
                <a:cs typeface="B Jadid"/>
              </a:rPr>
              <a:t>و خدمات بهداشتي  ودرمان تهرا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600" spc="-1" strike="noStrike">
                <a:solidFill>
                  <a:srgbClr val="000000"/>
                </a:solidFill>
                <a:latin typeface="Arial"/>
                <a:cs typeface="B Jadid"/>
              </a:rPr>
              <a:t>بودجه</a:t>
            </a:r>
            <a:r>
              <a:rPr b="1" lang="fa-IR" sz="16600" spc="-1" strike="noStrike">
                <a:solidFill>
                  <a:srgbClr val="000000"/>
                </a:solidFill>
                <a:latin typeface="Arial"/>
                <a:ea typeface="B Jadid"/>
              </a:rPr>
              <a:t> 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Jadid"/>
              </a:rPr>
              <a:t>دكتر رامين رحيم نيا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Jadi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Rectangle 2"/>
          <p:cNvGrpSpPr/>
          <p:nvPr/>
        </p:nvGrpSpPr>
        <p:grpSpPr>
          <a:xfrm>
            <a:off x="3054240" y="1195560"/>
            <a:ext cx="3956040" cy="957240"/>
            <a:chOff x="3054240" y="1195560"/>
            <a:chExt cx="3956040" cy="957240"/>
          </a:xfrm>
        </p:grpSpPr>
        <p:pic>
          <p:nvPicPr>
            <p:cNvPr id="115" name="Rectangle 2" descr=""/>
            <p:cNvPicPr/>
            <p:nvPr/>
          </p:nvPicPr>
          <p:blipFill>
            <a:blip r:embed="rId1"/>
            <a:stretch/>
          </p:blipFill>
          <p:spPr>
            <a:xfrm>
              <a:off x="3054240" y="1195560"/>
              <a:ext cx="39560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071880" y="1214280"/>
              <a:ext cx="392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5400" spc="-1" strike="noStrike">
                  <a:solidFill>
                    <a:srgbClr val="984807"/>
                  </a:solidFill>
                  <a:latin typeface="Calibri"/>
                  <a:cs typeface="B Mehr"/>
                </a:rPr>
                <a:t>تعریف</a:t>
              </a:r>
              <a:r>
                <a:rPr b="0" lang="fa-IR" sz="4400" spc="-1" strike="noStrike">
                  <a:solidFill>
                    <a:srgbClr val="984807"/>
                  </a:solidFill>
                  <a:latin typeface="Calibri"/>
                  <a:ea typeface="B Mehr"/>
                </a:rPr>
                <a:t> </a:t>
              </a:r>
              <a:r>
                <a:rPr b="0" lang="fa-IR" sz="5400" spc="-1" strike="noStrike">
                  <a:solidFill>
                    <a:srgbClr val="984807"/>
                  </a:solidFill>
                  <a:latin typeface="Calibri"/>
                  <a:cs typeface="B Mehr"/>
                </a:rPr>
                <a:t>ها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Rectangle 3"/>
          <p:cNvSpPr/>
          <p:nvPr/>
        </p:nvSpPr>
        <p:spPr>
          <a:xfrm>
            <a:off x="2150640" y="2428920"/>
            <a:ext cx="450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984807"/>
                </a:solidFill>
                <a:latin typeface="Calibri"/>
                <a:cs typeface="B Mehr"/>
              </a:rPr>
              <a:t>مفاهیم</a:t>
            </a:r>
            <a:r>
              <a:rPr b="0" lang="fa-IR" sz="3200" spc="-1" strike="noStrike">
                <a:solidFill>
                  <a:srgbClr val="e46c0a"/>
                </a:solidFill>
                <a:latin typeface="Calibri"/>
                <a:ea typeface="B Mehr"/>
              </a:rPr>
              <a:t> </a:t>
            </a:r>
            <a:r>
              <a:rPr b="0" lang="fa-IR" sz="5400" spc="-1" strike="noStrike">
                <a:solidFill>
                  <a:srgbClr val="984807"/>
                </a:solidFill>
                <a:latin typeface="Calibri"/>
                <a:cs typeface="B Mehr"/>
              </a:rPr>
              <a:t>اساسی</a:t>
            </a:r>
            <a:r>
              <a:rPr b="0" lang="fa-IR" sz="3200" spc="-1" strike="noStrike">
                <a:solidFill>
                  <a:srgbClr val="e46c0a"/>
                </a:solidFill>
                <a:latin typeface="Calibri"/>
                <a:ea typeface="B Meh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337840" y="3929040"/>
            <a:ext cx="388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984807"/>
                </a:solidFill>
                <a:latin typeface="Calibri"/>
                <a:cs typeface="B Mehr"/>
              </a:rPr>
              <a:t>ا صول بودج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Rectangle 1" descr=""/>
          <p:cNvPicPr/>
          <p:nvPr/>
        </p:nvPicPr>
        <p:blipFill>
          <a:blip r:embed="rId1"/>
          <a:stretch/>
        </p:blipFill>
        <p:spPr>
          <a:xfrm>
            <a:off x="5230800" y="669960"/>
            <a:ext cx="3608280" cy="890640"/>
          </a:xfrm>
          <a:prstGeom prst="rect">
            <a:avLst/>
          </a:prstGeom>
          <a:ln w="0">
            <a:noFill/>
          </a:ln>
        </p:spPr>
      </p:pic>
      <p:sp>
        <p:nvSpPr>
          <p:cNvPr id="120" name="TextBox 2"/>
          <p:cNvSpPr/>
          <p:nvPr/>
        </p:nvSpPr>
        <p:spPr>
          <a:xfrm>
            <a:off x="4902120" y="3124080"/>
            <a:ext cx="43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بودجه سند دخل وخرج دولت ا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857160" y="1752480"/>
            <a:ext cx="764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طرح مالی است که نیازمندیهای دولت بطور کامل برای مدت محدودی پیش از وقت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B Meh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B Mehr"/>
              </a:rPr>
              <a:t>   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تعیین می گردد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B Mehr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79160" y="2666880"/>
            <a:ext cx="98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طرحی برای تامین هزینه  های دولت یا یک بنگاه انتفاعی برای مدت معین ا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4785480" y="3657600"/>
            <a:ext cx="451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برنامه مالی برای عملیات آتی ا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2144520" y="4191120"/>
            <a:ext cx="77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یکی از ابزارهای مهم مدیریت برای برنامه ریزی وکنترل ا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619200" y="5638680"/>
            <a:ext cx="97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طرح کمی و مشروح وکامل به منظوراستفاده از منابع و ثروتها در دوره معین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B Meh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131400" y="4724280"/>
            <a:ext cx="1062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ابزار ووسایل مالی نظارت قوه مقننه بردولت ونشان دهنده نوع ونحوه مداخله دولت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B Meh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در فعالیتهای اقتصادی کشور ا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2227680" y="762120"/>
            <a:ext cx="65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B Mehr"/>
              </a:rPr>
              <a:t>یک برنامه مالی است برای مدت محدودی از زمان</a:t>
            </a:r>
            <a:r>
              <a:rPr b="0" lang="fa-IR" sz="2400" spc="-1" strike="noStrike">
                <a:solidFill>
                  <a:srgbClr val="000000"/>
                </a:solidFill>
                <a:latin typeface="Calibri"/>
                <a:ea typeface="B Meh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1000080" y="3124080"/>
            <a:ext cx="747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B Mehr"/>
              </a:rPr>
              <a:t>بودجه کل کشور برنامه مالی دولت است که برای یک سال مالی  تهیه و حاوی پیش بینی درآمدها وسایر منابع تامین اعتبار و برآورد هزینه ها برای انجام عملیاتی است که منجر به وصول به هدفهای دو لت می شو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1447200" y="2133720"/>
            <a:ext cx="73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B Mehr"/>
              </a:rPr>
              <a:t>روشی است برای  تعیین آنکه چه کارها یی باید انجام شو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0"/>
          <p:cNvSpPr/>
          <p:nvPr/>
        </p:nvSpPr>
        <p:spPr>
          <a:xfrm>
            <a:off x="2186640" y="2666880"/>
            <a:ext cx="66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B Mehr"/>
              </a:rPr>
              <a:t>ابزار سیاستگزاری مالی برای تحقق اهداف عمومی</a:t>
            </a:r>
            <a:r>
              <a:rPr b="0" lang="fa-IR" sz="2400" spc="-1" strike="noStrike">
                <a:solidFill>
                  <a:srgbClr val="000000"/>
                </a:solidFill>
                <a:latin typeface="Calibri"/>
                <a:ea typeface="B Meh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1"/>
          <p:cNvSpPr/>
          <p:nvPr/>
        </p:nvSpPr>
        <p:spPr>
          <a:xfrm>
            <a:off x="1523880" y="1295280"/>
            <a:ext cx="678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طراحی مالی وکمی  سیاستهای از پیش تعیین شده یک سازمان برای</a:t>
            </a:r>
            <a:r>
              <a:rPr b="0" lang="fa-IR" sz="2000" spc="-1" strike="noStrike">
                <a:solidFill>
                  <a:srgbClr val="000000"/>
                </a:solidFill>
                <a:latin typeface="Calibri"/>
                <a:ea typeface="B Meh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یک دوره معین است</a:t>
            </a:r>
            <a:r>
              <a:rPr b="0" lang="fa-IR" sz="2000" spc="-1" strike="noStrike">
                <a:solidFill>
                  <a:srgbClr val="000000"/>
                </a:solidFill>
                <a:latin typeface="Calibri"/>
                <a:ea typeface="B Meh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8"/>
          <p:cNvSpPr/>
          <p:nvPr/>
        </p:nvSpPr>
        <p:spPr>
          <a:xfrm>
            <a:off x="1071720" y="4871880"/>
            <a:ext cx="771516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1e1c11"/>
                </a:solidFill>
                <a:latin typeface="Calibri"/>
                <a:cs typeface="B Mehr"/>
              </a:rPr>
              <a:t>بودجه دولت عبارتست از برآورد هزینه ها وپیش بینی درآمدها برای یک </a:t>
            </a:r>
            <a:r>
              <a:rPr b="1" lang="fa-IR" sz="2000" spc="-1" strike="noStrike">
                <a:solidFill>
                  <a:srgbClr val="1e1c11"/>
                </a:solidFill>
                <a:latin typeface="Calibri"/>
                <a:cs typeface="B Mehr"/>
              </a:rPr>
              <a:t>دوره</a:t>
            </a:r>
            <a:r>
              <a:rPr b="1" lang="fa-IR" sz="2400" spc="-1" strike="noStrike">
                <a:solidFill>
                  <a:srgbClr val="1e1c11"/>
                </a:solidFill>
                <a:latin typeface="Calibri"/>
                <a:ea typeface="B Mehr"/>
              </a:rPr>
              <a:t> معین در آینده براي عمليات معين  که همراه آن درآمدها وهزینه های قطعی سال گذشته و جاری نیز ارایه می شود</a:t>
            </a:r>
            <a:r>
              <a:rPr b="1" lang="fa-IR" sz="2400" spc="-1" strike="noStrike">
                <a:solidFill>
                  <a:srgbClr val="1e1c11"/>
                </a:solidFill>
                <a:latin typeface="Calibri"/>
                <a:ea typeface="B Meh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9"/>
          <p:cNvSpPr/>
          <p:nvPr/>
        </p:nvSpPr>
        <p:spPr>
          <a:xfrm flipH="1" flipV="1">
            <a:off x="1000080" y="6399360"/>
            <a:ext cx="7858080" cy="144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4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ounded Rectangle 1"/>
          <p:cNvSpPr/>
          <p:nvPr/>
        </p:nvSpPr>
        <p:spPr>
          <a:xfrm>
            <a:off x="914400" y="685800"/>
            <a:ext cx="7429680" cy="51814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ddd9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990720" y="1100160"/>
            <a:ext cx="7111800" cy="60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1e1c11"/>
                </a:solidFill>
                <a:latin typeface="Calibri"/>
                <a:cs typeface="B Mehr"/>
              </a:rPr>
              <a:t>بودجه كل كشور برنامه مالي دولت است كه براي يك سال مالي تهيه وحاوي پيش بيني درآمدها وسايرمنابع تامين اعتبار و برآورد هزينه ها براي انجام عملياتي كه منجر به</a:t>
            </a:r>
            <a:r>
              <a:rPr b="0" lang="en-US" sz="4400" spc="-1" strike="noStrike">
                <a:solidFill>
                  <a:srgbClr val="1e1c11"/>
                </a:solidFill>
                <a:latin typeface="Calibri"/>
                <a:ea typeface="B Mehr"/>
              </a:rPr>
              <a:t> </a:t>
            </a:r>
            <a:r>
              <a:rPr b="0" lang="fa-IR" sz="4400" spc="-1" strike="noStrike">
                <a:solidFill>
                  <a:srgbClr val="1e1c11"/>
                </a:solidFill>
                <a:latin typeface="Calibri"/>
                <a:cs typeface="B Mehr"/>
              </a:rPr>
              <a:t>نيل</a:t>
            </a:r>
            <a:r>
              <a:rPr b="0" lang="en-US" sz="4400" spc="-1" strike="noStrike">
                <a:solidFill>
                  <a:srgbClr val="1e1c11"/>
                </a:solidFill>
                <a:latin typeface="Calibri"/>
                <a:ea typeface="B Mehr"/>
              </a:rPr>
              <a:t> </a:t>
            </a:r>
            <a:r>
              <a:rPr b="0" lang="fa-IR" sz="4400" spc="-1" strike="noStrike">
                <a:solidFill>
                  <a:srgbClr val="1e1c11"/>
                </a:solidFill>
                <a:latin typeface="Calibri"/>
                <a:cs typeface="B Mehr"/>
              </a:rPr>
              <a:t>به سياستها وبه هدفهاي قانوني مي شود</a:t>
            </a:r>
            <a:r>
              <a:rPr b="0" lang="fa-IR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own Arrow 11"/>
          <p:cNvSpPr/>
          <p:nvPr/>
        </p:nvSpPr>
        <p:spPr>
          <a:xfrm>
            <a:off x="1104840" y="428760"/>
            <a:ext cx="7429680" cy="1428480"/>
          </a:xfrm>
          <a:prstGeom prst="downArrow">
            <a:avLst>
              <a:gd name="adj1" fmla="val 89037"/>
              <a:gd name="adj2" fmla="val 55037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ounded Rectangle 7"/>
          <p:cNvSpPr/>
          <p:nvPr/>
        </p:nvSpPr>
        <p:spPr>
          <a:xfrm>
            <a:off x="1000080" y="2071800"/>
            <a:ext cx="7929720" cy="15714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ddd9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2048040" y="762120"/>
            <a:ext cx="671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1e1c11"/>
                </a:solidFill>
                <a:latin typeface="Calibri"/>
                <a:ea typeface="B Mehr"/>
              </a:rPr>
              <a:t>         </a:t>
            </a:r>
            <a:r>
              <a:rPr b="1" lang="fa-IR" sz="2000" spc="-1" strike="noStrike">
                <a:solidFill>
                  <a:srgbClr val="1e1c11"/>
                </a:solidFill>
                <a:latin typeface="Calibri"/>
                <a:cs typeface="B Mehr"/>
              </a:rPr>
              <a:t>ماده </a:t>
            </a:r>
            <a:r>
              <a:rPr b="1" lang="fa-IR" sz="2000" spc="-1" strike="noStrike">
                <a:solidFill>
                  <a:srgbClr val="1e1c11"/>
                </a:solidFill>
                <a:latin typeface="Calibri"/>
                <a:ea typeface="B Mehr"/>
              </a:rPr>
              <a:t>1</a:t>
            </a:r>
            <a:r>
              <a:rPr b="1" lang="fa-IR" sz="2000" spc="-1" strike="noStrike">
                <a:solidFill>
                  <a:srgbClr val="1e1c11"/>
                </a:solidFill>
                <a:latin typeface="Calibri"/>
                <a:ea typeface="B Mehr"/>
              </a:rPr>
              <a:t> قانون محاسبات عمومي كشور مصوب </a:t>
            </a:r>
            <a:r>
              <a:rPr b="1" lang="fa-IR" sz="2000" spc="-1" strike="noStrike">
                <a:solidFill>
                  <a:srgbClr val="1e1c11"/>
                </a:solidFill>
                <a:latin typeface="Calibri"/>
                <a:ea typeface="B Mehr"/>
              </a:rPr>
              <a:t>1366/6/1</a:t>
            </a:r>
            <a:r>
              <a:rPr b="1" lang="fa-IR" sz="2000" spc="-1" strike="noStrike">
                <a:solidFill>
                  <a:srgbClr val="1e1c11"/>
                </a:solidFill>
                <a:latin typeface="Calibri"/>
                <a:ea typeface="B Mehr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1143000" y="2143080"/>
            <a:ext cx="746928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1e1c11"/>
                </a:solidFill>
                <a:latin typeface="Calibri"/>
                <a:cs typeface="B Mehr"/>
              </a:rPr>
              <a:t>بودجه كل كشور برنامه مالي دولت است كه براي يك سال مالي تهيه وحاوي پيش بيني درآمدها وسايرمنابع تامين اعتبار و برآورد هزينه ها براي انجام عملياتي كه منجر به</a:t>
            </a:r>
            <a:r>
              <a:rPr b="1" lang="en-US" sz="2000" spc="-1" strike="noStrike">
                <a:solidFill>
                  <a:srgbClr val="1e1c11"/>
                </a:solidFill>
                <a:latin typeface="Calibri"/>
                <a:ea typeface="B Mehr"/>
              </a:rPr>
              <a:t> </a:t>
            </a:r>
            <a:r>
              <a:rPr b="1" lang="fa-IR" sz="2000" spc="-1" strike="noStrike">
                <a:solidFill>
                  <a:srgbClr val="1e1c11"/>
                </a:solidFill>
                <a:latin typeface="Calibri"/>
                <a:cs typeface="B Mehr"/>
              </a:rPr>
              <a:t>نيل به سياستها وبه هدفهاي قانوني مي شود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3"/>
          <p:cNvSpPr/>
          <p:nvPr/>
        </p:nvSpPr>
        <p:spPr>
          <a:xfrm>
            <a:off x="1285920" y="5214960"/>
            <a:ext cx="1541520" cy="76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70c0"/>
                </a:solidFill>
                <a:latin typeface="Calibri"/>
                <a:cs typeface="B Koodak"/>
              </a:rPr>
              <a:t>درآمدها</a:t>
            </a:r>
            <a:r>
              <a:rPr b="1" lang="fa-IR" sz="2000" spc="-1" strike="noStrike">
                <a:solidFill>
                  <a:srgbClr val="0070c0"/>
                </a:solidFill>
                <a:latin typeface="Calibri"/>
                <a:ea typeface="B Koodak"/>
              </a:rPr>
              <a:t> ومناب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4"/>
          <p:cNvSpPr/>
          <p:nvPr/>
        </p:nvSpPr>
        <p:spPr>
          <a:xfrm>
            <a:off x="1071720" y="6000840"/>
            <a:ext cx="195876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70c0"/>
                </a:solidFill>
                <a:latin typeface="Calibri"/>
                <a:cs typeface="B Koodak"/>
              </a:rPr>
              <a:t>پرداختها وهزينه 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Diagram 19" descr=""/>
          <p:cNvPicPr/>
          <p:nvPr/>
        </p:nvPicPr>
        <p:blipFill>
          <a:blip r:embed="rId2"/>
          <a:stretch/>
        </p:blipFill>
        <p:spPr>
          <a:xfrm>
            <a:off x="1920960" y="3524400"/>
            <a:ext cx="7223040" cy="31874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20"/>
          <p:cNvSpPr/>
          <p:nvPr/>
        </p:nvSpPr>
        <p:spPr>
          <a:xfrm>
            <a:off x="4476600" y="5572080"/>
            <a:ext cx="2000520" cy="9471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Calibri"/>
                <a:cs typeface="B Titr"/>
              </a:rPr>
              <a:t>بودجه دول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TextBox 1" descr=""/>
          <p:cNvPicPr/>
          <p:nvPr/>
        </p:nvPicPr>
        <p:blipFill>
          <a:blip r:embed="rId1"/>
          <a:stretch/>
        </p:blipFill>
        <p:spPr>
          <a:xfrm>
            <a:off x="2919240" y="426960"/>
            <a:ext cx="4054680" cy="1073160"/>
          </a:xfrm>
          <a:prstGeom prst="rect">
            <a:avLst/>
          </a:prstGeom>
          <a:ln w="0">
            <a:noFill/>
          </a:ln>
        </p:spPr>
      </p:pic>
      <p:pic>
        <p:nvPicPr>
          <p:cNvPr id="145" name="TextBox 2" descr=""/>
          <p:cNvPicPr/>
          <p:nvPr/>
        </p:nvPicPr>
        <p:blipFill>
          <a:blip r:embed="rId2"/>
          <a:stretch/>
        </p:blipFill>
        <p:spPr>
          <a:xfrm>
            <a:off x="5254560" y="2017800"/>
            <a:ext cx="2786040" cy="476280"/>
          </a:xfrm>
          <a:prstGeom prst="rect">
            <a:avLst/>
          </a:prstGeom>
          <a:ln w="0">
            <a:noFill/>
          </a:ln>
        </p:spPr>
      </p:pic>
      <p:pic>
        <p:nvPicPr>
          <p:cNvPr id="146" name="TextBox 3" descr=""/>
          <p:cNvPicPr/>
          <p:nvPr/>
        </p:nvPicPr>
        <p:blipFill>
          <a:blip r:embed="rId3"/>
          <a:stretch/>
        </p:blipFill>
        <p:spPr>
          <a:xfrm>
            <a:off x="5992920" y="2803680"/>
            <a:ext cx="1962000" cy="475920"/>
          </a:xfrm>
          <a:prstGeom prst="rect">
            <a:avLst/>
          </a:prstGeom>
          <a:ln w="0">
            <a:noFill/>
          </a:ln>
        </p:spPr>
      </p:pic>
      <p:pic>
        <p:nvPicPr>
          <p:cNvPr id="147" name="TextBox 4" descr=""/>
          <p:cNvPicPr/>
          <p:nvPr/>
        </p:nvPicPr>
        <p:blipFill>
          <a:blip r:embed="rId4"/>
          <a:stretch/>
        </p:blipFill>
        <p:spPr>
          <a:xfrm>
            <a:off x="6632640" y="3517920"/>
            <a:ext cx="1182600" cy="474480"/>
          </a:xfrm>
          <a:prstGeom prst="rect">
            <a:avLst/>
          </a:prstGeom>
          <a:ln w="0">
            <a:noFill/>
          </a:ln>
        </p:spPr>
      </p:pic>
      <p:pic>
        <p:nvPicPr>
          <p:cNvPr id="148" name="TextBox 5" descr=""/>
          <p:cNvPicPr/>
          <p:nvPr/>
        </p:nvPicPr>
        <p:blipFill>
          <a:blip r:embed="rId5"/>
          <a:stretch/>
        </p:blipFill>
        <p:spPr>
          <a:xfrm>
            <a:off x="6340320" y="4237200"/>
            <a:ext cx="1365480" cy="474480"/>
          </a:xfrm>
          <a:prstGeom prst="rect">
            <a:avLst/>
          </a:prstGeom>
          <a:ln w="0">
            <a:noFill/>
          </a:ln>
        </p:spPr>
      </p:pic>
      <p:pic>
        <p:nvPicPr>
          <p:cNvPr id="149" name="TextBox 6" descr=""/>
          <p:cNvPicPr/>
          <p:nvPr/>
        </p:nvPicPr>
        <p:blipFill>
          <a:blip r:embed="rId6"/>
          <a:stretch/>
        </p:blipFill>
        <p:spPr>
          <a:xfrm>
            <a:off x="6168960" y="5022720"/>
            <a:ext cx="1474920" cy="476280"/>
          </a:xfrm>
          <a:prstGeom prst="rect">
            <a:avLst/>
          </a:prstGeom>
          <a:ln w="0">
            <a:noFill/>
          </a:ln>
        </p:spPr>
      </p:pic>
      <p:pic>
        <p:nvPicPr>
          <p:cNvPr id="150" name="TextBox 7" descr=""/>
          <p:cNvPicPr/>
          <p:nvPr/>
        </p:nvPicPr>
        <p:blipFill>
          <a:blip r:embed="rId7"/>
          <a:stretch/>
        </p:blipFill>
        <p:spPr>
          <a:xfrm>
            <a:off x="5668920" y="5803920"/>
            <a:ext cx="1901880" cy="47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7395480" y="500040"/>
            <a:ext cx="193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مقدم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87840" y="1000080"/>
            <a:ext cx="1143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تعریف ها ومفاهیم اساسی واصول بودج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3786120" y="1523880"/>
            <a:ext cx="4749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تاریخچه بودجه ریزی در ایر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2851200" y="2066760"/>
            <a:ext cx="5607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مراحل یا گردش بودجه ا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880080" y="2600280"/>
            <a:ext cx="593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طبقه  بندی در بودج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3918240" y="3133800"/>
            <a:ext cx="586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روشهای بودجه ریز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603720" y="4276800"/>
            <a:ext cx="1014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تجارب برخی کشورها در بودجه ریز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-632520" y="4857840"/>
            <a:ext cx="1134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مسایل ومشکلات نظام بودجه ریزی ایر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3131280" y="3666960"/>
            <a:ext cx="683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حسابداري نقدي وتعهد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"/>
          <p:cNvSpPr/>
          <p:nvPr/>
        </p:nvSpPr>
        <p:spPr>
          <a:xfrm>
            <a:off x="2072160" y="642960"/>
            <a:ext cx="789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400" spc="-1" strike="noStrike">
                <a:solidFill>
                  <a:srgbClr val="000000"/>
                </a:solidFill>
                <a:latin typeface="Calibri"/>
                <a:cs typeface="B Mitra"/>
              </a:rPr>
              <a:t>درپايان اين جلسه بايد بتوان</a:t>
            </a:r>
            <a:r>
              <a:rPr b="1" i="1" lang="fa-IR" sz="4400" spc="-1" strike="noStrike">
                <a:solidFill>
                  <a:srgbClr val="000000"/>
                </a:solidFill>
                <a:latin typeface="Calibri"/>
                <a:ea typeface="B Mitra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1610640" y="193032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>
                <a:solidFill>
                  <a:srgbClr val="000000"/>
                </a:solidFill>
                <a:latin typeface="Calibri"/>
                <a:cs typeface="B Mitra"/>
              </a:rPr>
              <a:t>برداشتي از مفاهيم منابع ونياز ها ارايه ك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-694080" y="2921040"/>
            <a:ext cx="113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>
                <a:solidFill>
                  <a:srgbClr val="000000"/>
                </a:solidFill>
                <a:latin typeface="Calibri"/>
                <a:cs typeface="B Mitra"/>
              </a:rPr>
              <a:t>بخش عمومي وخصوصي وتفاوتهاي اين دو را تعريف ك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-673920" y="4900680"/>
            <a:ext cx="113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>
                <a:solidFill>
                  <a:srgbClr val="000000"/>
                </a:solidFill>
                <a:latin typeface="Calibri"/>
                <a:cs typeface="B Mitra"/>
              </a:rPr>
              <a:t>تعريفي از بودجه ارايه كرد واركان اساسي آن را برشم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479520" y="4064040"/>
            <a:ext cx="993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>
                <a:solidFill>
                  <a:srgbClr val="000000"/>
                </a:solidFill>
                <a:latin typeface="Calibri"/>
                <a:cs typeface="B Mitra"/>
              </a:rPr>
              <a:t>تحول نقش دولتها را در ارتباط با بودجه بيان كرد</a:t>
            </a:r>
            <a:r>
              <a:rPr b="1" i="1" lang="fa-IR" sz="3200" spc="-1" strike="noStrike">
                <a:solidFill>
                  <a:srgbClr val="000000"/>
                </a:solidFill>
                <a:latin typeface="Calibri"/>
                <a:ea typeface="B Mitr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2514600" y="2048040"/>
            <a:ext cx="584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  <a:cs typeface="B Mitra"/>
              </a:rPr>
              <a:t>شش اصل مهم بودجه را نام بر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533520" y="2976480"/>
            <a:ext cx="78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  <a:cs typeface="B Mitra"/>
              </a:rPr>
              <a:t>اصل سالانه بودن بودجه را از دو جنبه فني وسياسي توجيه كر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1219320" y="4154400"/>
            <a:ext cx="71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  <a:cs typeface="B Mitra"/>
              </a:rPr>
              <a:t>اصل وحدت بودجه را توضيح دا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457200" y="4834080"/>
            <a:ext cx="784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  <a:cs typeface="B Mitra"/>
              </a:rPr>
              <a:t>اصل تعادل بودجه را توضيح داد ومفهوم امروزي آنرا بيان كر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533520" y="1214280"/>
            <a:ext cx="814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Mitra"/>
              </a:rPr>
              <a:t>اصول بودجه  ومفهوم آنها را بيان كر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6781680" y="1676520"/>
            <a:ext cx="1812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376092"/>
                </a:solidFill>
                <a:latin typeface="Calibri"/>
                <a:cs typeface=" Mitra"/>
              </a:rPr>
              <a:t>نيازه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-730440" y="2057400"/>
            <a:ext cx="915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000000"/>
                </a:solidFill>
                <a:latin typeface="Calibri"/>
                <a:cs typeface=" Mitra"/>
              </a:rPr>
              <a:t>منشا پيشرفت های انسان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6732000" y="2944800"/>
            <a:ext cx="231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376092"/>
                </a:solidFill>
                <a:latin typeface="Calibri"/>
                <a:cs typeface=" Mitra"/>
              </a:rPr>
              <a:t>نيازه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2676240" y="2928960"/>
            <a:ext cx="510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Calibri"/>
                <a:cs typeface=" Mitra"/>
              </a:rPr>
              <a:t>را </a:t>
            </a:r>
            <a:r>
              <a:rPr b="1" lang="fa-IR" sz="6000" spc="-1" strike="noStrike">
                <a:solidFill>
                  <a:srgbClr val="000000"/>
                </a:solidFill>
                <a:latin typeface="Calibri"/>
                <a:cs typeface=" Mitra"/>
              </a:rPr>
              <a:t>پايانی</a:t>
            </a:r>
            <a:r>
              <a:rPr b="1" lang="fa-IR" sz="4800" spc="-1" strike="noStrike">
                <a:solidFill>
                  <a:srgbClr val="000000"/>
                </a:solidFill>
                <a:latin typeface="Calibri"/>
                <a:ea typeface=" Mitra"/>
              </a:rPr>
              <a:t> نيس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6375240" y="3873600"/>
            <a:ext cx="205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e46c0a"/>
                </a:solidFill>
                <a:latin typeface="Calibri"/>
                <a:cs typeface=" Mitra"/>
              </a:rPr>
              <a:t>مناب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3936600" y="3987720"/>
            <a:ext cx="341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 Mitra"/>
              </a:rPr>
              <a:t>محدود اس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1049760" y="5027760"/>
            <a:ext cx="937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9bbb59"/>
                </a:solidFill>
                <a:latin typeface="Calibri"/>
                <a:cs typeface=" Mitra"/>
              </a:rPr>
              <a:t>بهره مندی با حد متناس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1990800" y="857160"/>
            <a:ext cx="557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Calibri"/>
                <a:cs typeface="B Jadid"/>
              </a:rPr>
              <a:t>نیازها ومناب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Chevron 8"/>
          <p:cNvSpPr/>
          <p:nvPr/>
        </p:nvSpPr>
        <p:spPr>
          <a:xfrm rot="10800000">
            <a:off x="7286400" y="4357440"/>
            <a:ext cx="1857240" cy="185724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1857240"/>
              <a:gd name="textAreaBottom" fmla="*/ 18576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61" y="0"/>
                </a:lnTo>
                <a:lnTo>
                  <a:pt x="21600" y="10800"/>
                </a:lnTo>
                <a:lnTo>
                  <a:pt x="17061" y="21600"/>
                </a:lnTo>
                <a:lnTo>
                  <a:pt x="0" y="21600"/>
                </a:lnTo>
                <a:lnTo>
                  <a:pt x="4539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hevron 6"/>
          <p:cNvSpPr/>
          <p:nvPr/>
        </p:nvSpPr>
        <p:spPr>
          <a:xfrm rot="10800000">
            <a:off x="7286400" y="1357200"/>
            <a:ext cx="1857240" cy="165096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1650960"/>
              <a:gd name="textAreaBottom" fmla="*/ 1651320 h 165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65" y="0"/>
                </a:lnTo>
                <a:lnTo>
                  <a:pt x="21600" y="10800"/>
                </a:lnTo>
                <a:lnTo>
                  <a:pt x="17565" y="21600"/>
                </a:lnTo>
                <a:lnTo>
                  <a:pt x="0" y="21600"/>
                </a:lnTo>
                <a:lnTo>
                  <a:pt x="4035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2327400" y="228600"/>
            <a:ext cx="510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Calibri"/>
                <a:cs typeface="B Jadid"/>
              </a:rPr>
              <a:t>جامعه نیازها ومناب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7710480" y="1371600"/>
            <a:ext cx="1357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Calibri"/>
                <a:cs typeface="B Titr"/>
              </a:rPr>
              <a:t>بخش عموم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1071720" y="914400"/>
            <a:ext cx="62150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B Badr"/>
              </a:rPr>
              <a:t>افراد،گروهها سازمانهایی که منافع اکثریت جامعه رادرنظردارندو ضمن تامین رضایت عمومی وظیفه پیشرفت  اقتصادی فرهنگی اجتماعی سیاسی را برعهده دارد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B Bad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B Davat"/>
              </a:rPr>
              <a:t>هماهنگی کوشش ها وتلاشهای فردی وجمعی به منظور تحقق واجرای سیاستهای دولت 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B Badr"/>
              </a:rPr>
              <a:t>ضامن سلامت هر جامعه و بقای تمدن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7353360" y="4495680"/>
            <a:ext cx="171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Calibri"/>
                <a:cs typeface="B Titr"/>
              </a:rPr>
              <a:t>بخ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a-IR" sz="3600" spc="-1" strike="noStrike">
                <a:solidFill>
                  <a:srgbClr val="000000"/>
                </a:solidFill>
                <a:latin typeface="Calibri"/>
                <a:cs typeface="B Titr"/>
              </a:rPr>
              <a:t>خصوص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1066680" y="5257800"/>
            <a:ext cx="6000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Davat"/>
              </a:rPr>
              <a:t>هماهنگی کوشش ها وتلاشهای فردی وچمعی به منظور تحقق واجرای سیاستها وخط مشی های سازمانهای خصوصی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B Dava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1071720" y="4191120"/>
            <a:ext cx="5786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B Badr"/>
              </a:rPr>
              <a:t>افراد،گروهها سازمانهایی رابطه خریدار –فروشنده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B Bad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B Badr"/>
              </a:rPr>
              <a:t>ویا تولید کننده-فروشنده در آنها برقرار اس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93240" y="304920"/>
            <a:ext cx="98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B Zar"/>
                <a:cs typeface="B Jadid"/>
              </a:rPr>
              <a:t>تفاوتهای بخش خصوصی ودولت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4129920" y="1643040"/>
            <a:ext cx="444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Nazanin"/>
              </a:rPr>
              <a:t>انگیزه کسب سو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4464360" y="2286000"/>
            <a:ext cx="411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Nazanin"/>
              </a:rPr>
              <a:t>حساسیت مردم</a:t>
            </a:r>
            <a:r>
              <a:rPr b="1" lang="fa-IR" sz="4000" spc="-1" strike="noStrike">
                <a:solidFill>
                  <a:srgbClr val="000000"/>
                </a:solidFill>
                <a:latin typeface="Calibri"/>
                <a:ea typeface="B Nazani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2673000" y="2786040"/>
            <a:ext cx="654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Nazanin"/>
              </a:rPr>
              <a:t>چارچوب قوانین ومقرر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5300640" y="3429000"/>
            <a:ext cx="320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Nazanin"/>
              </a:rPr>
              <a:t>تاثیرسیاس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3353400" y="3929040"/>
            <a:ext cx="587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Nazanin"/>
              </a:rPr>
              <a:t>وسعت قلمرو سازمان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1176120" y="4495680"/>
            <a:ext cx="926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Nazanin"/>
              </a:rPr>
              <a:t>مدیریت وویژگیهای لازم برای مدیرا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1789560" y="5072040"/>
            <a:ext cx="797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Nazanin"/>
              </a:rPr>
              <a:t>استمرار وفوریت داشتن خدم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4350600" y="5786280"/>
            <a:ext cx="413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Nazanin"/>
              </a:rPr>
              <a:t>قیمت تمام شد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2143080" y="214200"/>
            <a:ext cx="557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984807"/>
                </a:solidFill>
                <a:latin typeface="Calibri"/>
                <a:cs typeface="B Jadid"/>
              </a:rPr>
              <a:t>تحول نقش دولت</a:t>
            </a:r>
            <a:r>
              <a:rPr b="0" lang="fa-IR" sz="4400" spc="-1" strike="noStrike">
                <a:solidFill>
                  <a:srgbClr val="984807"/>
                </a:solidFill>
                <a:latin typeface="Calibri"/>
                <a:ea typeface="B Jadi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2838600" y="1000080"/>
            <a:ext cx="66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Titr"/>
              </a:rPr>
              <a:t>تغییر از فئودالیسم تا دولت های ناظ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09680" y="1447920"/>
            <a:ext cx="84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Calibri"/>
                <a:cs typeface="B Compset"/>
              </a:rPr>
              <a:t>بدست گرفتن امکانات ومنابع جامعه درراه نیل به خواستهاوهدفها ی</a:t>
            </a:r>
            <a:r>
              <a:rPr b="1" i="1" lang="fa-IR" sz="2800" spc="-1" strike="noStrike">
                <a:solidFill>
                  <a:srgbClr val="000000"/>
                </a:solidFill>
                <a:latin typeface="Calibri"/>
                <a:ea typeface="B Compse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Calibri"/>
                <a:cs typeface="B Compset"/>
              </a:rPr>
              <a:t>جامعه بنحویکه حد متناسب ارضا شود</a:t>
            </a:r>
            <a:r>
              <a:rPr b="1" i="1" lang="fa-IR" sz="2800" spc="-1" strike="noStrike">
                <a:solidFill>
                  <a:srgbClr val="000000"/>
                </a:solidFill>
                <a:latin typeface="Calibri"/>
                <a:ea typeface="B Compset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2128320" y="2643120"/>
            <a:ext cx="71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Titr"/>
              </a:rPr>
              <a:t>نقش جدیدتر دولت ها در اقتصاد کشور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-152280" y="2133720"/>
            <a:ext cx="377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77933c"/>
                </a:solidFill>
                <a:latin typeface="Calibri"/>
                <a:cs typeface="B Kamran Outline"/>
              </a:rPr>
              <a:t>فن </a:t>
            </a:r>
            <a:r>
              <a:rPr b="1" lang="fa-IR" sz="4400" spc="-1" strike="noStrike">
                <a:solidFill>
                  <a:srgbClr val="77933c"/>
                </a:solidFill>
                <a:latin typeface="Calibri"/>
                <a:cs typeface="B Kamran Outline"/>
              </a:rPr>
              <a:t>بودجه</a:t>
            </a:r>
            <a:r>
              <a:rPr b="1" lang="fa-IR" sz="3600" spc="-1" strike="noStrike">
                <a:solidFill>
                  <a:srgbClr val="77933c"/>
                </a:solidFill>
                <a:latin typeface="Calibri"/>
                <a:ea typeface="B Kamran Outline"/>
              </a:rPr>
              <a:t> نویس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7215120" y="3500280"/>
            <a:ext cx="107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 u="sng">
                <a:solidFill>
                  <a:srgbClr val="77933c"/>
                </a:solidFill>
                <a:uFillTx/>
                <a:latin typeface="Calibri"/>
                <a:cs typeface="B Compset"/>
              </a:rPr>
              <a:t>بدلایل</a:t>
            </a:r>
            <a:r>
              <a:rPr b="1" i="1" lang="fa-IR" sz="2800" spc="-1" strike="noStrike" u="sng">
                <a:solidFill>
                  <a:srgbClr val="77933c"/>
                </a:solidFill>
                <a:uFillTx/>
                <a:latin typeface="Calibri"/>
                <a:ea typeface="B Compset"/>
              </a:rPr>
              <a:t> </a:t>
            </a:r>
            <a:r>
              <a:rPr b="1" i="1" lang="fa-IR" sz="2800" spc="-1" strike="noStrike" u="sng">
                <a:solidFill>
                  <a:srgbClr val="77933c"/>
                </a:solidFill>
                <a:uFillTx/>
                <a:latin typeface="Calibri"/>
                <a:ea typeface="B Compse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1214280" y="6072120"/>
            <a:ext cx="728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 u="sng">
                <a:solidFill>
                  <a:srgbClr val="0d0d0d"/>
                </a:solidFill>
                <a:uFillTx/>
                <a:latin typeface="Calibri"/>
                <a:cs typeface="B Compset"/>
              </a:rPr>
              <a:t>نفش بخش خصوصی کم رنگ   و نقش دولت ها پررنگ تر اس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4286160" y="4000680"/>
            <a:ext cx="395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Compset"/>
              </a:rPr>
              <a:t>نقدینگی وسرمایه لاز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748240" y="4429080"/>
            <a:ext cx="67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Compset"/>
              </a:rPr>
              <a:t>نبودامنیت اقتصادی و خطرات سرمایه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B Compse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3719160" y="4786200"/>
            <a:ext cx="56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Compset"/>
              </a:rPr>
              <a:t>پایین بودن نرخ برگشت سرمایه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B Compse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1520280" y="5214960"/>
            <a:ext cx="83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Compset"/>
              </a:rPr>
              <a:t>فاصله طولانی از سرمایه گذاری تا بهره بردار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1809360" y="5600880"/>
            <a:ext cx="81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Compset"/>
              </a:rPr>
              <a:t>سود بیشتر در سایر فعالیتها و سرمایه گذاری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7"/>
          <p:cNvSpPr/>
          <p:nvPr/>
        </p:nvSpPr>
        <p:spPr>
          <a:xfrm>
            <a:off x="1328040" y="3071880"/>
            <a:ext cx="825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Calibri"/>
                <a:cs typeface="B Compset"/>
              </a:rPr>
              <a:t>اقتصاد كلاسيك وتحولات بعداز جنگ جهاني دو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6643800" y="1676520"/>
            <a:ext cx="19875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Jadid"/>
              </a:rPr>
              <a:t>نقش دولتها د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B Jadid"/>
              </a:rPr>
              <a:t> 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Jadid"/>
              </a:rPr>
              <a:t>رابطه با بودج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3791520" y="928800"/>
            <a:ext cx="252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Calibri"/>
              </a:rPr>
              <a:t>تخصی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4281840" y="2714760"/>
            <a:ext cx="178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Calibri"/>
              </a:rPr>
              <a:t>توزی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4226400" y="4797360"/>
            <a:ext cx="179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Calibri"/>
              </a:rPr>
              <a:t>تثبی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ight Brace 7"/>
          <p:cNvSpPr/>
          <p:nvPr/>
        </p:nvSpPr>
        <p:spPr>
          <a:xfrm>
            <a:off x="6000840" y="1071720"/>
            <a:ext cx="857160" cy="4286160"/>
          </a:xfrm>
          <a:custGeom>
            <a:avLst/>
            <a:gdLst>
              <a:gd name="textAreaLeft" fmla="*/ 0 w 857160"/>
              <a:gd name="textAreaRight" fmla="*/ 309600 w 857160"/>
              <a:gd name="textAreaTop" fmla="*/ 22320 h 4286160"/>
              <a:gd name="textAreaBottom" fmla="*/ 4263840 h 428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16200" y="10800"/>
                  <a:pt x="21600" y="10800"/>
                </a:cubicBezTo>
                <a:cubicBezTo>
                  <a:pt x="162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457200" y="838080"/>
            <a:ext cx="377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 Mitra"/>
              </a:rPr>
              <a:t>فرآیندی که تقسیم کل منابع به فعالیتها ازآن طریق صورت می گیر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457200" y="2590920"/>
            <a:ext cx="40910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توزیع منابع ؛درآمدها وثروت به منظو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انطباق پذیری با آنچه که وضع مناسب ی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Calibri"/>
                <a:cs typeface=" Mitra"/>
              </a:rPr>
              <a:t>عادلانه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 توزیع تلقی می شود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9"/>
          <p:cNvSpPr/>
          <p:nvPr/>
        </p:nvSpPr>
        <p:spPr>
          <a:xfrm>
            <a:off x="609480" y="4440240"/>
            <a:ext cx="3745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 Mitra"/>
              </a:rPr>
              <a:t>     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استفاده از سیاست های بودجه ای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به عنوان ابزاری برای نیل به اهداف و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استراتژی ها وبرنامه های  دولت برای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حفظ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اشتغال در سطح بالا ؛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تثبی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قیمتها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نرخ مناسب رشد و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7:37:56Z</dcterms:created>
  <dc:creator>m</dc:creator>
  <dc:description/>
  <dc:language>en-US</dc:language>
  <cp:lastModifiedBy>rahimnia-f5</cp:lastModifiedBy>
  <dcterms:modified xsi:type="dcterms:W3CDTF">2013-10-23T08:03:22Z</dcterms:modified>
  <cp:revision>39</cp:revision>
  <dc:subject/>
  <dc:title>Slide 1</dc:title>
</cp:coreProperties>
</file>