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5199-8AC7-4A41-9979-F86C6A44E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دانشگاه علوم پزشكي و خدمات بهداشتي  ودرمان تهران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2FDF-5693-4A2A-AD01-E8F342656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DFC0-298D-4C54-A308-527F62D50E14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8FDE-75BE-4421-9CAC-B0BEF3A93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خصیص  توزیع  تثبی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BE06-24B5-4DBB-B02B-C401256C996D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21F8-4FF1-4AE0-8FE8-A7896766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E56-30DF-41B0-BCF4-68FFD2B8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C60-0C94-4ED5-9FDB-549A57B1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19C-316F-4EE1-A2EB-2BD08AF2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215-0E93-4BCA-A454-FDCDFC1C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EC3-AF28-4B7C-8026-E549764B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B27-6B63-4AE2-A534-2F866D5D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F29-D734-4111-8AC2-BF324936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299-3DC1-4DEB-8C76-FDDA0F00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57E-19B4-41C8-8BE0-CB778A65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2C7-D19E-4226-B8F2-621967CC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8AC-27FE-4EB8-AE8E-F86C45C0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1357-C4A8-43E5-85F4-467C127A0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0" y="609480"/>
            <a:ext cx="9144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Arial"/>
                <a:cs typeface="B Jadid"/>
              </a:rPr>
              <a:t>دانشگاه علوم پزشكي</a:t>
            </a:r>
            <a:r>
              <a:rPr b="1" lang="fa-IR" sz="66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Arial"/>
                <a:cs typeface="B Jadid"/>
              </a:rPr>
              <a:t>و خدمات بهداشتي  ودرمان تهرا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600" spc="-1" strike="noStrike">
                <a:solidFill>
                  <a:srgbClr val="000000"/>
                </a:solidFill>
                <a:latin typeface="Arial"/>
                <a:cs typeface="B Jadid"/>
              </a:rPr>
              <a:t>بودجه</a:t>
            </a:r>
            <a:r>
              <a:rPr b="1" lang="fa-IR" sz="166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Jadid"/>
              </a:rPr>
              <a:t>دكتر رامين رحيم نيا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Jad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Rectangle 2"/>
          <p:cNvGrpSpPr/>
          <p:nvPr/>
        </p:nvGrpSpPr>
        <p:grpSpPr>
          <a:xfrm>
            <a:off x="3054240" y="1195560"/>
            <a:ext cx="3956040" cy="957240"/>
            <a:chOff x="3054240" y="1195560"/>
            <a:chExt cx="3956040" cy="957240"/>
          </a:xfrm>
        </p:grpSpPr>
        <p:pic>
          <p:nvPicPr>
            <p:cNvPr id="115" name="Rectangle 2" descr=""/>
            <p:cNvPicPr/>
            <p:nvPr/>
          </p:nvPicPr>
          <p:blipFill>
            <a:blip r:embed="rId1"/>
            <a:stretch/>
          </p:blipFill>
          <p:spPr>
            <a:xfrm>
              <a:off x="3054240" y="1195560"/>
              <a:ext cx="39560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071880" y="1214280"/>
              <a:ext cx="392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5400" spc="-1" strike="noStrike">
                  <a:solidFill>
                    <a:srgbClr val="984807"/>
                  </a:solidFill>
                  <a:latin typeface="Calibri"/>
                  <a:cs typeface="B Mehr"/>
                </a:rPr>
                <a:t>تعریف</a:t>
              </a:r>
              <a:r>
                <a:rPr b="0" lang="fa-IR" sz="4400" spc="-1" strike="noStrike">
                  <a:solidFill>
                    <a:srgbClr val="984807"/>
                  </a:solidFill>
                  <a:latin typeface="Calibri"/>
                  <a:ea typeface="B Mehr"/>
                </a:rPr>
                <a:t> </a:t>
              </a:r>
              <a:r>
                <a:rPr b="0" lang="fa-IR" sz="5400" spc="-1" strike="noStrike">
                  <a:solidFill>
                    <a:srgbClr val="984807"/>
                  </a:solidFill>
                  <a:latin typeface="Calibri"/>
                  <a:cs typeface="B Mehr"/>
                </a:rPr>
                <a:t>ها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3"/>
          <p:cNvSpPr/>
          <p:nvPr/>
        </p:nvSpPr>
        <p:spPr>
          <a:xfrm>
            <a:off x="2150640" y="2428920"/>
            <a:ext cx="450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مفاهیم</a:t>
            </a:r>
            <a:r>
              <a:rPr b="0" lang="fa-IR" sz="3200" spc="-1" strike="noStrike">
                <a:solidFill>
                  <a:srgbClr val="e46c0a"/>
                </a:solidFill>
                <a:latin typeface="Calibri"/>
                <a:ea typeface="B Mehr"/>
              </a:rPr>
              <a:t> </a:t>
            </a: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اساسی</a:t>
            </a:r>
            <a:r>
              <a:rPr b="0" lang="fa-IR" sz="3200" spc="-1" strike="noStrike">
                <a:solidFill>
                  <a:srgbClr val="e46c0a"/>
                </a:solidFill>
                <a:latin typeface="Calibri"/>
                <a:ea typeface="B Meh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37840" y="3929040"/>
            <a:ext cx="388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984807"/>
                </a:solidFill>
                <a:latin typeface="Calibri"/>
                <a:cs typeface="B Mehr"/>
              </a:rPr>
              <a:t>ا صول بودج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1" descr=""/>
          <p:cNvPicPr/>
          <p:nvPr/>
        </p:nvPicPr>
        <p:blipFill>
          <a:blip r:embed="rId1"/>
          <a:stretch/>
        </p:blipFill>
        <p:spPr>
          <a:xfrm>
            <a:off x="5230800" y="669960"/>
            <a:ext cx="3608280" cy="8906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4902120" y="3124080"/>
            <a:ext cx="43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بودجه سند دخل وخرج دولت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857160" y="175248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 مالی است که نیازمندیهای دولت بطور کامل برای مدت محدودی پیش از وقت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B Mehr"/>
              </a:rPr>
              <a:t>  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تعیین می گردد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79160" y="2666880"/>
            <a:ext cx="9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ی برای تامین هزینه  های دولت یا یک بنگاه انتفاعی برای مدت معین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785480" y="3657600"/>
            <a:ext cx="45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برنامه مالی برای عملیات آتی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2144520" y="4191120"/>
            <a:ext cx="77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یکی از ابزارهای مهم مدیریت برای برنامه ریزی وکنترل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19200" y="5638680"/>
            <a:ext cx="97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ح کمی و مشروح وکامل به منظوراستفاده از منابع و ثروتها در دوره معین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131400" y="4724280"/>
            <a:ext cx="1062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ابزار ووسایل مالی نظارت قوه مقننه بردولت ونشان دهنده نوع ونحوه مداخله دولت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در فعالیتهای اقتصادی کشور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227680" y="762120"/>
            <a:ext cx="65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یک برنامه مالی است برای مدت محدودی از زمان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000080" y="3124080"/>
            <a:ext cx="74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بودجه کل کشور برنامه مالی دولت است که برای یک سال مالی  تهیه و حاوی پیش بینی درآمدها وسایر منابع تامین اعتبار و برآورد هزینه ها برای انجام عملیاتی است که منجر به وصول به هدفهای دو لت می ش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1447200" y="213372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روشی است برای  تعیین آنکه چه کارها یی باید انجام ش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2186640" y="2666880"/>
            <a:ext cx="66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Mehr"/>
              </a:rPr>
              <a:t>ابزار سیاستگزاری مالی برای تحقق اهداف عمومی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1523880" y="1295280"/>
            <a:ext cx="67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طراحی مالی وکمی  سیاستهای از پیش تعیین شده یک سازمان برای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Mehr"/>
              </a:rPr>
              <a:t>یک دوره معین است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ea typeface="B Meh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1071720" y="4871880"/>
            <a:ext cx="77151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1e1c11"/>
                </a:solidFill>
                <a:latin typeface="Calibri"/>
                <a:cs typeface="B Mehr"/>
              </a:rPr>
              <a:t>بودجه دولت عبارتست از برآورد هزینه ها وپیش بینی درآمدها برای یک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دوره</a:t>
            </a:r>
            <a:r>
              <a:rPr b="1" lang="fa-IR" sz="2400" spc="-1" strike="noStrike">
                <a:solidFill>
                  <a:srgbClr val="1e1c11"/>
                </a:solidFill>
                <a:latin typeface="Calibri"/>
                <a:ea typeface="B Mehr"/>
              </a:rPr>
              <a:t> معین در آینده براي عمليات معين  که همراه آن درآمدها وهزینه های قطعی سال گذشته و جاری نیز ارایه می شود</a:t>
            </a:r>
            <a:r>
              <a:rPr b="1" lang="fa-IR" sz="2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 flipH="1" flipV="1">
            <a:off x="1000080" y="6399360"/>
            <a:ext cx="7858080" cy="14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ounded Rectangle 1"/>
          <p:cNvSpPr/>
          <p:nvPr/>
        </p:nvSpPr>
        <p:spPr>
          <a:xfrm>
            <a:off x="914400" y="685800"/>
            <a:ext cx="7429680" cy="51814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990720" y="1100160"/>
            <a:ext cx="711180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بودجه كل كشور برنامه مالي دولت است كه براي يك سال مالي تهيه وحاوي پيش بيني درآمدها وسايرمنابع تامين اعتبار و برآورد هزينه ها براي انجام عملياتي كه منجر به</a:t>
            </a:r>
            <a:r>
              <a:rPr b="0" lang="en-US" sz="4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نيل</a:t>
            </a:r>
            <a:r>
              <a:rPr b="0" lang="en-US" sz="44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0" lang="fa-IR" sz="4400" spc="-1" strike="noStrike">
                <a:solidFill>
                  <a:srgbClr val="1e1c11"/>
                </a:solidFill>
                <a:latin typeface="Calibri"/>
                <a:cs typeface="B Mehr"/>
              </a:rPr>
              <a:t>به سياستها وبه هدفهاي قانوني مي شود</a:t>
            </a:r>
            <a:r>
              <a:rPr b="0" lang="fa-I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own Arrow 11"/>
          <p:cNvSpPr/>
          <p:nvPr/>
        </p:nvSpPr>
        <p:spPr>
          <a:xfrm>
            <a:off x="1104840" y="428760"/>
            <a:ext cx="7429680" cy="1428480"/>
          </a:xfrm>
          <a:prstGeom prst="downArrow">
            <a:avLst>
              <a:gd name="adj1" fmla="val 89037"/>
              <a:gd name="adj2" fmla="val 5503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7"/>
          <p:cNvSpPr/>
          <p:nvPr/>
        </p:nvSpPr>
        <p:spPr>
          <a:xfrm>
            <a:off x="1000080" y="2071800"/>
            <a:ext cx="7929720" cy="1571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2048040" y="76212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       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ماده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1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قانون محاسبات عمومي كشور مصوب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1366/6/1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ea typeface="B Mehr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1143000" y="2143080"/>
            <a:ext cx="7469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بودجه كل كشور برنامه مالي دولت است كه براي يك سال مالي تهيه وحاوي پيش بيني درآمدها وسايرمنابع تامين اعتبار و برآورد هزينه ها براي انجام عملياتي كه منجر به</a:t>
            </a:r>
            <a:r>
              <a:rPr b="1" lang="en-US" sz="2000" spc="-1" strike="noStrike">
                <a:solidFill>
                  <a:srgbClr val="1e1c11"/>
                </a:solidFill>
                <a:latin typeface="Calibri"/>
                <a:ea typeface="B Mehr"/>
              </a:rPr>
              <a:t> </a:t>
            </a:r>
            <a:r>
              <a:rPr b="1" lang="fa-IR" sz="2000" spc="-1" strike="noStrike">
                <a:solidFill>
                  <a:srgbClr val="1e1c11"/>
                </a:solidFill>
                <a:latin typeface="Calibri"/>
                <a:cs typeface="B Mehr"/>
              </a:rPr>
              <a:t>نيل به سياستها وبه هدفهاي قانوني مي شود</a:t>
            </a:r>
            <a:r>
              <a:rPr b="1" lang="fa-I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1285920" y="5214960"/>
            <a:ext cx="1541520" cy="76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70c0"/>
                </a:solidFill>
                <a:latin typeface="Calibri"/>
                <a:cs typeface="B Koodak"/>
              </a:rPr>
              <a:t>درآمدها</a:t>
            </a:r>
            <a:r>
              <a:rPr b="1" lang="fa-IR" sz="2000" spc="-1" strike="noStrike">
                <a:solidFill>
                  <a:srgbClr val="0070c0"/>
                </a:solidFill>
                <a:latin typeface="Calibri"/>
                <a:ea typeface="B Koodak"/>
              </a:rPr>
              <a:t> ومناب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1071720" y="6000840"/>
            <a:ext cx="19587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70c0"/>
                </a:solidFill>
                <a:latin typeface="Calibri"/>
                <a:cs typeface="B Koodak"/>
              </a:rPr>
              <a:t>پرداختها وهزين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iagram 19" descr=""/>
          <p:cNvPicPr/>
          <p:nvPr/>
        </p:nvPicPr>
        <p:blipFill>
          <a:blip r:embed="rId2"/>
          <a:stretch/>
        </p:blipFill>
        <p:spPr>
          <a:xfrm>
            <a:off x="1920960" y="3524400"/>
            <a:ext cx="7223040" cy="3187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0"/>
          <p:cNvSpPr/>
          <p:nvPr/>
        </p:nvSpPr>
        <p:spPr>
          <a:xfrm>
            <a:off x="4476600" y="5572080"/>
            <a:ext cx="200052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بودجه دول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extBox 1" descr=""/>
          <p:cNvPicPr/>
          <p:nvPr/>
        </p:nvPicPr>
        <p:blipFill>
          <a:blip r:embed="rId1"/>
          <a:stretch/>
        </p:blipFill>
        <p:spPr>
          <a:xfrm>
            <a:off x="2919240" y="426960"/>
            <a:ext cx="4054680" cy="107316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2" descr=""/>
          <p:cNvPicPr/>
          <p:nvPr/>
        </p:nvPicPr>
        <p:blipFill>
          <a:blip r:embed="rId2"/>
          <a:stretch/>
        </p:blipFill>
        <p:spPr>
          <a:xfrm>
            <a:off x="5254560" y="2017800"/>
            <a:ext cx="2786040" cy="47628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3" descr=""/>
          <p:cNvPicPr/>
          <p:nvPr/>
        </p:nvPicPr>
        <p:blipFill>
          <a:blip r:embed="rId3"/>
          <a:stretch/>
        </p:blipFill>
        <p:spPr>
          <a:xfrm>
            <a:off x="5992920" y="2803680"/>
            <a:ext cx="1962000" cy="47592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4" descr=""/>
          <p:cNvPicPr/>
          <p:nvPr/>
        </p:nvPicPr>
        <p:blipFill>
          <a:blip r:embed="rId4"/>
          <a:stretch/>
        </p:blipFill>
        <p:spPr>
          <a:xfrm>
            <a:off x="6632640" y="3517920"/>
            <a:ext cx="1182600" cy="47448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5" descr=""/>
          <p:cNvPicPr/>
          <p:nvPr/>
        </p:nvPicPr>
        <p:blipFill>
          <a:blip r:embed="rId5"/>
          <a:stretch/>
        </p:blipFill>
        <p:spPr>
          <a:xfrm>
            <a:off x="6340320" y="4237200"/>
            <a:ext cx="1365480" cy="47448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6" descr=""/>
          <p:cNvPicPr/>
          <p:nvPr/>
        </p:nvPicPr>
        <p:blipFill>
          <a:blip r:embed="rId6"/>
          <a:stretch/>
        </p:blipFill>
        <p:spPr>
          <a:xfrm>
            <a:off x="6168960" y="5022720"/>
            <a:ext cx="14749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7" descr=""/>
          <p:cNvPicPr/>
          <p:nvPr/>
        </p:nvPicPr>
        <p:blipFill>
          <a:blip r:embed="rId7"/>
          <a:stretch/>
        </p:blipFill>
        <p:spPr>
          <a:xfrm>
            <a:off x="5668920" y="5803920"/>
            <a:ext cx="1901880" cy="47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395480" y="500040"/>
            <a:ext cx="193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قدم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87840" y="1000080"/>
            <a:ext cx="1143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عریف ها ومفاهیم اساسی واصول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786120" y="1523880"/>
            <a:ext cx="474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اریخچه بودجه ریزی در ایر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851200" y="2066760"/>
            <a:ext cx="5607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راحل یا گردش بودجه ا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880080" y="2600280"/>
            <a:ext cx="593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طبقه  بندی در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918240" y="3133800"/>
            <a:ext cx="586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روشهای بودجه ریز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603720" y="4276800"/>
            <a:ext cx="1014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تجارب برخی کشورها در بودجه ریز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-632520" y="4857840"/>
            <a:ext cx="1134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مسایل ومشکلات نظام بودجه ریزی ایر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131280" y="3666960"/>
            <a:ext cx="683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Mehr"/>
              </a:rPr>
              <a:t>حسابداري نقدي وتعهد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2072160" y="642960"/>
            <a:ext cx="789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000000"/>
                </a:solidFill>
                <a:latin typeface="Calibri"/>
                <a:cs typeface="B Mitra"/>
              </a:rPr>
              <a:t>درپايان اين جلسه بايد بتوان</a:t>
            </a:r>
            <a:r>
              <a:rPr b="1" i="1" lang="fa-IR" sz="4400" spc="-1" strike="noStrike">
                <a:solidFill>
                  <a:srgbClr val="000000"/>
                </a:solidFill>
                <a:latin typeface="Calibri"/>
                <a:ea typeface="B Mitr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610640" y="193032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برداشتي از مفاهيم منابع ونياز ها ارايه ك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-694080" y="2921040"/>
            <a:ext cx="113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بخش عمومي وخصوصي وتفاوتهاي اين دو را تعريف ك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-673920" y="4900680"/>
            <a:ext cx="113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تعريفي از بودجه ارايه كرد واركان اساسي آن را برشم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479520" y="4064040"/>
            <a:ext cx="99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>
                <a:solidFill>
                  <a:srgbClr val="000000"/>
                </a:solidFill>
                <a:latin typeface="Calibri"/>
                <a:cs typeface="B Mitra"/>
              </a:rPr>
              <a:t>تحول نقش دولتها را در ارتباط با بودجه بيان كرد</a:t>
            </a:r>
            <a:r>
              <a:rPr b="1" i="1" lang="fa-IR" sz="3200" spc="-1" strike="noStrike">
                <a:solidFill>
                  <a:srgbClr val="000000"/>
                </a:solidFill>
                <a:latin typeface="Calibri"/>
                <a:ea typeface="B Mit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514600" y="2048040"/>
            <a:ext cx="58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شش اصل مهم بودجه را نام ب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33520" y="297648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سالانه بودن بودجه را از دو جنبه فني وسياسي توجيه ك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219320" y="4154400"/>
            <a:ext cx="71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وحدت بودجه را توضيح دا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57200" y="4834080"/>
            <a:ext cx="78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  <a:cs typeface="B Mitra"/>
              </a:rPr>
              <a:t>اصل تعادل بودجه را توضيح داد ومفهوم امروزي آنرا بيان كر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33520" y="1214280"/>
            <a:ext cx="814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Mitra"/>
              </a:rPr>
              <a:t>اصول بودجه  ومفهوم آنها را بيان كر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781680" y="1676520"/>
            <a:ext cx="181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376092"/>
                </a:solidFill>
                <a:latin typeface="Calibri"/>
                <a:cs typeface=" Mitra"/>
              </a:rPr>
              <a:t>نياز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-730440" y="2057400"/>
            <a:ext cx="91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Calibri"/>
                <a:cs typeface=" Mitra"/>
              </a:rPr>
              <a:t>منشا پيشرفت های انسان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6732000" y="2944800"/>
            <a:ext cx="23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376092"/>
                </a:solidFill>
                <a:latin typeface="Calibri"/>
                <a:cs typeface=" Mitra"/>
              </a:rPr>
              <a:t>نياز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676240" y="2928960"/>
            <a:ext cx="510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  <a:cs typeface=" Mitra"/>
              </a:rPr>
              <a:t>را </a:t>
            </a:r>
            <a:r>
              <a:rPr b="1" lang="fa-IR" sz="6000" spc="-1" strike="noStrike">
                <a:solidFill>
                  <a:srgbClr val="000000"/>
                </a:solidFill>
                <a:latin typeface="Calibri"/>
                <a:cs typeface=" Mitra"/>
              </a:rPr>
              <a:t>پايانی</a:t>
            </a:r>
            <a:r>
              <a:rPr b="1" lang="fa-IR" sz="4800" spc="-1" strike="noStrike">
                <a:solidFill>
                  <a:srgbClr val="000000"/>
                </a:solidFill>
                <a:latin typeface="Calibri"/>
                <a:ea typeface=" Mitra"/>
              </a:rPr>
              <a:t> نيس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6375240" y="3873600"/>
            <a:ext cx="205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e46c0a"/>
                </a:solidFill>
                <a:latin typeface="Calibri"/>
                <a:cs typeface=" Mitra"/>
              </a:rPr>
              <a:t>مناب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3936600" y="3987720"/>
            <a:ext cx="34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 Mitra"/>
              </a:rPr>
              <a:t>محدود ا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049760" y="5027760"/>
            <a:ext cx="937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9bbb59"/>
                </a:solidFill>
                <a:latin typeface="Calibri"/>
                <a:cs typeface=" Mitra"/>
              </a:rPr>
              <a:t>بهره مندی با حد متناس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1990800" y="85716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Calibri"/>
                <a:cs typeface="B Jadid"/>
              </a:rPr>
              <a:t>نیازها ومناب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hevron 8"/>
          <p:cNvSpPr/>
          <p:nvPr/>
        </p:nvSpPr>
        <p:spPr>
          <a:xfrm rot="10800000">
            <a:off x="7286400" y="4357440"/>
            <a:ext cx="1857240" cy="185724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1" y="0"/>
                </a:lnTo>
                <a:lnTo>
                  <a:pt x="21600" y="10800"/>
                </a:lnTo>
                <a:lnTo>
                  <a:pt x="17061" y="21600"/>
                </a:lnTo>
                <a:lnTo>
                  <a:pt x="0" y="21600"/>
                </a:lnTo>
                <a:lnTo>
                  <a:pt x="4539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hevron 6"/>
          <p:cNvSpPr/>
          <p:nvPr/>
        </p:nvSpPr>
        <p:spPr>
          <a:xfrm rot="10800000">
            <a:off x="7286400" y="1357200"/>
            <a:ext cx="1857240" cy="165096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5" y="0"/>
                </a:lnTo>
                <a:lnTo>
                  <a:pt x="21600" y="10800"/>
                </a:lnTo>
                <a:lnTo>
                  <a:pt x="17565" y="21600"/>
                </a:lnTo>
                <a:lnTo>
                  <a:pt x="0" y="21600"/>
                </a:lnTo>
                <a:lnTo>
                  <a:pt x="4035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2327400" y="228600"/>
            <a:ext cx="51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جامعه نیازها ومناب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7710480" y="1371600"/>
            <a:ext cx="13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بخش عمو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1071720" y="914400"/>
            <a:ext cx="6215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افراد،گروهها سازمانهایی که منافع اکثریت جامعه رادرنظردارندو ضمن تامین رضایت عمومی وظیفه پیشرفت  اقتصادی فرهنگی اجتماعی سیاسی را برعهده دارد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Davat"/>
              </a:rPr>
              <a:t>هماهنگی کوشش ها وتلاشهای فردی وجمعی به منظور تحقق واجرای سیاستهای دولت 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ضامن سلامت هر جامعه و بقای تمد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7353360" y="4495680"/>
            <a:ext cx="171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بخ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  <a:cs typeface="B Titr"/>
              </a:rPr>
              <a:t>خصوص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1066680" y="5257800"/>
            <a:ext cx="600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Davat"/>
              </a:rPr>
              <a:t>هماهنگی کوشش ها وتلاشهای فردی وچمعی به منظور تحقق واجرای سیاستها وخط مشی های سازمانهای خصوصی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Dava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071720" y="4191120"/>
            <a:ext cx="578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افراد،گروهها سازمانهایی رابطه خریدار –فروشنده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B Bad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B Badr"/>
              </a:rPr>
              <a:t>ویا تولید کننده-فروشنده در آنها برقرار ا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93240" y="304920"/>
            <a:ext cx="98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B Zar"/>
                <a:cs typeface="B Jadid"/>
              </a:rPr>
              <a:t>تفاوتهای بخش خصوصی ودولت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4129920" y="164304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انگیزه کسب سو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464360" y="2286000"/>
            <a:ext cx="41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حساسیت مردم</a:t>
            </a:r>
            <a:r>
              <a:rPr b="1" lang="fa-IR" sz="4000" spc="-1" strike="noStrike">
                <a:solidFill>
                  <a:srgbClr val="000000"/>
                </a:solidFill>
                <a:latin typeface="Calibri"/>
                <a:ea typeface="B Nazani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673000" y="2786040"/>
            <a:ext cx="654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چارچوب قوانین ومقرر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300640" y="3429000"/>
            <a:ext cx="32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تاثیرسیاس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353400" y="3929040"/>
            <a:ext cx="58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وسعت قلمرو سازمان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176120" y="4495680"/>
            <a:ext cx="92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مدیریت وویژگیهای لازم برای مدیر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1789560" y="5072040"/>
            <a:ext cx="797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استمرار وفوریت داشتن خد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350600" y="5786280"/>
            <a:ext cx="41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B Nazanin"/>
              </a:rPr>
              <a:t>قیمت تمام شد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143080" y="21420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984807"/>
                </a:solidFill>
                <a:latin typeface="Calibri"/>
                <a:cs typeface="B Jadid"/>
              </a:rPr>
              <a:t>تحول نقش دولت</a:t>
            </a:r>
            <a:r>
              <a:rPr b="0" lang="fa-IR" sz="4400" spc="-1" strike="noStrike">
                <a:solidFill>
                  <a:srgbClr val="984807"/>
                </a:solidFill>
                <a:latin typeface="Calibri"/>
                <a:ea typeface="B Jadi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838600" y="1000080"/>
            <a:ext cx="66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تغییر از فئودالیسم تا دولت های ناظ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09680" y="1447920"/>
            <a:ext cx="84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بدست گرفتن امکانات ومنابع جامعه درراه نیل به خواستهاوهدفها ی</a:t>
            </a:r>
            <a:r>
              <a:rPr b="1" i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جامعه بنحویکه حد متناسب ارضا شود</a:t>
            </a:r>
            <a:r>
              <a:rPr b="1" i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128320" y="264312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Titr"/>
              </a:rPr>
              <a:t>نقش جدیدتر دولت ها در اقتصاد کشور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-152280" y="2133720"/>
            <a:ext cx="37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77933c"/>
                </a:solidFill>
                <a:latin typeface="Calibri"/>
                <a:cs typeface="B Kamran Outline"/>
              </a:rPr>
              <a:t>فن </a:t>
            </a:r>
            <a:r>
              <a:rPr b="1" lang="fa-IR" sz="4400" spc="-1" strike="noStrike">
                <a:solidFill>
                  <a:srgbClr val="77933c"/>
                </a:solidFill>
                <a:latin typeface="Calibri"/>
                <a:cs typeface="B Kamran Outline"/>
              </a:rPr>
              <a:t>بودجه</a:t>
            </a:r>
            <a:r>
              <a:rPr b="1" lang="fa-IR" sz="3600" spc="-1" strike="noStrike">
                <a:solidFill>
                  <a:srgbClr val="77933c"/>
                </a:solidFill>
                <a:latin typeface="Calibri"/>
                <a:ea typeface="B Kamran Outline"/>
              </a:rPr>
              <a:t> نویس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7215120" y="3500280"/>
            <a:ext cx="107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cs typeface="B Compset"/>
              </a:rPr>
              <a:t>بدلایل</a:t>
            </a: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ea typeface="B Compset"/>
              </a:rPr>
              <a:t> </a:t>
            </a:r>
            <a:r>
              <a:rPr b="1" i="1" lang="fa-IR" sz="2800" spc="-1" strike="noStrike" u="sng">
                <a:solidFill>
                  <a:srgbClr val="77933c"/>
                </a:solidFill>
                <a:uFillTx/>
                <a:latin typeface="Calibri"/>
                <a:ea typeface="B Compse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1214280" y="607212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d0d0d"/>
                </a:solidFill>
                <a:uFillTx/>
                <a:latin typeface="Calibri"/>
                <a:cs typeface="B Compset"/>
              </a:rPr>
              <a:t>نفش بخش خصوصی کم رنگ   و نقش دولت ها پررنگ تر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286160" y="4000680"/>
            <a:ext cx="39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نقدینگی وسرمایه لاز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748240" y="44290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نبودامنیت اقتصادی و خطرات سرمایه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3719160" y="4786200"/>
            <a:ext cx="56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پایین بودن نرخ برگشت سرمایه</a:t>
            </a:r>
            <a:r>
              <a:rPr b="1" lang="fa-IR" sz="2800" spc="-1" strike="noStrike">
                <a:solidFill>
                  <a:srgbClr val="000000"/>
                </a:solidFill>
                <a:latin typeface="Calibri"/>
                <a:ea typeface="B Comps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520280" y="5214960"/>
            <a:ext cx="83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فاصله طولانی از سرمایه گذاری تا بهره بردا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1809360" y="5600880"/>
            <a:ext cx="81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سود بیشتر در سایر فعالیتها و سرمایه گذاری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1328040" y="3071880"/>
            <a:ext cx="82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00"/>
                </a:solidFill>
                <a:latin typeface="Calibri"/>
                <a:cs typeface="B Compset"/>
              </a:rPr>
              <a:t>اقتصاد كلاسيك وتحولات بعداز جنگ جهاني د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6643800" y="1676520"/>
            <a:ext cx="1987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نقش دولتها د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B Jadid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B Jadid"/>
              </a:rPr>
              <a:t>رابطه با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3791520" y="928800"/>
            <a:ext cx="252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خصی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281840" y="2714760"/>
            <a:ext cx="178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وزی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226400" y="4797360"/>
            <a:ext cx="179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Calibri"/>
              </a:rPr>
              <a:t>تثبی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ight Brace 7"/>
          <p:cNvSpPr/>
          <p:nvPr/>
        </p:nvSpPr>
        <p:spPr>
          <a:xfrm>
            <a:off x="6000840" y="1071720"/>
            <a:ext cx="857160" cy="428616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4286160"/>
              <a:gd name="textAreaBottom" fmla="*/ 4263840 h 428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57200" y="838080"/>
            <a:ext cx="377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alibri"/>
                <a:cs typeface=" Mitra"/>
              </a:rPr>
              <a:t>فرآیندی که تقسیم کل منابع به فعالیتها ازآن طریق صورت می گی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457200" y="2590920"/>
            <a:ext cx="409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توزیع منابع ؛درآمدها وثروت به منظو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نطباق پذیری با آنچه که وضع مناسب ی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 Mitra"/>
              </a:rPr>
              <a:t>عادلانه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توزیع تلقی می شود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609480" y="4440240"/>
            <a:ext cx="37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   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ستفاده از سیاست های بودجه ای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به عنوان ابزاری برای نیل به اهداف و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ستراتژی ها وبرنامه های  دولت برای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حف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اشتغال در سطح بالا ؛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تثبی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قیمته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 Mitra"/>
              </a:rPr>
              <a:t>نرخ مناسب رشد و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 Mitr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7:37:56Z</dcterms:created>
  <dc:creator>m</dc:creator>
  <dc:description/>
  <dc:language>en-US</dc:language>
  <cp:lastModifiedBy>rahimnia-f5</cp:lastModifiedBy>
  <dcterms:modified xsi:type="dcterms:W3CDTF">2013-10-23T08:03:22Z</dcterms:modified>
  <cp:revision>39</cp:revision>
  <dc:subject/>
  <dc:title>Slide 1</dc:title>
</cp:coreProperties>
</file>