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6.jpeg" ContentType="image/jpeg"/>
  <Override PartName="/ppt/media/Mouskouri_Nana-lamour_en_heri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25B-5227-4F41-8C41-72254473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D19-E7AF-48D3-98A8-E315769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C0C-84F1-4FC2-BC78-42A8F036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8AE-0572-4B10-ABFD-6FCC3EA9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8AE-0D29-4C7F-A631-499663E5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0CA-B29F-40A2-A004-C8C8F14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8D1-2915-487A-9EFD-F840329F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02B-E42C-433C-8067-AF1E3AA9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388-EECD-4333-8AAA-930CEF6F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6DF-DBC8-4B98-B4AF-4CF39DA1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1A3-24F7-4C07-A759-4565EBE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2B2-74E5-40E4-B98F-2A852EC0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24E-3D6A-46A0-BBE6-BA0B13A5037B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uskouri_Nana-lamour_en_heri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8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54000">
            <a:solidFill>
              <a:srgbClr val="bd1555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187280" y="549360"/>
            <a:ext cx="68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There are moments in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When you miss one person so 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That you wish they were with you right now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Mouskouri_Nana-lamour_en_heri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163520"/>
            <a:ext cx="6859440" cy="5145120"/>
          </a:xfrm>
          <a:prstGeom prst="rect">
            <a:avLst/>
          </a:prstGeom>
          <a:ln w="123840">
            <a:solidFill>
              <a:srgbClr val="b0414a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2407320" y="230040"/>
            <a:ext cx="45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Bradley Hand ITC"/>
              </a:rPr>
              <a:t>Those who lov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58880" y="1325520"/>
            <a:ext cx="5505480" cy="5199120"/>
          </a:xfrm>
          <a:prstGeom prst="rect">
            <a:avLst/>
          </a:prstGeom>
          <a:ln w="8244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195640" y="33336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60280"/>
            <a:ext cx="90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Because only these people know the valu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Things that leave lasting impressions of their l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1047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739040" y="620640"/>
            <a:ext cx="347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ff"/>
                </a:solidFill>
                <a:latin typeface="Arial"/>
              </a:rPr>
              <a:t>Forget what’s g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ff"/>
                </a:solidFill>
                <a:latin typeface="Arial"/>
              </a:rPr>
              <a:t>Leave what’s behind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ff"/>
                </a:solidFill>
                <a:latin typeface="Arial"/>
              </a:rPr>
              <a:t>Your failures and your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4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98040" y="84312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63a70"/>
                </a:solidFill>
                <a:latin typeface="Arial"/>
              </a:rPr>
              <a:t>Love starts with a sm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63a70"/>
                </a:solidFill>
                <a:latin typeface="Arial"/>
              </a:rPr>
              <a:t>And grows with a k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432080"/>
            <a:ext cx="7431120" cy="48765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44360" y="2602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ec737c"/>
                </a:solidFill>
                <a:latin typeface="Times New Roman"/>
              </a:rPr>
              <a:t>If you want to, do as I do: send this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ec737c"/>
                </a:solidFill>
                <a:latin typeface="Times New Roman"/>
              </a:rPr>
              <a:t>To somone who’s friendship you cherrish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3440" cy="518508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439720" y="-135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To people who hel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hare and improve your lif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a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15240" cy="5186520"/>
          </a:xfrm>
          <a:prstGeom prst="rect">
            <a:avLst/>
          </a:prstGeom>
          <a:ln w="69840">
            <a:solidFill>
              <a:srgbClr val="a14f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976680" y="260280"/>
            <a:ext cx="522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 those people who made you s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When you needed it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3808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To those who showed you th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Where you only saw the Negativ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bd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049880" cy="5288040"/>
          </a:xfrm>
          <a:prstGeom prst="rect">
            <a:avLst/>
          </a:prstGeom>
          <a:ln w="6984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980000" y="40464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be3261"/>
                </a:solidFill>
                <a:latin typeface="Arial"/>
              </a:rPr>
              <a:t>To people who you want to know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940360" y="156528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be3261"/>
                </a:solidFill>
                <a:latin typeface="Century Gothic"/>
              </a:rPr>
              <a:t>How m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be3261"/>
                </a:solidFill>
                <a:latin typeface="Century Gothic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be3261"/>
                </a:solidFill>
                <a:latin typeface="Century Gothic"/>
              </a:rPr>
              <a:t>Friend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be3261"/>
                </a:solidFill>
                <a:latin typeface="Century Gothic"/>
              </a:rPr>
              <a:t>Means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be3261"/>
                </a:solidFill>
                <a:latin typeface="Century Gothic"/>
              </a:rPr>
              <a:t>Or sim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be3261"/>
                </a:solidFill>
                <a:latin typeface="Century Gothic"/>
              </a:rPr>
              <a:t>sa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093680" y="754200"/>
            <a:ext cx="418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ream of what you most enj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Go where you want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Be who you want to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You have but one lif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To achieve what you want to ach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62080" y="1285920"/>
            <a:ext cx="6723000" cy="5346720"/>
          </a:xfrm>
          <a:prstGeom prst="rect">
            <a:avLst/>
          </a:prstGeom>
          <a:ln w="108000">
            <a:solidFill>
              <a:srgbClr val="ffff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2192400" y="260280"/>
            <a:ext cx="476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Georgia"/>
              </a:rPr>
              <a:t>Thank you for giving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fr-FR" sz="2400" spc="-1" strike="noStrike">
                <a:solidFill>
                  <a:srgbClr val="3333cc"/>
                </a:solidFill>
                <a:latin typeface="Georgia"/>
              </a:rPr>
              <a:t>a glimpse into a better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44000" cy="580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66100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ffffff"/>
                </a:solidFill>
                <a:latin typeface="Times New Roman"/>
              </a:rPr>
              <a:t>Have a nice Week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4929"/>
            </a:gs>
            <a:gs pos="100000">
              <a:srgbClr val="d49f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8240" y="692280"/>
            <a:ext cx="7620120" cy="5715000"/>
          </a:xfrm>
          <a:prstGeom prst="rect">
            <a:avLst/>
          </a:prstGeom>
          <a:ln w="921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055520" y="836640"/>
            <a:ext cx="367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ind on your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ugh  luck to remain hap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ugh challanges to become 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ugh grief to remain hu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ugh hope to be hap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21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73080">
            <a:solidFill>
              <a:srgbClr val="ff801b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917280" y="4902120"/>
            <a:ext cx="36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The happiest people do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Necessaryly have the best of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They simply appreci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What  they find on their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9440" cy="5145120"/>
          </a:xfrm>
          <a:prstGeom prst="rect">
            <a:avLst/>
          </a:prstGeom>
          <a:ln w="63360">
            <a:solidFill>
              <a:srgbClr val="babdde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573640" y="235080"/>
            <a:ext cx="41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2b5e3f"/>
                </a:solidFill>
                <a:latin typeface="Times New Roman"/>
              </a:rPr>
              <a:t>Luck and joy awai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73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715000"/>
          </a:xfrm>
          <a:prstGeom prst="rect">
            <a:avLst/>
          </a:prstGeom>
          <a:ln w="88920">
            <a:solidFill>
              <a:srgbClr val="c0001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619280" y="11592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2b5e3f"/>
                </a:solidFill>
                <a:latin typeface="Lucida Calligraphy"/>
              </a:rPr>
              <a:t>Those who c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933480"/>
            <a:ext cx="7359840" cy="5519880"/>
          </a:xfrm>
          <a:prstGeom prst="rect">
            <a:avLst/>
          </a:prstGeom>
          <a:ln w="82440">
            <a:solidFill>
              <a:srgbClr val="fffff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187280" y="1731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b5e3f"/>
                </a:solidFill>
                <a:latin typeface="Bradley Hand ITC"/>
              </a:rPr>
              <a:t>Those who suffe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115040" cy="5337000"/>
          </a:xfrm>
          <a:prstGeom prst="rect">
            <a:avLst/>
          </a:prstGeom>
          <a:ln w="101520">
            <a:solidFill>
              <a:srgbClr val="fff4b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971640" y="18900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cc66"/>
                </a:solidFill>
                <a:latin typeface="Bradley Hand ITC"/>
              </a:rPr>
              <a:t>Those who search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7560" y="1155600"/>
            <a:ext cx="6869160" cy="5153040"/>
          </a:xfrm>
          <a:prstGeom prst="rect">
            <a:avLst/>
          </a:prstGeom>
          <a:ln w="152280">
            <a:solidFill>
              <a:srgbClr val="6a7e04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96280" y="193680"/>
            <a:ext cx="83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b5e3f"/>
                </a:solidFill>
                <a:latin typeface="Bradley Hand ITC"/>
              </a:rPr>
              <a:t>those who commit themselv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6:51:01Z</dcterms:created>
  <dc:creator>Peter</dc:creator>
  <dc:description/>
  <dc:language>en-US</dc:language>
  <cp:lastModifiedBy>Peter A. Eishauer</cp:lastModifiedBy>
  <dcterms:modified xsi:type="dcterms:W3CDTF">2006-01-06T16:07:32Z</dcterms:modified>
  <cp:revision>3</cp:revision>
  <dc:subject>schönes Wochenende und Freunde mit Ton</dc:subject>
  <dc:title>Folie 1</dc:title>
</cp:coreProperties>
</file>