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AveMariaSchubert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66F-779F-456B-8B33-144E6624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764-EB1A-4E79-A900-1F09257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4E6-B037-4E61-A533-CE6E4813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D4B-4FC3-4439-BFCE-84EB124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30A-08C3-4BD7-89AE-DF8985A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379-8E66-46A9-9768-4CB14DE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89B-E5A4-4AEF-A2F7-CF49875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A79-3F5F-4E9E-8FF9-42E748E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B32-79DA-446E-8253-FC11EDCD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106-A1A0-410B-B958-BE62836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EB2-FF21-4BEE-8D51-41CE224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879-9C13-4F15-911A-7720BFA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0C2D-5E85-4E30-87CB-A38856B784F0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AveMariaSchubert.wav" TargetMode="External"/><Relationship Id="rId3" Type="http://schemas.microsoft.com/office/2007/relationships/media" Target="file:///tmp/home/.config/libreoffice/4/user/gallery/AveMariaSchuber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-458640"/>
            <a:ext cx="11664720" cy="77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136044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imes New Roman"/>
              </a:rPr>
              <a:t>We often have fun reading jokes, and enjoying fiction stor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imes New Roman"/>
              </a:rPr>
              <a:t>could we justify not reading this short prayer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08720" y="575784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99"/>
                </a:solidFill>
                <a:latin typeface="Times New Roman"/>
              </a:rPr>
              <a:t>Pls. Click to advanc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99"/>
                </a:solidFill>
                <a:latin typeface="Times New Roman"/>
              </a:rPr>
              <a:t>Speakers on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044720" y="0"/>
            <a:ext cx="104410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527640" cy="439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1628640"/>
            <a:ext cx="345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When this world closes in on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I pray that YOU make me go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clean as th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YOU created 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082160" cy="770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294012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7640" y="1341360"/>
            <a:ext cx="3313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May the word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this prayer be received into the hearts of every eye that sees them, and every mouth that confesses them willing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a50021"/>
                </a:solidFill>
                <a:latin typeface="Times New Roman"/>
              </a:rPr>
              <a:t>In Jesus’ name, A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27280" y="12175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99"/>
                </a:solidFill>
                <a:latin typeface="Times New Roman"/>
              </a:rPr>
              <a:t>Before closing this Prayer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99"/>
                </a:solidFill>
                <a:latin typeface="Times New Roman"/>
              </a:rPr>
              <a:t>please note that passing it to your contacts would make others pray on your behalf.</a:t>
            </a:r>
            <a:r>
              <a:rPr b="0" lang="en-CA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43280" y="3824280"/>
            <a:ext cx="288108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440" y="3284640"/>
            <a:ext cx="90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a50021"/>
                </a:solidFill>
                <a:latin typeface="Times New Roman"/>
              </a:rPr>
              <a:t>With a humble heart, and relaxed mi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a50021"/>
                </a:solidFill>
                <a:latin typeface="Times New Roman"/>
              </a:rPr>
              <a:t>focus on the Creator; allow GOD to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a50021"/>
                </a:solidFill>
                <a:latin typeface="Times New Roman"/>
              </a:rPr>
              <a:t>The only subject in your mind wh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a50021"/>
                </a:solidFill>
                <a:latin typeface="Times New Roman"/>
              </a:rPr>
              <a:t>reading the followi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AveMariaSchuber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541440" y="216000"/>
            <a:ext cx="101538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35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88000" y="1341360"/>
            <a:ext cx="34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Dear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I thank you for this da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I thank you for being able to see and  hear the beauty of your cre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I thank you for your blessings in my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2880000" cy="388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11640" y="1700280"/>
            <a:ext cx="33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 humbly request your forgiveness for everything I have done, said, or thought in contrary to YOUR wi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09458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1413000"/>
            <a:ext cx="338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ease protect me, my family, and my friends from all danger, and support me with YOUR wisdom to accept all things that come my way with gratit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973080" y="115920"/>
            <a:ext cx="10909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879640" cy="4175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3280" y="1052640"/>
            <a:ext cx="352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t me not whine and whimper over things beyond my control; let me recognize any sin and acknowledge it as evil; and when I sin, give me the courage to confess, and repent for my wrongdoings.</a:t>
            </a:r>
            <a:r>
              <a:rPr b="0" lang="en-C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109016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3025800" cy="388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981000"/>
            <a:ext cx="381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Give me the strength, so that I could help the weak.                        Keep me uplifted, so that I could encourage others.                       Give me knowledge, so that I could provide direction to those who have lost their wa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8010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2944800" cy="410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6360" y="907920"/>
            <a:ext cx="395928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Times New Roman"/>
              </a:rPr>
              <a:t>-I pray… For all my near and dear ones to know you intimat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Times New Roman"/>
              </a:rPr>
              <a:t>-I pray… for those misjudged and misunderstood to have mer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a50021"/>
                </a:solidFill>
                <a:latin typeface="Times New Roman"/>
              </a:rPr>
              <a:t>-I pray…for peace, love, and joy to dominate my family’s and friends’ lives, and that all their needs be met.</a:t>
            </a: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12698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3313080" cy="39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59280" y="1484280"/>
            <a:ext cx="34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Even</a:t>
            </a:r>
            <a:r>
              <a:rPr b="0" lang="en-CA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a50021"/>
                </a:solidFill>
                <a:latin typeface="Times New Roman"/>
              </a:rPr>
              <a:t>in those moments when I don’t pray, I ask YOU to please listen to my heart and continue to use me to do YOUR will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21:27:33Z</dcterms:created>
  <dc:creator/>
  <dc:description/>
  <dc:language>en-US</dc:language>
  <cp:lastModifiedBy> Nina</cp:lastModifiedBy>
  <dcterms:modified xsi:type="dcterms:W3CDTF">2008-03-29T20:54:57Z</dcterms:modified>
  <cp:revision>57</cp:revision>
  <dc:subject/>
  <dc:title>Gesu' ci ensegnato a pregare</dc:title>
</cp:coreProperties>
</file>