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eline%20Dion%20%26%20Andrea%20Bocelli%20-%20The%20Prayer%20Wav.wav" ContentType="audio/x-wav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AD1B-E4A6-47F5-82DF-0BC9D0C90C9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9B1-509E-4FC8-8A4D-95864D73A08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A75-6E40-4989-A07C-95296BB2D0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A423-11C2-417A-BE81-093B0457AF7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3CAC-8A12-4398-8617-CC05062CD4A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A50-E29B-4EF3-B9A7-85DEB42C293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B491-6C2B-4717-BD2C-0D166533A7A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956-C948-44A9-9DE9-D089E51383F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7539-BEB9-4B17-BA55-1D74C8D078B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F6BA-5220-47E8-BFFA-CB89FE37F70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751-142B-4369-A337-318B27111A2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224-7ED9-4214-BC02-FD3ABD54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BC7-1003-4E8B-AC5F-3753D38B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4CB-544E-4E59-896D-67C657E7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E6B-4C0F-4530-A628-42691F4D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7A5-E19E-4C6E-A3A9-DA1D5B6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B46-0CE2-4914-8EED-BEE1109E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563-23C7-432B-A9C6-BB7BADC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BA9-C0BF-49E1-AB1F-C7EA5DC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BED-83BA-441E-8ABF-41F396D0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22F-FD5D-4F4F-B1C0-6BFF13F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B4D-54EE-4468-A7A6-46E5BFE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6EE-1CE5-40EA-99A4-566C7FF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2FE5-FE28-46D5-B071-86906E4F64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eline%20Dion%20%26%20Andrea%20Bocelli%20-%20The%20Prayer%20Wav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mailto:sandrosjrp@hotmail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" descr="http://www.beegees.dk/celine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643720" y="20001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http://www.esmas.com/galeria/fotos/2007/9/2007201728181190327298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1998720"/>
            <a:ext cx="2376720" cy="2859120"/>
          </a:xfrm>
          <a:prstGeom prst="rect">
            <a:avLst/>
          </a:prstGeom>
          <a:ln w="0">
            <a:noFill/>
          </a:ln>
        </p:spPr>
      </p:pic>
      <p:sp>
        <p:nvSpPr>
          <p:cNvPr id="50" name="15 Rectángulo"/>
          <p:cNvSpPr/>
          <p:nvPr/>
        </p:nvSpPr>
        <p:spPr>
          <a:xfrm>
            <a:off x="5214960" y="2000160"/>
            <a:ext cx="142884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6 Rectángulo"/>
          <p:cNvSpPr/>
          <p:nvPr/>
        </p:nvSpPr>
        <p:spPr>
          <a:xfrm>
            <a:off x="5510160" y="4071960"/>
            <a:ext cx="184788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2 CuadroTexto"/>
          <p:cNvSpPr/>
          <p:nvPr/>
        </p:nvSpPr>
        <p:spPr>
          <a:xfrm>
            <a:off x="4357800" y="303372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Céli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7 CuadroTexto"/>
          <p:cNvSpPr/>
          <p:nvPr/>
        </p:nvSpPr>
        <p:spPr>
          <a:xfrm>
            <a:off x="1785960" y="3176640"/>
            <a:ext cx="2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Bocel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8 CuadroTexto"/>
          <p:cNvSpPr/>
          <p:nvPr/>
        </p:nvSpPr>
        <p:spPr>
          <a:xfrm>
            <a:off x="5072040" y="360504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3e0000"/>
                </a:solidFill>
                <a:latin typeface="Edwardian Script ITC"/>
                <a:ea typeface="Times New Roman"/>
              </a:rPr>
              <a:t>D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2428920" y="2604960"/>
            <a:ext cx="2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2600"/>
                </a:solidFill>
                <a:latin typeface="Edwardian Script ITC"/>
                <a:ea typeface="Times New Roman"/>
              </a:rPr>
              <a:t>Andre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 CuadroTexto"/>
          <p:cNvSpPr/>
          <p:nvPr/>
        </p:nvSpPr>
        <p:spPr>
          <a:xfrm>
            <a:off x="0" y="235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The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9 CuadroTexto"/>
          <p:cNvSpPr/>
          <p:nvPr/>
        </p:nvSpPr>
        <p:spPr>
          <a:xfrm>
            <a:off x="0" y="578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Transición de diapositivas sincronizada con la mú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Se sugiere NO tocar el m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Jesus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0" y="462744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d3db9"/>
                </a:solidFill>
                <a:latin typeface="Times New Roman"/>
                <a:ea typeface="Times New Roman"/>
              </a:rPr>
              <a:t>Formatação original: sandro.al® (marca registr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d3db9"/>
                </a:solidFill>
                <a:latin typeface="Times New Roman"/>
                <a:ea typeface="Times New Roman"/>
              </a:rPr>
              <a:t>Imagens: WorldWideWeb (créditos manti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d3db9"/>
                </a:solidFill>
                <a:latin typeface="Times New Roman"/>
                <a:ea typeface="Times New Roman"/>
              </a:rPr>
              <a:t>Música: The Prayer  (Andréa Bocelli/Celine D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d3db9"/>
                </a:solidFill>
                <a:latin typeface="Times New Roman"/>
                <a:ea typeface="Times New Roman"/>
              </a:rPr>
              <a:t>sjrp_sp_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sandrosjrp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0" y="284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57927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1a1a4e"/>
                </a:solidFill>
                <a:latin typeface="Times New Roman"/>
                <a:ea typeface="Times New Roman"/>
              </a:rPr>
              <a:t>Versión con traducción al español reedición de formato y renovación de imág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1a1a4e"/>
                </a:solidFill>
                <a:latin typeface="Times New Roman"/>
                <a:ea typeface="Times New Roman"/>
              </a:rPr>
              <a:t>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1a1a4e"/>
                </a:solidFill>
                <a:latin typeface="Times New Roman"/>
                <a:ea typeface="Times New Roman"/>
              </a:rPr>
              <a:t>Santiago de Querétaro, Mex. Mayo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1a1a4e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7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nbenannt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magem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http://www.fotos-paisajes.com/imagenes/fotos-islas-g.jpg"/>
          <p:cNvPicPr/>
          <p:nvPr/>
        </p:nvPicPr>
        <p:blipFill>
          <a:blip r:embed="rId3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5396760" y="1714680"/>
            <a:ext cx="33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ray, you'll be our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ploro porque seas nuestros o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u rezo, você será nossos 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55560" y="5072040"/>
            <a:ext cx="2686320" cy="91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help us to be 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Y nos ayudes a ser sa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nos ajudará a ser sábios</a:t>
            </a:r>
            <a:r>
              <a:rPr b="0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371560" y="3000240"/>
            <a:ext cx="32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atch us where we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y nos cuides a donde vay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nos observará onde nós for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46440" y="5094360"/>
            <a:ext cx="3632760" cy="91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imes when we don't k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ando no sepamos có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as vezes em que nós não souber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38847043umcrcrphx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Imagem24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Unbenannt1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014840" y="1076400"/>
            <a:ext cx="35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is be our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ermite que ésta sea nuestra 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eixe isso ser nossa 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751360" y="285840"/>
            <a:ext cx="28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e lose our way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ando perdamos el cam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quando nós perder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osso cami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135440" y="4357800"/>
            <a:ext cx="24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 us to a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uíanos a algún 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Leve-nos para um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11240" y="436248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us with your g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uíanos con tu g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Guia-nos com sua gra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71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place where we'll be safe.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un lugar donde estemos a sal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para um lugar onde seremos sal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3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4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groups.msn.com/isapi/fetch.dll?action=MyPhotos_GetMBPhoto&amp;ImageID=nIgAAAMwIoYkzgDwt2wYxoScNISp*grnxx9jO69oPpHMUj6yWvJps52TT5HGHMx3!WNky6NSFCT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magem24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"/>
          <p:cNvSpPr/>
          <p:nvPr/>
        </p:nvSpPr>
        <p:spPr>
          <a:xfrm>
            <a:off x="560160" y="549360"/>
            <a:ext cx="19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uce che tu 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a luz que nos 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A luz que você t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030000" y="549360"/>
            <a:ext cx="22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cuore, reste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el corazón qued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o coração, rest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542880" y="1641600"/>
            <a:ext cx="21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icordarci ch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a recordarn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a recordação 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6091200" y="1647720"/>
            <a:ext cx="21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eterna stella s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res la estrella e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terna estrela se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42880" y="4214880"/>
            <a:ext cx="34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ray, we'll find your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ploro porque encontremos tu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u rezo, nós encontraremos sua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5037480" y="4371840"/>
            <a:ext cx="323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hold it in our hearts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y la manteng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nuestros cora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segure isso em nossos co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65280" y="5519880"/>
            <a:ext cx="39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tars go out each nigh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ando las estrellas se van cada noc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quando estrelas saírem a cada noi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4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http://www.infojardin.com/fotos/albums/userpics/normal_Atardecerg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utexas.edu/coc/cms/faculty/streeck/bali/Prayer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www.bw-color.com/wp-content/uploads/2007/11/z-2007-11novembre-10-141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298520" y="443556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 us to a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uíanos a algún 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leve-nos para um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414400" y="443556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us with your gr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uíanos con tu gra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guia-nos com sua gra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728600" y="3286080"/>
            <a:ext cx="40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hadows fill our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ando las sombras invadan nuestro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Quando sombras encherem nosso d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696680" y="328608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a fede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anta f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quanta fé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us faith, so we'll be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anos fe, para que estemos a sal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ê nos fé, então seremos sal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431360" y="647640"/>
            <a:ext cx="20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a mia preghi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mi ple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a minha oraç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015520" y="620640"/>
            <a:ext cx="35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is be our pr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ermite que ésta sea nuestra 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eixe isso ser nossa o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0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c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f0055-001"/>
          <p:cNvPicPr/>
          <p:nvPr/>
        </p:nvPicPr>
        <p:blipFill>
          <a:blip r:embed="rId1"/>
          <a:srcRect l="0" t="0" r="0" b="36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bf0055-001"/>
          <p:cNvPicPr/>
          <p:nvPr/>
        </p:nvPicPr>
        <p:blipFill>
          <a:blip r:embed="rId2"/>
          <a:stretch/>
        </p:blipFill>
        <p:spPr>
          <a:xfrm>
            <a:off x="1214280" y="0"/>
            <a:ext cx="6786720" cy="685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1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NGM2002_08p94-5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378000" y="3429000"/>
            <a:ext cx="462276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gnamo un mondo senza più viol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ñamos un mundo sin más viol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Sonhamos com um mundo sem tanta vio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015160" y="3429000"/>
            <a:ext cx="362340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mondo di giuztizia e di spera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 mundo de justicia y espera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Um mundo de justiça e de espera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5480" y="5357880"/>
            <a:ext cx="37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nuno dia la mano al suo vi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da uno dando la mano a su ve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Cada um, dando a mão a seu próx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697360" y="53578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bolo de pace e fratern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ímbolo de paz y frater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Símbolo de paz e fratern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24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groups.msn.com/isapi/fetch.dll?action=MyPhotos_GetMBPhoto&amp;ImageID=nIgAAAM4I5Ym7x8!JxbYC351HF!H4UUoAEGNNCXTvnafPfMK8h!ZjkyRpmroHXomDPuwLaNom*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ANQUITA EN EL PARQ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Unbenannt2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39560" y="700200"/>
            <a:ext cx="218952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za che ci 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a fuerza que nos 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A força que você t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16880" y="1719360"/>
            <a:ext cx="381852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ask that life be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edimos que la vida sea am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ós perguntamos se essa vida é am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286680" y="692280"/>
            <a:ext cx="200016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' il desierio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Ése es el dese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o desej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5619960" y="1712880"/>
            <a:ext cx="2655720" cy="916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atch us from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Y nos observe desde lo s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observe-nos do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48640" y="4357800"/>
            <a:ext cx="273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nuno trovi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Que todos encuentren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Cada um tendo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37840" y="5454720"/>
            <a:ext cx="40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hope each soul will fi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speramos que cada alma encuent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Nós esperamos que cada alma encont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5893560" y="4363920"/>
            <a:ext cx="23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rno e dentro a 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ntro y fuera de s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m volta e dentro de s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5671440" y="545472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soul to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tra alma para 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…</a:t>
            </a: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alguma alma para 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177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magen20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feno04"/>
          <p:cNvPicPr/>
          <p:nvPr/>
        </p:nvPicPr>
        <p:blipFill>
          <a:blip r:embed="rId2"/>
          <a:stretch/>
        </p:blipFill>
        <p:spPr>
          <a:xfrm>
            <a:off x="-4068720" y="-216000"/>
            <a:ext cx="13560480" cy="707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54760" y="3643200"/>
            <a:ext cx="35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is be our pr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ermite que ésta sea nuestra 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eixe isso ser nossa o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298840" y="3649680"/>
            <a:ext cx="28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like every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sí como cada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Somente como cada cria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37920" y="4656240"/>
            <a:ext cx="32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find a pl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cesita encontrar un lug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Que precisa encontrar um lug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577840" y="465624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us with your g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uíanos con tu g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Guia-nos com sua gra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857680" y="5648400"/>
            <a:ext cx="3431520" cy="916920"/>
          </a:xfrm>
          <a:prstGeom prst="rect">
            <a:avLst/>
          </a:pr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us faith, so we'll be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anos fe para que estemos a sal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Dê nos fé, então seremos sal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71 4.44444E-006 L 0.42344 0.00972 E">
                                      <p:cBhvr>
                                        <p:cTn id="207" dur="2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Nubes sep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esus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6220440" y="4862520"/>
            <a:ext cx="23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to che ci salverà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iento que nos salvar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sinto que se salvar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85960" y="4933800"/>
            <a:ext cx="16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la fede c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Y la fe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E a fé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648240" y="5740560"/>
            <a:ext cx="25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hai  acceso in 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a  entrado en 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…</a:t>
            </a:r>
            <a:r>
              <a:rPr b="0" i="1" lang="en-US" sz="1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age sobre nó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4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7:21:14Z</dcterms:created>
  <dc:creator>Sandro.al®</dc:creator>
  <dc:description>sandrosjrp@hotmail.com</dc:description>
  <dc:language>en-US</dc:language>
  <cp:lastModifiedBy>Carlos Rangel</cp:lastModifiedBy>
  <dcterms:modified xsi:type="dcterms:W3CDTF">2008-06-02T16:50:09Z</dcterms:modified>
  <cp:revision>28</cp:revision>
  <dc:subject>slidemusical</dc:subject>
  <dc:title>ThePrayer</dc:title>
</cp:coreProperties>
</file>