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EF83-D253-4157-BEA3-0CFFEF9A57E3}" type="slidenum"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A73D-FBF9-4DE5-90EF-6171723665C4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884B-526D-491C-A60F-1DB0141201A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6204-C466-4FDA-90AC-BD10F3A3BC2A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F28-D7A0-47F0-AA53-25AA728B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407-4864-44F9-8DD5-99B0B9A4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BE8-F152-460A-BA35-0A9857F3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476-61F7-4C19-9E03-2E0AC5FF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14E6-224D-46EE-A60D-64F5E60A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DDAA-FF2F-4B7B-807C-574BD7AC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DF55-B279-4D5E-900D-787E125E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0A23-BA4F-44FE-9ED2-C76C6B04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8E56-3FA0-4359-9B46-660D74A3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45EF-9259-4503-8C81-67C862F9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595-7F99-4585-8B8B-C8CEA0C0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B60-7F8E-420B-93AA-BD504B3B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1020-FCD2-41CD-9D6F-4C7FD819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C2D2-C2F9-495D-86FA-D23C687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A589-A081-4D9A-9225-60DA2511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57E2-0087-4A70-8EEA-570A6F23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DD01-2B66-4288-8885-898A9B66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074D-4C3D-4F9E-96A4-615B22B5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15B5-493D-48BC-9601-BE44E1C6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B2F8-39A1-4CB9-A43E-CC83F9A0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14C0-A637-43D2-A157-12045496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0F7D-6FA7-4475-B1C3-5F630751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31D-BBD9-44D9-A2A9-8814FCFB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D170-2159-4B1B-84AE-D8806CCE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C55C-004E-454A-95D4-C870B6B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05FA-502F-4191-97AB-8A7D759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F6E4-0071-4836-8E9D-A5F152E6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AF87-9AE6-4A28-9B33-1C1DDF4B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0B1F-F7F6-4D71-96DC-52AAA6E6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D238-E9F9-44B3-B493-FE572FB9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61926-9847-4700-8195-736ACE81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AFBE-1611-477F-9466-E7BDB375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E2DA4-B9FB-4871-88F6-B39364CE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AB4-BE5A-43F7-9247-B169341D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47CF-124D-4DEA-B94F-A8874937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3D20-C493-401F-BC38-424B1DC8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98709-B148-4957-A084-CC816B01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F9ED9-9264-4DB9-AF12-F29A6E8D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1650-5DCF-42CB-AC2F-24F3C840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9186-AAFE-4281-832E-A1E69D4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72A0-28AD-4CE4-B46C-2F86B98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2E48-650C-4413-A88E-8205DD65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D870-A747-447B-897F-BC0064AD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BE2-C100-4A06-862F-8D58588B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806-B7B8-4452-9A0C-D63852CB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0E8-D4AF-4E6A-A8D3-527BAF8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4E7-EC46-4772-A41D-EACE012D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BFF-4D28-4901-A31A-95106D2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47C-C41F-47D3-8EBA-6A9B8DBAF66A}" type="slidenum"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D715-6AD7-4E38-AC8B-91BB28C92794}" type="slidenum"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E169-D239-40EA-BAFD-3D129215095A}" type="slidenum"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CC8E-A479-43D9-AAFD-E7756D8E9EBC}" type="slidenum"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2494080" y="66600"/>
            <a:ext cx="690552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5214960" y="1714680"/>
            <a:ext cx="335772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Constantia"/>
              </a:rPr>
              <a:t>MEIL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643280" y="2643120"/>
            <a:ext cx="392940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Constantia"/>
              </a:rPr>
              <a:t>Narasumber : dr. Petrin R, Sp.KJ, MPd.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kspresif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klarifikasi dan interpretasi transfer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rpkn intervensi penting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arakterologikal dan defens inti neurotik pasien disampaikan dalam bentuk positif dan negatif transfere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asi dan klarifikasi membantu pasien dalam memperbaiki insight dan menyelesaikan konflik nir-sadar, tujuan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ny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untuk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gubah karakt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ubungan pasien dengan orang lain digunakan sebagai fokus hubungan pasien-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i interpretasi transferens terapis berbeda pada suportif dan ekspresif. Ketepatan dan keutuha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asi tergantung pada obyek relasi pasien dan fungsi defensif, kemajuan dalam treatment, dan kekuatan aliansi teraput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makin “sehat” pasien pada kontinuum psikopatologi, maka pasien akan lebih baik dalam mentoler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terpretasi tanpa mengakibatkan kerusakan aliansi teraput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dapat melakukan ide interpretasi dalam bentuk supor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pasien dengan gangguan di kontinuum, terapis jarang melakukan inte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tasi penuh, namun “incomplete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a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ion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apat dilakuk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iansi terap</a:t>
            </a: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ti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uportif dan suportif-ekspresif psikoterapi, terciptanya aliansi teraputik secara dini dan kuat adalah prediktif positif outcome pada treatment dan menjadi fokus utama pada trea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masa psikoanalisis, Freud mengataka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ransferens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ubungan personal dengan pasien, yang disebut rapport atau “unobjectionable positive transferens”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ud mengatakan bahwa hubungan ini penting untuk mempertahankan motivasi untuk berkolaborasi secara efektif sehingga hubungan ini tidak untuk diinterpretasi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asar untuk tidak menginterpretasi transferens positif pada psikoterapi supor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ngan berkembangnya aliansi teraputik, fokus berpindah menuju “working relationship”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working alli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kuatan aliansi teraputik bergantung pada kesepakatan pasien-terapis pada tugas dan tujuan teraputik, kapasitas pasien untuk melakukan kegiatan teraputik, dan hubungan empati dari terapis, dan hubungan antara pasien-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iansi teraputik merupakan pondasi teraputik, bukan hanya “kendaraan untuk berubah” seperti pada ekspres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membina aliansi melalui “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gukur aktif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berperilaku sebagai role model ideal da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orang tu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oleran, dan non-judgemen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rect measure” menguatkan kepercayaan diri pasi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, baik untu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nguatkan aliansi teraput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ien mungkin memiliki fantasi mengenai kapasitas terapis (transferens), namun terapis secara aktif terlibat dengan “real relationship” pasien dan menyuguhi hal-hal konkrit untuk menolong pasien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isalliansi: mengenali dan memperbaik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psikoterapi suportif, terapis berperan aktif sehingga sangat mungkin untuk mengatakan hal yang salah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ortif tidak menekankan pada eksplorasi konflik sehingga menghindari kecemasan yang berdampak pada aliansi posi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dapat menunjukkanpenyesalan karena mengangkat masalah yang membuat pasien tidak nyaman, merangsang kecemasan atau tidak menyenangk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aat terapis menyadari misaliansi, terapis dapat menggunakan tehnik suportif standard untuk memperbaikinya karena menjadi suportif adalah lini pertama dalam memperbaiki “rupture” aliansi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melihat masalah dengan cara praktis, sebelum bergerak melihat masalah secara simbolik atau masalah transfere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ist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istance disini adalah halangan untuk mencapai tujuan terap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istanc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asa takut yang “out-of-awareness” pada cara baru dan kecendrungan untuk tetap dengan pola yang maladap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arena suportif mendukung defense adaptif dan kepercayaan diri, strategi terapis pada resisten dengan mempertinggi motivasi pasien melalui problem solving dan mempelajari keterampilan adaptasi yang baru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inci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uk mempertahankan aliansi teraputik, perasaan positif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n transferens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positif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da terapis secara umum bukanlah fokus dalam psikoterapi supor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uk mengantisipasi dan menghindari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angguan pada penatalaksana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erapis waspada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jag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jarak  dan respo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negatif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aat masalah pasien-terapis tidak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sai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k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lalui diskusi, maka terapis melanjutkan berdiskusi mengenai hubungan teraput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it resisten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ens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uls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ghindar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rkorelasi negatif dengan outcome psikoterap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sien yang memiliki trait resisten tinggi lebih memiliki outcome yang baik dengan: nondirektif dinamik, self directed, relationship-oriented (suportif-ekspresif) daripada dengan kognitif berstruktur atau terapi perilaku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ining the resist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ortif bertujuan untuk mendukung defense kecuali maladap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sip utama dari suportif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upport therapeutic allianc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at pasien resisten melihat pola yang disfungsional, terapis berempati pada [keputusasaan, hidup yang berat], membuat pasien merasa dimengerti dan meningkatkan keinginan untuk “bekerja” dalam terap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ortif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ingkungan empatik yang aktif dan reinforcement dari tujuan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uportif-ekspresif, saat pasien bergelut dengan mengenali perasaan atau dorongannya, terapis dapat mengikuti pasien dan, membuat pernyataan empatik mengenai seberapa berat dan betapa takutnya pasien untuk terbuka pada 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ducing anxiety to facilitate discuss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ritahukan terlebih dahulu pada pasien apa yang akan didiskusikan sehingga pasien lebih “Aware” apa yang sedang didiskusikan (dan bersiap diri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framing resistance as healthy self-asser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unj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kkan bahwa resist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rupakan hal sehat, kebutuhan pasien untuk tetap berada dalam kont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ngan menunjukkan penerimaan dan “authentic”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sisten menuru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ealing with </a:t>
            </a:r>
            <a:r>
              <a:rPr b="0" lang="id-ID" sz="4500" spc="-1" strike="noStrike">
                <a:solidFill>
                  <a:srgbClr val="04617b"/>
                </a:solidFill>
                <a:latin typeface="Calibri"/>
              </a:rPr>
              <a:t>distanc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and withdrawal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ien sering menunjukkan resitensi dengan cara non-interac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rapis memilih topik untuk menarik perhatian pasien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erhubungan dengan non-interaction pasien, atau memilih topik yang berbed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perlu 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pada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istanc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jag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jarak)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pasie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untuk mengantisipasi dan menghindari rusaknya aliansi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memutuskan apakah perlu mengunakan intervensi seperti konfrontasi ataupun cara tidak langsu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apis perlu melakukan introspeksi apakah terapis terlibat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untertransfere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tau tidak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ntertransfer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mesti dapat membedak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ksi emosional terhadap perilaku pasien apakah karena masalah terap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ksi emosional terapis terhadap nirsadar pasien yang menstimulus reaksi (transference) yang datang dari dunia dalam (internal world) pas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7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ountertransfere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transferens terapis pada pasie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ara luas: real relationship, berisi reaksi kebanyakan orang pada pasien, ditentukan dari perilaku waktu-ke-waktu pasien pada hubungan teraputi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rapis atau treatment tidak efektif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ersangkaan countertransferens, padahal tida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ountertransferen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reaksi emosinal dari terapis t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erhada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sien yang menunjukkan informasi mengenai dunia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internal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n proses nir-sadar pas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ilaku maladaptif pasien sering muncul pada sesi terapi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da saat reaksi terapis sama dengan kebanyakan orang, maka dapat ditanyakan ke pasien sebagai intervensi agar pasien dapat memiliki adaptasi interpersonal yang lebih bai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rl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nyadari bahwa pada saat mengekspresikan perasaan pada pasien, hal tsb merupakan kebutuhan dirinya, bukan kebutuhan teraputik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warene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i penting karena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erapi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ortif bersifat percakapan, sedangkan ekspresif terapis lebih sedikit beresp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jeme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untertransfere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berhubungan dengan outcome yang lebih baik pada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rief therap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dapat memodifikasi persepsi pasien yang terganggu denga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larifikasi dan konfrontasi, tapi tidak dengan interpreta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ika d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e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 cara tidak langsung (implisit) gagal utk memperbaiki transferens negatif dari pasien, diskusi dengan cara langsung (eksplisit) mengenai hubungan (pasien-terapis) dapat dilakuk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hanya menggunakan tehnik ekspresif secukupnya untuk menangani transferens negatif dari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ndling d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aluasi dapat menyakitkan dan sering didapatkan pada pasien dengan borderline atau narsistik personalit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Respon adaptif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: membuat pasien mengerti bahwa  terapis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bertuju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olong da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etap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nsisten dengan tujuan t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erap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dengan cara membalas atau menghindari diri sebagai obyek 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esi pas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harus mendapatkan pelatihan dan kemampuan utnuk mengerti perasaan teriritasi, frustasi, keputus-asaan yang dihasilkan dari kritik dan devaluasi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ika tidak terdapat p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 support atau professional supervision, terapis dapat merasa tidak mampu dan menjadi jenuh ataupu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lakuk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nfrontasi berlebih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eri jarak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erhada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koneksi empatik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rupak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on yang dilakukan terapis pada identifikasi proyeksi pasien.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ripada m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kasi proyeksi pasien atau membalas balik, terapis mengelola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“kerapuhan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an agres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 dari pasie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gelolaan tersebut sesuai dengan prinsip suportif dan mengijinkan pasien untuk melihat terapis sebagai sosok transferensi ide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ferensi ideal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sien merasa aman dan dapat menumbuhkan pengalaman emosi yang korek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beberapa kasus seperti pada “self-rejecting complainers”, akan mempertahankan posisi transferens yang tidak dapat ditembus oleh intervensi 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0" spc="-1" strike="noStrike">
                <a:solidFill>
                  <a:srgbClr val="06686d"/>
                </a:solidFill>
                <a:latin typeface="Constantia"/>
              </a:rPr>
              <a:t>MATUR NUWUN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684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0" spc="-1" strike="noStrike">
                <a:solidFill>
                  <a:srgbClr val="20c9f8"/>
                </a:solidFill>
                <a:latin typeface="Constantia"/>
              </a:rPr>
              <a:t>TERIMA KASIH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iansi teraputik dapat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mberikan kesempatan pad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sien mendengarkan materi yang diberikan terapis, yang materi tersebut biasanya tidak dapat diterima dari orang lain terhadap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aat pasien akan merasa dikritik, terapis mengemukakan dalam bentuk yang suportif atau memberikan petunjuk terlebih dahulu pada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ransferens: pendekatan suportif dan ekspresif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ferens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; mengacu pad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rasaan, fantasi,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kepercayaan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sumsi, atau pengalaman mengenai terapis namun asalnya bukan dari terapis, tetapi berasal dari pengalaman masa lalu pasi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, yang secara tidak disadari dikaitkan deng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hubungan pasien terhadap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3" descr="ekspresif.jpg"/>
          <p:cNvPicPr/>
          <p:nvPr/>
        </p:nvPicPr>
        <p:blipFill>
          <a:blip r:embed="rId1"/>
          <a:srcRect l="0" t="-7290" r="0" b="-7290"/>
          <a:stretch/>
        </p:blipFill>
        <p:spPr>
          <a:xfrm>
            <a:off x="496800" y="135000"/>
            <a:ext cx="4037040" cy="3510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suportif.jpg"/>
          <p:cNvPicPr/>
          <p:nvPr/>
        </p:nvPicPr>
        <p:blipFill>
          <a:blip r:embed="rId2"/>
          <a:stretch/>
        </p:blipFill>
        <p:spPr>
          <a:xfrm>
            <a:off x="4533840" y="3111480"/>
            <a:ext cx="4205520" cy="33908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"/>
          <p:cNvSpPr/>
          <p:nvPr/>
        </p:nvSpPr>
        <p:spPr>
          <a:xfrm>
            <a:off x="836640" y="3645000"/>
            <a:ext cx="3392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Garis putus-putus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omunikasi pas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Garis teb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komunikasi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ter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anjang panah merepresentasikan fokus komunik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2289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kspresif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ubungan pasien-terapis diekspresikan dalam bentuk transferens, yang penting untuk mengetahui konflik intrapsikik dan merupakan fokus utama pada psikoterapi jenis ini. Sedangkan hubungan pasien-terapis yang sebenarnya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nyalah “background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18960" indent="-2289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ortif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ubungan terapis-pasien menjadi fokus utama. Transferens tidak didiskusikan kecuali menganggu hubungan pasien-terapi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1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- transferens negatif lebih diperhatikan karena mengancam kelangsungan terapi dan membuat penderitaan pada pasien di luar sesi terap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1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ada psikoterapi suportif dan suportif-ekspresif, terapis lebih sering mengklarifikasi dan konfrontasi, jarang menginterpreta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ringkali ekspresif dan suportif muncul bergantian, tergantung keadaan, namun intervensi transferens berbeda (disesuaikan pada foku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vensi terapis bertujuan untuk membantu pasie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untuk menyadar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rilaku atau pola maladaptif pada terapis, sehingga self esteem dan fungsi adaptasi dari pasien memba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ubungan pasien kepada terapis dilihat sebagai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ambar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rilaku pasien terhadap orang lai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5:17:34Z</dcterms:created>
  <dc:creator>ismail - [2010]</dc:creator>
  <dc:description/>
  <dc:language>en-US</dc:language>
  <cp:lastModifiedBy>ASUS</cp:lastModifiedBy>
  <dcterms:modified xsi:type="dcterms:W3CDTF">2013-12-05T17:19:48Z</dcterms:modified>
  <cp:revision>69</cp:revision>
  <dc:subject/>
  <dc:title>GOALS AND  THERAPEUTIC ACTION</dc:title>
</cp:coreProperties>
</file>