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1764-971F-4E5E-8B79-3E3A5E59C07F}" type="slidenum"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014E-F278-4E7E-BA52-A92CD2C58FF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F399-C56F-4A68-BE82-2C9490411D02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C63B-E542-47BA-B690-F1C6DCCE2346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AFF-6126-4124-9296-F2AE7202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8BF-78F1-453D-BB2F-003AAAA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236-05A3-4225-814F-62B2BCE9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F1A-0AFD-4974-AAF2-2FF320B5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F63C-B7C0-4731-929E-7E943441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B80D-93EA-457A-98D1-B321513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B56A-42B3-423C-95EE-817381DD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578E-A640-4133-9328-F4DD2738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5910-34B0-4981-86F9-195EB92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9FBD-540A-4866-868D-AA779310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3032-EEEB-438B-BCF5-1FA36AEB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8FD-56BD-4658-A67F-E28A553B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E94A-E61C-4FA4-A989-774A3C0A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08E0-EF5E-45E7-A687-D2F6B7EA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B042-9CFE-46AA-B261-3FEEDF2C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22EC-93DE-4D8D-91FC-C37C0BEB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760F-2975-4688-84D8-C1F063FF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BBE6-37D0-47E3-ACD2-2234F6DD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E506-83D5-4425-A56A-AB7AF4A2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7FE2-3B88-421F-8DD8-26A14CF6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7517-63D0-4581-B1F8-9238F8A0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26D0-0DF7-47F0-A767-DD9E627E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C02-72EE-4F46-822B-1C8F0B58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C838-709F-42E8-AC69-ABE4A77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BC6F-D005-45A9-99EE-671CDEA3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9C8BF-9C6C-4B5F-AC7D-06F3509A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62869-FA17-4F4E-92E5-2666DC33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9D53-A865-43C2-AC4A-13EE892C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E5B6-126B-4F3B-9F71-DC4030AD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4696-8CCF-4F40-B965-0BEA8022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5283-CCA3-492C-8D94-17ACAC37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1931E-B987-4AC8-8782-66209B9F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2351A-3E9A-436D-8003-E30E81BE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3E9-AD25-4D18-AF9C-606277C9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DD7C-E72B-455F-9454-6DE7D6D9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7C38-8F73-41FB-BCC4-7FAF0F30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4052-DFE8-435E-8D85-D0EC8BEA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9C25-B374-40A4-8DED-97113E6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DADE-4E50-4D42-AE57-2625377F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AE0F-C956-429C-AAD9-12F33D09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6AF9-7862-4348-9BDC-07F4CDF5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D07F2-7079-41FA-9A46-5F633A74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1D39-33A1-47AE-8CF5-6E47F1DF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E6E-D8A0-4D25-8C89-E73071D9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B80-F00B-4B30-BC81-5A500F1D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EF2-8C8A-4737-9CCA-2B1A3E5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309-1E24-407D-B4A3-BD85B29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457-EEC3-4621-A8FA-A725335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C8E-C714-4B8D-BE1E-5937805B567A}" type="slidenum"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E5A-DB10-40A5-BABA-9FAB07CCCA93}" type="slidenum"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D7D3-251B-4AFF-9665-CF9B9E515AED}" type="slidenum">
              <a:rPr b="0" lang="id-ID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3448-75D9-42B7-B067-B8F2E617BF92}" type="slidenum">
              <a:rPr b="0" lang="id-ID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2494080" y="66600"/>
            <a:ext cx="690552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5214960" y="1714680"/>
            <a:ext cx="335772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Constantia"/>
              </a:rPr>
              <a:t>MEIL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643280" y="2643120"/>
            <a:ext cx="392940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Constantia"/>
              </a:rPr>
              <a:t>Narasumber : dr. Petrin R, Sp.KJ, MPd.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kspresif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klarifikasi dan interpretasi transfer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rpkn intervensi penting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arakterologikal dan defens inti neurotik pasien disampaikan dalam bentuk positif dan negatif transferen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pretasi dan klarifikasi membantu pasien dalam memperbaiki insight dan menyelesaikan konflik nir-sadar, tujuan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ny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untuk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gubah karakt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ubungan pasien dengan orang lain digunakan sebagai fokus hubungan pasien-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i interpretasi transferens terapis berbeda pada suportif dan ekspresif. Ketepatan dan keutuha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asi tergantung pada obyek relasi pasien dan fungsi defensif, kemajuan dalam treatment, dan kekuatan aliansi teraput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makin “sehat” pasien pada kontinuum psikopatologi, maka pasien akan lebih baik dalam mentoler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terpretasi tanpa mengakibatkan kerusakan aliansi teraput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dapat melakukan ide interpretasi dalam bentuk supor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pasien dengan gangguan di kontinuum, terapis jarang melakukan inte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tasi penuh, namun “incomplete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preta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ion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apat dilakuk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iansi terap</a:t>
            </a: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ti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uportif dan suportif-ekspresif psikoterapi, terciptanya aliansi teraputik secara dini dan kuat adalah prediktif positif outcome pada treatment dan menjadi fokus utama pada treat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masa psikoanalisis, Freud mengataka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ransferens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hubungan personal dengan pasien, yang disebut rapport atau “unobjectionable positive transferens”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ud mengatakan bahwa hubungan ini penting untuk mempertahankan motivasi untuk berkolaborasi secara efektif sehingga hubungan ini tidak untuk diinterpretasi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asar untuk tidak menginterpretasi transferens positif pada psikoterapi supor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ngan berkembangnya aliansi teraputik, fokus berpindah menuju “working relationship”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working alli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kuatan aliansi teraputik bergantung pada kesepakatan pasien-terapis pada tugas dan tujuan teraputik, kapasitas pasien untuk melakukan kegiatan teraputik, dan hubungan empati dari terapis, dan hubungan antara pasien-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iansi teraputik merupakan pondasi teraputik, bukan hanya “kendaraan untuk berubah” seperti pada ekspres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membina aliansi melalui “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gukur aktif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berperilaku sebagai role model ideal da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orang tu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oleran, dan non-judgemen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rect measure” menguatkan kepercayaan diri pasi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, baik untu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nguatkan aliansi teraput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ien mungkin memiliki fantasi mengenai kapasitas terapis (transferens), namun terapis secara aktif terlibat dengan “real relationship” pasien dan menyuguhi hal-hal konkrit untuk menolong pasien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isalliansi: mengenali dan memperbaik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psikoterapi suportif, terapis berperan aktif sehingga sangat mungkin untuk mengatakan hal yang salah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ortif tidak menekankan pada eksplorasi konflik sehingga menghindari kecemasan yang berdampak pada aliansi posi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dapat menunjukkanpenyesalan karena mengangkat masalah yang membuat pasien tidak nyaman, merangsang kecemasan atau tidak menyenangk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aat terapis menyadari misaliansi, terapis dapat menggunakan tehnik suportif standard untuk memperbaikinya karena menjadi suportif adalah lini pertama dalam memperbaiki “rupture” aliansi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melihat masalah dengan cara praktis, sebelum bergerak melihat masalah secara simbolik atau masalah transfere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ist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istance disini adalah halangan untuk mencapai tujuan terap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istanc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asa takut yang “out-of-awareness” pada cara baru dan kecendrungan untuk tetap dengan pola yang maladap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arena suportif mendukung defense adaptif dan kepercayaan diri, strategi terapis pada resisten dengan mempertinggi motivasi pasien melalui problem solving dan mempelajari keterampilan adaptasi yang baru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neral Princi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uk mempertahankan aliansi teraputik, perasaan positif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n transferens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positif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da terapis secara umum bukanlah fokus dalam psikoterapi supor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tuk mengantisipasi dan menghindari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angguan pada penatalaksana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erapis waspada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jag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jarak  dan respo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negatif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aat masalah pasien-terapis tidak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lesai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k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lalui diskusi, maka terapis melanjutkan berdiskusi mengenai hubungan teraput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it resisten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ens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puls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ghindar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rkorelasi negatif dengan outcome psikoterap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sien yang memiliki trait resisten tinggi lebih memiliki outcome yang baik dengan: nondirektif dinamik, self directed, relationship-oriented (suportif-ekspresif) daripada dengan kognitif berstruktur atau terapi perilaku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ining the resista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ortif bertujuan untuk mendukung defense kecuali maladap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sip utama dari suportif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upport therapeutic allianc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at pasien resisten melihat pola yang disfungsional, terapis berempati pada [keputusasaan, hidup yang berat], membuat pasien merasa dimengerti dan meningkatkan keinginan untuk “bekerja” dalam terap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ortif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lingkungan empatik yang aktif dan reinforcement dari tujuan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uportif-ekspresif, saat pasien bergelut dengan mengenali perasaan atau dorongannya, terapis dapat mengikuti pasien dan, membuat pernyataan empatik mengenai seberapa berat dan betapa takutnya pasien untuk terbuka pada 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ducing anxiety to facilitate discuss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ritahukan terlebih dahulu pada pasien apa yang akan didiskusikan sehingga pasien lebih “Aware” apa yang sedang didiskusikan (dan bersiap diri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framing resistance as healthy self-asser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unj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kkan bahwa resist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s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rupakan hal sehat, kebutuhan pasien untuk tetap berada dalam kont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ngan menunjukkan penerimaan dan “authentic”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sisten menuru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ealing with </a:t>
            </a:r>
            <a:r>
              <a:rPr b="0" lang="id-ID" sz="4500" spc="-1" strike="noStrike">
                <a:solidFill>
                  <a:srgbClr val="04617b"/>
                </a:solidFill>
                <a:latin typeface="Calibri"/>
              </a:rPr>
              <a:t>distanc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and withdrawal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sien sering menunjukkan resitensi dengan cara non-interac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rapis memilih topik untuk menarik perhatian pasien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erhubungan dengan non-interaction pasien, atau memilih topik yang berbed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perlu 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pada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istanc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jag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jarak)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pasie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untuk mengantisipasi dan menghindari rusaknya aliansi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memutuskan apakah perlu mengunakan intervensi seperti konfrontasi ataupun cara tidak langsu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apis perlu melakukan introspeksi apakah terapis terlibat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untertransfere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tau tidak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04617b"/>
                </a:solidFill>
                <a:latin typeface="Calibri"/>
              </a:rPr>
              <a:t>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ntertransfer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mesti dapat membedak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ksi emosional terhadap perilaku pasien apakah karena masalah terap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ksi emosional terapis terhadap nirsadar pasien yang menstimulus reaksi (transference) yang datang dari dunia dalam (internal world) pas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7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9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ountertransfere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transferens terapis pada pasie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ara luas: real relationship, berisi reaksi kebanyakan orang pada pasien, ditentukan dari perilaku waktu-ke-waktu pasien pada hubungan teraputi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rapis atau treatment tidak efektif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ersangkaan countertransferens, padahal tida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ountertransferen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reaksi emosinal dari terapis t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erhada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sien yang menunjukkan informasi mengenai dunia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internal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an proses nir-sadar pas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ilaku maladaptif pasien sering muncul pada sesi terapi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da saat reaksi terapis sama dengan kebanyakan orang, maka dapat ditanyakan ke pasien sebagai intervensi agar pasien dapat memiliki adaptasi interpersonal yang lebih bai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rl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nyadari bahwa pada saat mengekspresikan perasaan pada pasien, hal tsb merupakan kebutuhan dirinya, bukan kebutuhan teraputik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warene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i penting karena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erapi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ortif bersifat percakapan, sedangkan ekspresif terapis lebih sedikit beresp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jemen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untertransfere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berhubungan dengan outcome yang lebih baik pada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rief therap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dapat memodifikasi persepsi pasien yang terganggu denga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larifikasi dan konfrontasi, tapi tidak dengan interpreta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ika d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e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 cara tidak langsung (implisit) gagal utk memperbaiki transferens negatif dari pasien, diskusi dengan cara langsung (eksplisit) mengenai hubungan (pasien-terapis) dapat dilakuk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hanya menggunakan tehnik ekspresif secukupnya untuk menangani transferens negatif dari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ndling d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aluasi dapat menyakitkan dan sering didapatkan pada pasien dengan borderline atau narsistik personalit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Respon adaptif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: membuat pasien mengerti bahwa  terapis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bertuju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olong da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etap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nsisten dengan tujuan t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erap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dengan cara membalas atau menghindari diri sebagai obyek 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esi pas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 harus mendapatkan pelatihan dan kemampuan utnuk mengerti perasaan teriritasi, frustasi, keputus-asaan yang dihasilkan dari kritik dan devaluasi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ika tidak terdapat p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 support atau professional supervision, terapis dapat merasa tidak mampu dan menjadi jenuh ataupu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lakuk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nfrontasi berlebih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eri jarak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terhada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koneksi empatik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rupak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on yang dilakukan terapis pada identifikasi proyeksi pasien.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ripada m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ikasi proyeksi pasien atau membalas balik, terapis mengelola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“kerapuhan”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an agres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i dari pasie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ngelolaan tersebut sesuai dengan prinsip suportif dan mengijinkan pasien untuk melihat terapis sebagai sosok transferensi ide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ferensi ideal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sien merasa aman dan dapat menumbuhkan pengalaman emosi yang korekti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beberapa kasus seperti pada “self-rejecting complainers”, akan mempertahankan posisi transferens yang tidak dapat ditembus oleh intervensi 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0" spc="-1" strike="noStrike">
                <a:solidFill>
                  <a:srgbClr val="06686d"/>
                </a:solidFill>
                <a:latin typeface="Constantia"/>
              </a:rPr>
              <a:t>MATUR NUWUN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684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0" spc="-1" strike="noStrike">
                <a:solidFill>
                  <a:srgbClr val="20c9f8"/>
                </a:solidFill>
                <a:latin typeface="Constantia"/>
              </a:rPr>
              <a:t>TERIMA KASIH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iansi teraputik dapat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memberikan kesempatan pad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asien mendengarkan materi yang diberikan terapis, yang materi tersebut biasanya tidak dapat diterima dari orang lain terhadap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da saat pasien akan merasa dikritik, terapis mengemukakan dalam bentuk yang suportif atau memberikan petunjuk terlebih dahulu pada pas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ransferens: pendekatan suportif dan ekspresif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ferens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; mengacu pad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rasaan, fantasi,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kepercayaan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sumsi, atau pengalaman mengenai terapis namun asalnya bukan dari terapis, tetapi berasal dari pengalaman masa lalu pasien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, yang secara tidak disadari dikaitkan deng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hubungan pasien terhadap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rapi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3" descr="ekspresif.jpg"/>
          <p:cNvPicPr/>
          <p:nvPr/>
        </p:nvPicPr>
        <p:blipFill>
          <a:blip r:embed="rId1"/>
          <a:srcRect l="0" t="-7290" r="0" b="-7290"/>
          <a:stretch/>
        </p:blipFill>
        <p:spPr>
          <a:xfrm>
            <a:off x="496800" y="135000"/>
            <a:ext cx="4037040" cy="3510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suportif.jpg"/>
          <p:cNvPicPr/>
          <p:nvPr/>
        </p:nvPicPr>
        <p:blipFill>
          <a:blip r:embed="rId2"/>
          <a:stretch/>
        </p:blipFill>
        <p:spPr>
          <a:xfrm>
            <a:off x="4533840" y="3111480"/>
            <a:ext cx="4205520" cy="33908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5"/>
          <p:cNvSpPr/>
          <p:nvPr/>
        </p:nvSpPr>
        <p:spPr>
          <a:xfrm>
            <a:off x="836640" y="3645000"/>
            <a:ext cx="3392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Garis putus-putus: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omunikasi pas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Garis teb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 komunikasi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ter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anjang panah merepresentasikan fokus komunik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2289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kspresif 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ubungan pasien-terapis diekspresikan dalam bentuk transferens, yang penting untuk mengetahui konflik intrapsikik dan merupakan fokus utama pada psikoterapi jenis ini. Sedangkan hubungan pasien-terapis yang sebenarnya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nyalah “background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18960" indent="-2289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ortif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ubungan terapis-pasien menjadi fokus utama. Transferens tidak didiskusikan kecuali menganggu hubungan pasien-terapi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1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- transferens negatif lebih diperhatikan karena mengancam kelangsungan terapi dan membuat penderitaan pada pasien di luar sesi terap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1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ada psikoterapi suportif dan suportif-ekspresif, terapis lebih sering mengklarifikasi dan konfrontasi, jarang menginterpreta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ringkali ekspresif dan suportif muncul bergantian, tergantung keadaan, namun intervensi transferens berbeda (disesuaikan pada foku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vensi terapis bertujuan untuk membantu pasien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untuk menyadar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rilaku atau pola maladaptif pada terapis, sehingga self esteem dan fungsi adaptasi dari pasien membai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ubungan pasien kepada terapis dilihat sebagai </a:t>
            </a: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gambar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perilaku pasien terhadap orang lai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5:17:34Z</dcterms:created>
  <dc:creator>ismail - [2010]</dc:creator>
  <dc:description/>
  <dc:language>en-US</dc:language>
  <cp:lastModifiedBy>ASUS</cp:lastModifiedBy>
  <dcterms:modified xsi:type="dcterms:W3CDTF">2013-12-05T17:19:48Z</dcterms:modified>
  <cp:revision>69</cp:revision>
  <dc:subject/>
  <dc:title>GOALS AND  THERAPEUTIC ACTION</dc:title>
</cp:coreProperties>
</file>