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3113D-659C-495F-972F-DB1D626F7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9B4FE-D76D-4EDC-A61D-E579648D7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02B2F-9F04-4E97-ADF1-BA1D296B3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0E452-6737-4ED8-A6E1-2F74AD94D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08E458A-F1F1-4DE3-AB64-972CE4334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E91123-80B1-4BFA-A823-929E67212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7B3CCF-A173-484E-84C9-8C7F2B2C7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7333FC-BA45-44E0-9A7C-46CCDFF85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7947FC-DC17-40D9-8318-AA91DF654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8B0306-8FB9-4FCC-8D63-6E41FFB7C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F8712C-993D-4053-B207-DDC1BC3BE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1A71C-26A4-4D39-800A-0B15C5DE6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C2DCEA-9C67-468E-A978-6FC5B72DD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C5E14C-EFDF-4953-8861-ACD4A188D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5AD20A-0441-4B20-A047-DB852AB6A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2B0C5D8-B98B-4564-BB99-C103CD171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106D9C0-4366-4D42-BB01-F238AD368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54EAC4-31C2-4D7D-BC91-8CFCDD8465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24A85-548B-48B6-B966-0EEA9898B5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9CF7A0-FE1C-4DEC-9E8A-D3DFF98B3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4B9766-9977-4B87-9345-AC2FDC05F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FDA6C-B274-4209-9330-6EDFCD57E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8DAEB-3598-4861-B315-7BAB93199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6C062-D554-43EC-BD22-2B18338BF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8E6A5-49D3-439C-8565-DD2C74F6C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D3F460-4B4E-40D6-975D-DBB20399D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F8459-A499-408D-84D4-1FFB592E3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6757E-1538-4CAB-9FCC-9CF534A21E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38196C-7DDC-4C5E-9AE3-6FC51B342E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2E4F6B-D559-4EF5-9162-EF0AA66A8A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E874937-6F8B-44D1-B302-7C3FE00276C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11501D1-A72A-471C-A16E-7D2F500C0F2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B0B5902-FD70-4E2A-99FF-3CC3ADF97B3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C07CE-D0C2-4F99-9560-D5D884BDE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9A40214-689B-4C69-8101-34FB25B17F1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F6F9E80-548E-4CBB-ABE9-4E63A21781F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3975766-FEFF-4C74-AE5C-A3F73DAA59D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33A9E71-9583-4F70-8DD9-192AB1581E3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85EC53B-33C7-4AE1-ACE8-C155A9ED66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4C5C525-22F0-485A-ADD9-75FEDD69A6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504C71F-F45B-4D84-9A3C-9FB3D9A5350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74CC6E4-C676-433A-BB80-FD38942B7E5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150C4B1-7EBB-4FD7-8D57-8DBA3721E78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ABBEE-F84F-4472-A47B-CE1B6B28F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A1973-8D9C-47D4-8462-A091FE2C3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00AA6-CDDC-48FB-9679-39399A737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91B8C-EC6B-44E4-9B7F-7C4358B47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C5C2E-30D5-442C-94D8-524EDC11C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AB24-9E11-4891-BAB3-69281F475D36}"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FAB2-89C3-485B-BC29-C2C68044DC75}"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2EBE-A4F8-4DCC-BDF2-F44216F2EE57}"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5997-F3AB-4236-9E59-200350D63F03}"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efac9"/>
                </a:solidFill>
                <a:latin typeface="Constantia"/>
              </a:rPr>
              <a:t>Presentan : Meiliana</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efac9"/>
                </a:solidFill>
                <a:latin typeface="Constantia"/>
              </a:rPr>
              <a:t>Narasumber : Dr. dr. Nurmiati Amir, Sp.Kj(K)</a:t>
            </a:r>
            <a:endParaRPr b="0" lang="en-US" sz="2200" spc="-1" strike="noStrike">
              <a:solidFill>
                <a:srgbClr val="ffffff"/>
              </a:solidFill>
              <a:latin typeface="Constantia"/>
            </a:endParaRPr>
          </a:p>
        </p:txBody>
      </p:sp>
      <p:pic>
        <p:nvPicPr>
          <p:cNvPr id="171" name="Title 1"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523880"/>
            <a:ext cx="8229600" cy="457200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anifestasi subyektif</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Letargi dan ketidaknyamanan somatik vs eutonia</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Kurang mampu untuk merasakan sensasi vs persepsi yang tajam</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Lamban berpikir vs berpikir tajam</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Harga diri yang mudah goyah, berubah antara rendah diri dan percaya diri yang berlebih</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esimis vs optimis dan riang</a:t>
            </a:r>
            <a:endParaRPr b="0" lang="en-US" sz="2800" spc="-1" strike="noStrike">
              <a:solidFill>
                <a:srgbClr val="ffffff"/>
              </a:solidFill>
              <a:latin typeface="Constant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89"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523520"/>
            <a:ext cx="8229600" cy="533412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rubahan suasana hati yg mengayun (mood swing) pada pasien rawat jalan yang dibayangi oleh kekacauan bhw ayunan tersebut mrpk hal yang muncul dalam kehidupan pribadi mereka. Putus cinta berulang atau kegagalan pernikahan adalah umum tjd karena gesekan interpersonal dan perilaku mudah berhubungan yg episodik. Umum tjd ketidak seimbangan kinerja sekolah dan pekerjaan. Orang dengan gangguan siklotimik adalah pecinta kesenian mereka menunjukkan harapan besar dlm banyak hal tetapi jarang upaya mereka membuahkan hasil. Yg nampak; hidup mereka sering menunjukkan serangkaian tindakan boros. </a:t>
            </a:r>
            <a:endParaRPr b="0" lang="en-US" sz="2600" spc="-1" strike="noStrike">
              <a:solidFill>
                <a:srgbClr val="ffffff"/>
              </a:solidFill>
              <a:latin typeface="Constantia"/>
            </a:endParaRPr>
          </a:p>
        </p:txBody>
      </p:sp>
      <p:sp>
        <p:nvSpPr>
          <p:cNvPr id="1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523880"/>
            <a:ext cx="8229600" cy="4572000"/>
          </a:xfrm>
          <a:prstGeom prst="rect">
            <a:avLst/>
          </a:prstGeom>
          <a:noFill/>
          <a:ln w="0">
            <a:noFill/>
          </a:ln>
        </p:spPr>
        <p:txBody>
          <a:bodyPr anchor="t">
            <a:normAutofit fontScale="99000"/>
          </a:bodyPr>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Ketidakstabilan geografis adalah gambaran karakteristik,  mudah tertarik ke lokasi baru, pekerjaan atau pasangan baru,  mereka cepat hilang minat dan menyebabkan ketidakpuasan.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nyalahgunaaan bermacam zat,yg tjd pd  lebih 50% merupakan upaya pengobatan sec mandiri.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Bunuh diri sering muncul dan  merupakan risiko berbahaya pada remaja. Banyak pemuda dg gejala tsb diberi label “borderline”, yg sebenarnya   menderita ggn ekspresi temperamental yg tdk terdiagnosis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2" descr=""/>
          <p:cNvPicPr/>
          <p:nvPr/>
        </p:nvPicPr>
        <p:blipFill>
          <a:blip r:embed="rId1"/>
          <a:stretch/>
        </p:blipFill>
        <p:spPr>
          <a:xfrm>
            <a:off x="268200" y="146160"/>
            <a:ext cx="8425080" cy="1231920"/>
          </a:xfrm>
          <a:prstGeom prst="rect">
            <a:avLst/>
          </a:prstGeom>
          <a:ln w="0">
            <a:noFill/>
          </a:ln>
        </p:spPr>
      </p:pic>
      <p:sp>
        <p:nvSpPr>
          <p:cNvPr id="195" name="PlaceHolder 1"/>
          <p:cNvSpPr>
            <a:spLocks noGrp="1"/>
          </p:cNvSpPr>
          <p:nvPr>
            <p:ph/>
          </p:nvPr>
        </p:nvSpPr>
        <p:spPr>
          <a:xfrm>
            <a:off x="457200" y="1523880"/>
            <a:ext cx="8229600" cy="4572000"/>
          </a:xfrm>
          <a:prstGeom prst="rect">
            <a:avLst/>
          </a:prstGeom>
          <a:noFill/>
          <a:ln w="0">
            <a:noFill/>
          </a:ln>
        </p:spPr>
        <p:txBody>
          <a:bodyPr anchor="t">
            <a:normAutofit fontScale="96000"/>
          </a:bodyPr>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bat antimanik merupakan obat lini pertama untuk pasien dgn ggn siklotimik. </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Hasil efektif telah dilaporkan ttg pemakaian obat antimanik lainnya spt carbamazepine, valproate.</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engobatan psn ggn siklotimik yg mengalami depresi dgn antidepresan hrs dilakukan dgn hati-hati , krn peningkatan kepekaannya terhadap episode hipomanik atau manik akibat antidepresan.</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ira-kira 40-50% dari semua psn siklotimik yg diobati dgn antidepresan mengalami episode tsb.</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2" descr=""/>
          <p:cNvPicPr/>
          <p:nvPr/>
        </p:nvPicPr>
        <p:blipFill>
          <a:blip r:embed="rId1"/>
          <a:stretch/>
        </p:blipFill>
        <p:spPr>
          <a:xfrm>
            <a:off x="268200" y="92160"/>
            <a:ext cx="8425080" cy="1285920"/>
          </a:xfrm>
          <a:prstGeom prst="rect">
            <a:avLst/>
          </a:prstGeom>
          <a:ln w="0">
            <a:noFill/>
          </a:ln>
        </p:spPr>
      </p:pic>
      <p:sp>
        <p:nvSpPr>
          <p:cNvPr id="197"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sikoterapi paling baik diarahkan pd peningkatan kesadaran pasien tentang kondisinya dan membantu mereka mengembangkan mekanisme mengatasi pergeseran moodnya. </a:t>
            </a:r>
            <a:endParaRPr b="0" lang="en-US" sz="28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erapis perlu membantu pasien memperbaiki tiap kerusakan yg dilakukan selama hipomania ( termasuk masalah yg berhub dgn pekerjaan dan keluarga ).</a:t>
            </a:r>
            <a:endParaRPr b="0" lang="en-US" sz="28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fat Siklotimik yg jangka panjang</a:t>
            </a:r>
            <a:r>
              <a:rPr b="0" lang="en-US" sz="2800" spc="-1" strike="noStrike">
                <a:solidFill>
                  <a:srgbClr val="ffffff"/>
                </a:solidFill>
                <a:latin typeface="Constantia"/>
                <a:ea typeface="Arial"/>
              </a:rPr>
              <a:t>→pasien perlu terapi seumur hidup.</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Rectangle 2" descr=""/>
          <p:cNvPicPr/>
          <p:nvPr/>
        </p:nvPicPr>
        <p:blipFill>
          <a:blip r:embed="rId1"/>
          <a:stretch/>
        </p:blipFill>
        <p:spPr>
          <a:xfrm>
            <a:off x="268200" y="92160"/>
            <a:ext cx="8425080" cy="1285920"/>
          </a:xfrm>
          <a:prstGeom prst="rect">
            <a:avLst/>
          </a:prstGeom>
          <a:ln w="0">
            <a:noFill/>
          </a:ln>
        </p:spPr>
      </p:pic>
      <p:sp>
        <p:nvSpPr>
          <p:cNvPr id="199"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rupa suportif, edukasional, dan terape</a:t>
            </a:r>
            <a:r>
              <a:rPr b="0" lang="id-ID" sz="2600" spc="-1" strike="noStrike">
                <a:solidFill>
                  <a:srgbClr val="ffffff"/>
                </a:solidFill>
                <a:latin typeface="Constantia"/>
              </a:rPr>
              <a:t>u</a:t>
            </a:r>
            <a:r>
              <a:rPr b="0" lang="en-US" sz="2600" spc="-1" strike="noStrike">
                <a:solidFill>
                  <a:srgbClr val="ffffff"/>
                </a:solidFill>
                <a:latin typeface="Constantia"/>
              </a:rPr>
              <a:t>tik utk pasien dan mereka terlibat di dlm kehidupan pasie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23880"/>
            <a:ext cx="8229600" cy="490536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Gangguan bipolar  yg ringan,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merupakan siklus pendek subsindromal dari depresi dan hipomani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nelitian telah mengungkapkan pergantian perubahan  suasana hati, aktivitas dan kognisi.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Rangkaian siklotimia sifatnya kontinyu atau intermitten, dengan jarangnya periode  eutimik.</a:t>
            </a:r>
            <a:endParaRPr b="0" lang="en-US" sz="2600" spc="-1" strike="noStrike">
              <a:solidFill>
                <a:srgbClr val="ffffff"/>
              </a:solidFill>
              <a:latin typeface="Constantia"/>
            </a:endParaRPr>
          </a:p>
        </p:txBody>
      </p:sp>
      <p:sp>
        <p:nvSpPr>
          <p:cNvPr id="1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Faktor sirkadian dapat menjelaskan beberapa labilitas emosi yg  ekstrem, seperti org yg akan tidur yg bersemangat, kmd bangun lebih awal dg keinginan bunuh diri.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rubahan suasana siklotimia baiknya digambarkan sbg </a:t>
            </a:r>
            <a:r>
              <a:rPr b="0" i="1" lang="id-ID" sz="2600" spc="-1" strike="noStrike">
                <a:solidFill>
                  <a:srgbClr val="ffffff"/>
                </a:solidFill>
                <a:latin typeface="Constantia"/>
              </a:rPr>
              <a:t>endoreactive</a:t>
            </a:r>
            <a:r>
              <a:rPr b="0" lang="id-ID" sz="2600" spc="-1" strike="noStrike">
                <a:solidFill>
                  <a:srgbClr val="ffffff"/>
                </a:solidFill>
                <a:latin typeface="Constantia"/>
              </a:rPr>
              <a:t> dlm arti bahwa reaksi endogen yg berlebihan tampaknya menentukan perubahan mendadak dalam suasana hati dan perilaku (misalnya : jatuh cinta dg seseorg yg baru sj dijumpai, secepat itu jg cintanya bs lenyap tiba2)</a:t>
            </a:r>
            <a:endParaRPr b="0" lang="en-US" sz="2600" spc="-1" strike="noStrike">
              <a:solidFill>
                <a:srgbClr val="ffffff"/>
              </a:solidFill>
              <a:latin typeface="Constantia"/>
            </a:endParaRPr>
          </a:p>
        </p:txBody>
      </p:sp>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Gangguan bersifat kronis dan non-psikotik</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Insiden sama banyaknya antara pria dan wanita</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nset mendadak, usia akhir remaja atau awal dewasa</a:t>
            </a:r>
            <a:r>
              <a:rPr b="0" lang="id-ID" sz="2800" spc="-1" strike="noStrike">
                <a:solidFill>
                  <a:srgbClr val="ffffff"/>
                </a:solidFill>
                <a:latin typeface="Constantia"/>
              </a:rPr>
              <a:t>, umumnya dimulai biasanya usia 21 th</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anyak pada penyalahgunaan zat</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mum pada mereka dengan kerabat derajat 1 menderita MDD dan bipolar</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aktor Biologis </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30 % : riw. keluarga ggn Bipolar I (+)</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silsilah kel. dgn ggn bipolar I memiliki  hub. dgn ggn siklotimik</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aktorPsikosoasial</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trauma dan fiksasi selama stadium ora</a:t>
            </a:r>
            <a:r>
              <a:rPr b="0" lang="id-ID" sz="2800" spc="-1" strike="noStrike">
                <a:solidFill>
                  <a:srgbClr val="fefac9"/>
                </a:solidFill>
                <a:latin typeface="Constantia"/>
              </a:rPr>
              <a:t>l</a:t>
            </a:r>
            <a:r>
              <a:rPr b="0" lang="en-US" sz="2800" spc="-1" strike="noStrike">
                <a:solidFill>
                  <a:srgbClr val="fefac9"/>
                </a:solidFill>
                <a:latin typeface="Constantia"/>
              </a:rPr>
              <a:t> dlm perkembangan bayi→ usaha ego utk mengatasi superego yg kuat dan suka menghukum</a:t>
            </a:r>
            <a:endParaRPr b="0" lang="en-US" sz="2800" spc="-1" strike="noStrike">
              <a:solidFill>
                <a:srgbClr val="fefac9"/>
              </a:solidFill>
              <a:latin typeface="Constantia"/>
            </a:endParaRPr>
          </a:p>
        </p:txBody>
      </p:sp>
      <p:pic>
        <p:nvPicPr>
          <p:cNvPr id="179" name="Rectang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Umum</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0,4%-1%</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mur</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Usia muda : sebelum usia 21 tahun</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 </a:t>
            </a:r>
            <a:r>
              <a:rPr b="0" lang="en-US" sz="2800" spc="-1" strike="noStrike">
                <a:solidFill>
                  <a:srgbClr val="fefac9"/>
                </a:solidFill>
                <a:latin typeface="Constantia"/>
              </a:rPr>
              <a:t>Jumlah laki-laki ~ wanita</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ejadian</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onset insidious dan kronik</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15-50% berisiko menjadi gangguan Bipolar I atau II</a:t>
            </a:r>
            <a:endParaRPr b="0" lang="en-US" sz="2800" spc="-1" strike="noStrike">
              <a:solidFill>
                <a:srgbClr val="fefac9"/>
              </a:solidFill>
              <a:latin typeface="Constantia"/>
            </a:endParaRPr>
          </a:p>
        </p:txBody>
      </p:sp>
      <p:pic>
        <p:nvPicPr>
          <p:cNvPr id="181" name="Rectang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Riwayat Keluarga</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Riw. keluarga dgn gangguan Bipolar I, II dan Penyalahgunaan obat-obatan : risiko ↑</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Diagnosis Banding </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Mood karena KMU</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Mood diinduksi Zat</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Bipolar I, Rapid Cycling </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Bipolar II, Rapid Cycling</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Kepribadia Ambang</a:t>
            </a:r>
            <a:endParaRPr b="0" lang="en-US" sz="2800" spc="-1" strike="noStrike">
              <a:solidFill>
                <a:srgbClr val="fefac9"/>
              </a:solidFill>
              <a:latin typeface="Constantia"/>
            </a:endParaRPr>
          </a:p>
        </p:txBody>
      </p:sp>
      <p:sp>
        <p:nvSpPr>
          <p:cNvPr id="18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2012_07_19_15_03_20_494"/>
          <p:cNvPicPr/>
          <p:nvPr/>
        </p:nvPicPr>
        <p:blipFill>
          <a:blip r:embed="rId1"/>
          <a:stretch/>
        </p:blipFill>
        <p:spPr>
          <a:xfrm>
            <a:off x="719280" y="1538280"/>
            <a:ext cx="7705440" cy="4543560"/>
          </a:xfrm>
          <a:prstGeom prst="rect">
            <a:avLst/>
          </a:prstGeom>
          <a:ln w="0">
            <a:noFill/>
          </a:ln>
        </p:spPr>
      </p:pic>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Ciri khas : bifasik,perubahan mendadak dari satu fase ke fase lainnya, masing2 fase berlangsung sampai beberapa hari, dengan periode eutim yg tidak sering.</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anifestasi Perilaku </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ffffff"/>
                </a:solidFill>
                <a:latin typeface="Constantia"/>
              </a:rPr>
              <a:t>Introverted self-absorption versus uninhibited people seeking</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endiam vs banyak bicara</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udah menangis tanpa sebab vs senang bercanda</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sychomotor inertia versus restless pursuit of activities</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87"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7T04:04:37Z</dcterms:created>
  <dc:creator>ASUS</dc:creator>
  <dc:description/>
  <dc:language>en-US</dc:language>
  <cp:lastModifiedBy>ASUS</cp:lastModifiedBy>
  <dcterms:modified xsi:type="dcterms:W3CDTF">2014-02-13T04:46:27Z</dcterms:modified>
  <cp:revision>33</cp:revision>
  <dc:subject/>
  <dc:title>Siklotimia</dc:title>
</cp:coreProperties>
</file>