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0ccb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0ccb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EA2C-3A38-45EE-AB7A-BED10A3D6440}" type="slidenum"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A29F-1018-4699-9E79-9A7B1797CA90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8520-A866-4DE9-B5FD-27F501CDB05F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1FC4-EECC-4A3F-8227-2B2341BFBCDB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C92B-EA75-49D7-818D-11D17036B15B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E1BC-81B0-451E-84C7-05744533E73C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C9A4-8379-4519-AF76-58DB88AE9281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2DF-D8E6-44BB-B3D7-8177E12A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B48-9D40-471B-83D6-27841EB1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340-7EE1-4B45-955E-A46E4CBF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B96-E0A5-4140-8290-AE872609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B3B-8BBB-4D8D-8FD4-A45C2325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207E-1964-4AC0-A402-763419A7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4DA5-F529-4F1A-8D67-54C99786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CE36-848E-4FBF-A8A9-1FFE3857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8482-B307-4930-8E46-F5731269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BEE4-6485-457F-8D14-C23C9C4F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A6C0-35A2-45BE-95FE-85FFB806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197-6700-4A8D-BF18-F7AE542C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F91B-F617-4CD5-8937-E8E6ABF6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183D-88B1-4610-A40F-1B2AE63E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EE48-9A49-4297-A4BE-F5A0B5A1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394D-9684-497E-8895-0EF2E672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3EF6-72B5-429C-98DF-50AFD000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7D17-E159-4AE1-952C-59DDFE06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7ADC5-6AC2-4962-9833-20596890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0F4B-D163-45ED-877D-5CCCC395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64E6-4064-484F-9083-E7BE5C18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50A4-B2C7-4070-8EF0-EC8E74C9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EEE-C5AA-4785-A618-264F96E4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4835-E1CA-485F-AD7D-CEB0AFBC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48C7-3ACC-4178-944B-A7B7E67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46AF-1BEB-4065-8021-40ED812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FF30-EA9B-4205-B35F-9B3D343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756A5-733D-4243-A638-5D8AB2B0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2A41-F920-42FA-BBB3-7840974C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19DE-25CB-408A-833A-AA6B93CD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1DE5-2F24-4AC5-A358-8C4DE862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32FB-2857-4422-86EA-FB82167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0C97-04DB-4EA4-8BC5-6C7AAD32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84D-6355-4F57-8A3B-3A7DEC7D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04C7-EEF6-4503-9237-F58C2FCE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91DA4-E17D-4D0F-9646-2EDA8E4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1DB7-A153-4688-95AA-4D1270CD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EAA1-929A-4A12-9C28-FBC3A242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D006-9DE7-482A-9656-3BC4DF5C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971E-BC7A-4286-BC0D-A3A2FF12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5C33-1E25-469E-9BCB-EA3F217E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8F4E-1AC4-4B88-BE46-677F7667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88AE4-075B-4B12-B195-FDE8FD4E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881-D450-4792-86F2-ADAF284A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146-A05B-4BD7-A163-C3BC69A3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F0D-E81A-406C-AB04-582D77EC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4C1-95B7-4979-9EF0-CF43D07E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A80-450C-48F9-B99E-02644DE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76f5b">
                  <a:alpha val="45098"/>
                </a:srgbClr>
              </a:gs>
              <a:gs pos="100000">
                <a:srgbClr val="7e6a5c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3554b">
                  <a:alpha val="45098"/>
                </a:srgbClr>
              </a:gs>
              <a:gs pos="100000">
                <a:srgbClr val="92876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7302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9e8e5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0978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857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aea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42d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42d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342d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AF9-E048-4AB3-8970-3B0B63E70F35}" type="slidenum">
              <a:rPr b="0" lang="fr-CA" sz="1200" spc="-1" strike="noStrike">
                <a:solidFill>
                  <a:srgbClr val="342d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76f5b">
                  <a:alpha val="45098"/>
                </a:srgbClr>
              </a:gs>
              <a:gs pos="100000">
                <a:srgbClr val="7e6a5c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3554b">
                  <a:alpha val="45098"/>
                </a:srgbClr>
              </a:gs>
              <a:gs pos="100000">
                <a:srgbClr val="92876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0c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0ccb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9e8e5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0978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857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aea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c6c3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6c3b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c6c3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3F2-2DD3-4BF6-9460-794B7005A943}" type="slidenum">
              <a:rPr b="0" lang="fr-CA" sz="1200" spc="-1" strike="noStrike">
                <a:solidFill>
                  <a:srgbClr val="c6c3b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76f5b">
                  <a:alpha val="45098"/>
                </a:srgbClr>
              </a:gs>
              <a:gs pos="100000">
                <a:srgbClr val="7e6a5c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3554b">
                  <a:alpha val="45098"/>
                </a:srgbClr>
              </a:gs>
              <a:gs pos="100000">
                <a:srgbClr val="92876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0c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0ccb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9e8e5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0978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857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aea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c6c3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6c3b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c6c3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4279-DB49-4AC6-B9CC-B3658F42FC02}" type="slidenum">
              <a:rPr b="0" lang="fr-CA" sz="1200" spc="-1" strike="noStrike">
                <a:solidFill>
                  <a:srgbClr val="c6c3b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76f5b">
                  <a:alpha val="45098"/>
                </a:srgbClr>
              </a:gs>
              <a:gs pos="100000">
                <a:srgbClr val="7e6a5c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3554b">
                  <a:alpha val="45098"/>
                </a:srgbClr>
              </a:gs>
              <a:gs pos="100000">
                <a:srgbClr val="92876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7302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9e8e5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0978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857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aea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42d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42d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342d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2FC7-7F19-4A1A-9331-88CAE4183CFE}" type="slidenum">
              <a:rPr b="0" lang="fr-CA" sz="1200" spc="-1" strike="noStrike">
                <a:solidFill>
                  <a:srgbClr val="342d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77860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Dependen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Adanya suatu kebutuhan yg 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dalam 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dan berlebihan untuk diperhatikan, sehingga me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munculkan 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perilaku yg penurut dan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 terus menempel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, takut akan perpisah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imulai pada masa dewasa awal dan  pada konteks yg bervaria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Dependen</a:t>
            </a:r>
            <a:br>
              <a:rPr sz="4500"/>
            </a:b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(DSM 5)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Minimal terdapat 5  hal-hal di bawah in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esulitan dalam membuat keputusan sehari-hari tanpa mendapat sejumlah besar nasihat &amp; penentraman dari orang la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Butuh orang lain untuk memikul tanggung jawab untuk bagian besar area utama dari kehidupanny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esulitan mengekspresikan ketidaksetujuan dengan orang lain karena takut kehilangan dukungan atau persetujuan (tidak termasuk ketakutan yg realistik terhadap balas jas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iliki kesulitan memulai proyek atau melakukan sendiri berbagai hal  (lebih  karena kurangnya  kepercayaan diri terhadap kemampuan dirinya dan dalam pengambilan keputusan, dibandingkan karena kurangnya motivasi atau ener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Dependen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5 Berusaha keras memperoleh pengasuhan dan dukungan dari orang lain , sampai rela melakukan hal-hal yang tidak menyenangkan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6 . Merasa tidak nyaman atau tak berdaya saat sendirian karena takut berlebihan menjadi tidak mampu merawat dirinya sendiri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7 . Segera mencari hubungan lain sebagai sumber perawatan dan dukungan ketika hubungan dekat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berakhir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8 . Preokupasi yang tidak realistis terhadap ketakutan ditinggalkan untuk mengurus dirinya sendiri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Ggn kepribadian yang ditandai ole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a) mendorong atau membiarkan orang lain untuk mengambil sebagian keputusan penting bagi diriny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b) meletakkan kebutuhan sendiri lebih rendah daripada orang lain pada siapa ia bergantung, dan kerelaan yang tidak semestinya terhadapkeinginan mere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c) keengganan untuk mengajukan tuntutan yg layak kepada orang pada siapa ia bergant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000" y="1483920"/>
            <a:ext cx="7467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(d) perasaan tidak enak atau tidak berdaya apabila sendirian, karena ketakutan yg dibesar-besarkan tentang ketidakmampuan mrngurus diri sendir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(e) terpaku pada ketakutan akan ditinggalkan oleh orang yg dekat dengannya dan ditinggalkan agar mengurus diri sendir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(f) keterbatasan kemampuan untuk membuat keputusan sehari-hari tanpa mendapat nasihat yg berlebihan dan diyakinkan oleh orang l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Untuk diagnosis  dibutuhkan paling sedikit 3 dari diat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Dependen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Ciri lainnya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tidak percaya diri disertai sikap keraguan dan merusak diri sendi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Komplikasi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gangguan mood, gangguan ansietas, gangguan penyesuaian,fobia sosial,statsu sosioekonomi yg rendah, fungsi marital dan keluarga yg bur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Komorbiditas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 beresiko tinggi untuk mengalami depresi  mayor, gangguan ansietas, dan gangguan penyesuai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Gangguan yg paling sering menyertai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histrionik, cemas menghindar, dan amb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Sering menyebabkan terjadinya hendaya ringan pada fungsi hubungan interpersonal dan pekerjaan jika kemandirian diperluk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Frekuensi : pria=wani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Epidemiologi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gangguan kepribadian yg paling sering ditemuk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Faktor predisposisi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 penyakit fisik kronik atau gangguan cemas perpisa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Dependen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48428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Diagnosis B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Dibedakan dari ketergantungan yg terdapat pada gangguan mood, gangguan panik, dan agorafobia; merupakan akibat dari kondisi medis um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Borderline 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 pada ambang terdapat ketidakstabilan,hubungan yg buruk dan reaksi kemarahan akibat ditinggalkan,perasaan kosong, dan tuntutan berlawanan dengan kepribadian dependen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menuntut penentraman dan bersikap patu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Histrionic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i="1" lang="id-ID" sz="2400" spc="-1" strike="noStrike">
                <a:solidFill>
                  <a:srgbClr val="504937"/>
                </a:solidFill>
                <a:latin typeface="Calibri"/>
              </a:rPr>
              <a:t>gregarious flamboyance 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disertai tuntutan akan perhatian yg terus mener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Avoidant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isolasi sosial karena ketakutan akan penilaian negatif 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berlawanan dengan kepribadian dependen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perilaku patuh dan bergant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Obsesif Kompulsif (DSM 5)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ola yang meresap berupa preokupasi  terhadap keteraturan, perfeksionisme, dan pengendalian mental dan interpersonal, dengan mengorbankan fleksibilitas, keterbukaan, dan efisiensi, dimulai pada usia dewasa awal dan ditemukan dalam berbagai kontek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Minimal  4 dari hal-hal di bawah ini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1 . Preokupasi dengan rincian , peraturan , daftar, urutan , organisasi , atau jadwal sampai kehilangan titik utama dari aktivitas tersebut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2 . Menunjukkan perfeksionisme yang mengganggu penyelesaian tugas ( misalnya , tidak dapat menyelesaikan proyek karena standar yang  terlalu ketat yang mereka tetapkan sendiri tidak terpenuhi )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3 . Setia berlebihan terhadap kerja dan produktivitas dengan mengesampingkan kegiatan rekreasi dan persahabatan ( tidak dapat dijelaskan dengan  kebutuhan ekonomi yang jelas) 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4 . Terlalu mengikuti kata hati, teliti , dan tidak fleksibel tentang masalah moralitas , etika , atau  nilai ( tidak dapat dijelaskan oleh identifikasi budaya atau agama )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5 . Tidak dapat membuang benda yang usang atau tak berharga  meskipun tidak ada nilai sentimentalnya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6 . Enggan untuk mendelegasikan tugas atau bekerja dengan orang lain kecuali mereka betul-betul mengikuti caranya melakukan sesuatu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7 . Mengadopsi gaya belanja kikir terhadap dirinya sendiri dan orang lain , uang dipandang sebagai sesuatu yang harus ditimbun untuk bencana di masa depan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8 . Menunjukkan kekakuan dan keras kepala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Cluster C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Gangguan kepribadian Cemas Menghin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Gangguan kepribadian Depe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Gangguan kepribadian Obsesif Kompuls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Gangguan Kepribadian Obsesif Kompulsif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Ciri-ciri lainnya termasu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esulitan membuat keputusan jika tidak ada aturan yg ketat atau prosedur  tetap yg mendikte kerja yg ben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emarahan dan frustasi jika tidak mampu untuk mengontrol lingkungan fisik atau interpersonal (kemarahan biasanya tidak diekspresikan secara langsun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Perhatian / kepedulian yg berlebihan terhadap statusnya dalam hubungan dominan-submi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Ekspresi emosi yg terkendali dan terbatas, pribadi yg pendi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ualitas hubungan sehari-hari yg formal dan ser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Gangguan kepribadian yg ditandai ole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a) perasaan ragu dan hati-hati yang berlebi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b) keterpakuan pada rincian, peraturan, daftar, perintah, organisasi atau jadw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c) perfeksionisme yg menghambat penyelesaian tu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d)ketelitian yg berlebihan, terlalu hati-hati, dan kecenderunganyg tidak semestinya untuk menciptakan kesenangan dan hubungan interpersonal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000" y="1413000"/>
            <a:ext cx="746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e) keterpakuan dan keterikatan yg berlebihan pada kebiasaan so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f) kaku dan keras kep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g) pemaksaan secara tidak masuk akal agar orang lain melakukan sesuatu menurut caranya, atau keengganan yg tidak masuk akal untuk mengizinkan orang lain melakukan sesu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h) mencampuradukkan pikiran atau dorongan yg bersifat memaksa atau yg tidak disuk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Gangguan Kepribadian Obsesif Kompulsif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Faktor predisposisi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fungsi serotonergik yg tinggi di otak berkaitan dengan ansietas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mendukung hipotesis bahwa obsesi dan kompulsi mewakili mekanisme psikologis dan perilaku mencerminkan ansietas yg mendasari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Komplikasi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stress dan kesulitan saat berhadapan dengan situasi baru yg membutuhkan fleksibilitas dan kompromi;infark miokard (akibat dari </a:t>
            </a:r>
            <a:r>
              <a:rPr b="0" i="1" lang="id-ID" sz="2800" spc="-1" strike="noStrike">
                <a:solidFill>
                  <a:srgbClr val="504937"/>
                </a:solidFill>
                <a:latin typeface="Calibri"/>
              </a:rPr>
              <a:t>time urgency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, hostilitas, dan daya sa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Gangguan Kepribadian Obsesif Kompulsif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Komorbiditas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beresiko tinggi untuk mengalami depresi mayor dan gangguan ansietas serta gangguan obsesif-kompuls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Hendaya berat pada fungsi sosial dan pekerj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Frekuensi : pria 2x lebih tinggi dibanding wani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Epidemiologi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angka prevalensi 1% dari populasi umum dan 3-10 % dari pasien psikiatri rawat ja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Beberapa penelitian memperlihatkan adanya agregasi famil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Gangguan Kepribadian Obsesif Kompulsif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Diagnosis Ban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Dibedakan dengan gangguan obsesif-kompulsif berdasarkan obsesi  dan kompulsi sebenarnya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ego distonik.sedangkan gangguan kepribadian obsesif kompulsif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ego sinton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Skizoid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ada skizoid kurangnya kapasitas keintiman dan isolasi sosial akibat dari tidak ada kelekatan emosi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berlawanan dengan ketaatan bekerja dan tidak nyaman dengan emosi yg dirasak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Antisosial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erilaku antisosial dan kriminalitas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berlawanan dengan hipermoralitas pada kepribadian obsesi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Narsissistik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erasaan kebesaran, pembesaran diri, eksibisionisme, dan ketakutan akan mempunyai ketidaksempurnaan yg tersembunyi dan kekurangan akan terlih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Cemas Menghindar</a:t>
            </a:r>
            <a:br>
              <a:rPr sz="5000"/>
            </a:b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(DSM 5 )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644640"/>
            <a:ext cx="822960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Tanda khas : pola yg meresap berupa hambatan dalam hubungan sosial, perasaan tidak cakap &amp; hipersensitivitas terhadap evaluasi negat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dimulai pada masa dewasa awal dan tampak dalam berbagai kont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Cemas Menghindar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Minimal terdapat 4 dari hal-hal di bawah ini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ghindari kegiatan kerja yang melibatkan kontak interpersonal yang signifikan karena ketakutan kritik, ketidaksetujuan, atau penolaka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idak mau terlibat dengan orang-orang kecuali ada kepastian akan disuka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unjukkan menahan diri dalam hubungan intim karena takut dipermalukan atau ditertawaka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4. Preokupasi  bahwa dirinya  dikritik atau ditolak dalam situasi sosi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5. Terhambat dalam situasi interpersonal yang baru karena perasaan tidak mamp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6. Memandang dirinya tidak layak secara sosial, secara pribadi tidak menarik, atau lebih rendah daripada orang l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7. Enggan secara  berlebihan untuk mengambil risiko pribadi atau untuk terlibat dalam setiap kegiatan baru karena mereka dapat membuktikan memalukan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Ggn kepribadian yg ditandai denga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504937"/>
              </a:buClr>
              <a:buSzPct val="95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perasaan tegang dan takut yg menetap dan pervasif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504937"/>
              </a:buClr>
              <a:buSzPct val="95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merasa dirinya tak mampu, tidak menarik atau lebih rendah dari org lain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504937"/>
              </a:buClr>
              <a:buSzPct val="95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kekhawatiran yg berlebihan terhadap kritik dan penolakan dlm situasi sosial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504937"/>
              </a:buClr>
              <a:buSzPct val="95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keengganan untuk terlibat dengan orang kecuali merasa yakin akan disukai 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E. P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embatasan gaya hidup karena alasan keamanan fis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F. M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enghindari aktivitas sosial atau pekerjaan yg banyak melibatkan kontak interpersonal karena takut dikritik, tidak didukung atau ditol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Untuk diagnosis  dibutuhkan paling sedikit 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dari diat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Cemas Menghindar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Komorbiditas : beresiko tinggi mengalami gangguan mood dan ansietas (terutama fobia sosial  menyeluruh); gangguan yang paling sering menyertai 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 skizotipal, skizoid, paranoid, dependen, dan amba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Menyebabkan hendaya fungsi pekerjaan dan sosial yang bermakn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Frekuensi : wanita = p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revalensi di masyarakat umum 0,5 – 1%, pasien psikiatri rawat jalan 1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aling sering dimulai pada masa kanak dengan rasa malu dan takut terhadap orang asing dan situasi bar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Menjelek-jelekan penyakit yg diderita dan sifat malu di masa kanak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faktor predisposis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Cemas Menghindar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Diagnosis Ban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Sulit dibedakan dengan fobia sosial</a:t>
            </a:r>
            <a:r>
              <a:rPr b="0" lang="id-ID" sz="21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dianggap sebagai bentuk alternatif fobia sosial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Gangguan panik dengan agorafobia</a:t>
            </a:r>
            <a:r>
              <a:rPr b="0" lang="id-ID" sz="21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penghindaran terjadi setelah onset serangan pani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Skizotipal dan Skizoid (tidakditemukan isolasi sosial disertai dengan keinginan untuk mempunyai hubungan sosia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Paranoid</a:t>
            </a:r>
            <a:r>
              <a:rPr b="0" lang="id-ID" sz="21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pada paranoid terdapat perilaku berhati-hati, preokupasi dengan maksud tersembunyi, dan penjelasan konspiratori terhadap peristiwa yg tidak berbahay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Dependent</a:t>
            </a:r>
            <a:r>
              <a:rPr b="0" lang="id-ID" sz="21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berfokus pada keinginan untuk dirawat dibandingkan ketakutan terhadap penilaian negati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2:38:27Z</dcterms:created>
  <dc:creator>prita</dc:creator>
  <dc:description/>
  <dc:language>en-US</dc:language>
  <cp:lastModifiedBy>Hp Mini 110</cp:lastModifiedBy>
  <dcterms:modified xsi:type="dcterms:W3CDTF">2014-02-07T01:06:36Z</dcterms:modified>
  <cp:revision>55</cp:revision>
  <dc:subject/>
  <dc:title>PRESENTATION  NAME</dc:title>
</cp:coreProperties>
</file>