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0ccb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0ccb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5B3D-0260-4B44-8E2F-840B549C9B42}" type="slidenum">
              <a:rPr b="0" lang="id-ID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866B-E7C4-4EB0-80CC-697A2BFBD27B}" type="slidenum">
              <a:rPr b="0" lang="id-ID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42C6-381C-4CCA-B833-EFE7BC1B263B}" type="slidenum">
              <a:rPr b="0" lang="id-ID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24C1-1A22-4EEA-A5FF-047F3D90354F}" type="slidenum">
              <a:rPr b="0" lang="id-ID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933C-6262-4CFF-BEEE-D8B6F3DFB60E}" type="slidenum">
              <a:rPr b="0" lang="id-ID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C795-6CDA-4F29-A568-A833C1006285}" type="slidenum">
              <a:rPr b="0" lang="id-ID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523F-1D7D-4F9A-BF0C-9BAA5046046C}" type="slidenum">
              <a:rPr b="0" lang="id-ID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CA38-41A5-4587-8DA5-ACCA9F14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2E9E-FAB6-43FA-BBD7-DA92E186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01F6-8B0E-4032-A843-52C3E1B7C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3E10-4855-4493-ADD0-A9EFC4928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E23C-F953-4BE9-AFE1-F99C79E66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FAE1-916F-4CB9-AB3A-1A8EB6B5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DCEC-B0D0-499D-B261-8E01631E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B37B-AFC1-4AD6-8E42-47042846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6820-95EC-41BB-BDED-7E60AB70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5453-68D6-4615-BBEC-E07612A3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1012-2A63-48B2-B7A6-6556A4CD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9B93-11D4-4C81-BF34-6BA1FB37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564C-4105-4B66-9C0D-82376526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C795-9D48-4E64-9AB6-530F3E7B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FE0A-5C71-4494-8135-63297CEA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4F68-5D34-4D05-965E-B92E8B1D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8D38-7807-4F7C-9438-AE9C6D8FF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8C622-AD89-4FB5-A8ED-A80D0B2B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73501-C908-4E91-90F8-0A25A27B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66694-3526-4ABF-A059-9066CBDB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B061E-3867-48F5-95FF-4C61A3C1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D1A08-0295-4F78-B2A6-B315CC7F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6DB8-92D2-49A3-B1A6-FD9636D6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C8839-CF2A-4E0A-B851-8CA757F7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4B075-6B09-49CC-AEDB-85538704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54646-B8C6-4F7F-B691-7744517A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95F1C-31C9-4AC2-81BC-13F82547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9338F-25B1-42D4-B36D-B7AA1693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A6FE5-EBCB-4DC6-B9E0-BA858910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3C627-AB5A-4210-8DF4-AEC5A822A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0B471-EF45-4DDE-9F96-6FE52F8B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A9C99-CE5E-4848-A38C-E16DF586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6DC7B-CE18-499E-87DF-47661DC6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837D-02CB-4D10-AA3A-2F4DB798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3AB24-3C9D-448B-A377-D14D47A5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A63C2-318A-4FD0-97F0-C2654B0F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B2F81-0E92-4895-8F4C-78E67889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5F337-6068-4A6F-8EF9-350CF3CD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2CC9A-90DF-4346-AC5F-B47360DA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11C72-5713-4934-9685-ABD59B45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F0B3B-8A3C-4FAD-ADD0-06AB0BB9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89F33-32A1-4D74-BC00-B4EC1CC75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DFEB1-E652-4F68-BD83-62A787C0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D4CB-455C-435D-8D8E-DD4BEE5F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4A1D-3BB9-4E3C-A90A-0C6469F9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614B-3CAC-45DA-8E6D-7FE13944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5A9F-CD3A-4053-92D1-98BFCA18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296D-F3C0-4C25-ADD3-A5B16F48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76f5b">
                  <a:alpha val="45098"/>
                </a:srgbClr>
              </a:gs>
              <a:gs pos="100000">
                <a:srgbClr val="7e6a5c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3554b">
                  <a:alpha val="45098"/>
                </a:srgbClr>
              </a:gs>
              <a:gs pos="100000">
                <a:srgbClr val="92876b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7302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9e8e5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a0978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857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aeafa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342d2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42d2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342d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B590-9BAA-4E49-ABED-F858DE37428B}" type="slidenum">
              <a:rPr b="0" lang="fr-CA" sz="1200" spc="-1" strike="noStrike">
                <a:solidFill>
                  <a:srgbClr val="342d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76f5b">
                  <a:alpha val="45098"/>
                </a:srgbClr>
              </a:gs>
              <a:gs pos="100000">
                <a:srgbClr val="7e6a5c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3554b">
                  <a:alpha val="45098"/>
                </a:srgbClr>
              </a:gs>
              <a:gs pos="100000">
                <a:srgbClr val="92876b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0ccb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0ccb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9e8e5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a0978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857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aeafa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c6c3b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c6c3b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c6c3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E37D-736C-4D56-A974-75EBB8517A99}" type="slidenum">
              <a:rPr b="0" lang="fr-CA" sz="1200" spc="-1" strike="noStrike">
                <a:solidFill>
                  <a:srgbClr val="c6c3b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76f5b">
                  <a:alpha val="45098"/>
                </a:srgbClr>
              </a:gs>
              <a:gs pos="100000">
                <a:srgbClr val="7e6a5c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3554b">
                  <a:alpha val="45098"/>
                </a:srgbClr>
              </a:gs>
              <a:gs pos="100000">
                <a:srgbClr val="92876b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0ccb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0ccb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9e8e5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a0978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857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aeafa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c6c3b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c6c3b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c6c3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94CE-B627-4E32-B5C9-F13932CA61FA}" type="slidenum">
              <a:rPr b="0" lang="fr-CA" sz="1200" spc="-1" strike="noStrike">
                <a:solidFill>
                  <a:srgbClr val="c6c3b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76f5b">
                  <a:alpha val="45098"/>
                </a:srgbClr>
              </a:gs>
              <a:gs pos="100000">
                <a:srgbClr val="7e6a5c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3554b">
                  <a:alpha val="45098"/>
                </a:srgbClr>
              </a:gs>
              <a:gs pos="100000">
                <a:srgbClr val="92876b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7302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9e8e5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a0978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857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aeafa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342d2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42d2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342d2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0774-6E39-4FEC-A5D5-A683B449E011}" type="slidenum">
              <a:rPr b="0" lang="fr-CA" sz="1200" spc="-1" strike="noStrike">
                <a:solidFill>
                  <a:srgbClr val="342d2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60480" y="1255680"/>
            <a:ext cx="8778600" cy="24382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0" spc="-1" strike="noStrike">
                <a:solidFill>
                  <a:srgbClr val="353025"/>
                </a:solidFill>
                <a:latin typeface="Calibri"/>
              </a:rPr>
              <a:t>Dependen</a:t>
            </a: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04937"/>
                </a:solidFill>
                <a:latin typeface="Calibri"/>
              </a:rPr>
              <a:t>Adanya suatu kebutuhan yg </a:t>
            </a:r>
            <a:r>
              <a:rPr b="0" lang="id-ID" sz="2600" spc="-1" strike="noStrike">
                <a:solidFill>
                  <a:srgbClr val="504937"/>
                </a:solidFill>
                <a:latin typeface="Calibri"/>
              </a:rPr>
              <a:t>dalam </a:t>
            </a:r>
            <a:r>
              <a:rPr b="0" lang="en-US" sz="2600" spc="-1" strike="noStrike">
                <a:solidFill>
                  <a:srgbClr val="504937"/>
                </a:solidFill>
                <a:latin typeface="Calibri"/>
              </a:rPr>
              <a:t>dan berlebihan untuk diperhatikan, sehingga me</a:t>
            </a:r>
            <a:r>
              <a:rPr b="0" lang="id-ID" sz="2600" spc="-1" strike="noStrike">
                <a:solidFill>
                  <a:srgbClr val="504937"/>
                </a:solidFill>
                <a:latin typeface="Calibri"/>
              </a:rPr>
              <a:t>munculkan </a:t>
            </a:r>
            <a:r>
              <a:rPr b="0" lang="en-US" sz="2600" spc="-1" strike="noStrike">
                <a:solidFill>
                  <a:srgbClr val="504937"/>
                </a:solidFill>
                <a:latin typeface="Calibri"/>
              </a:rPr>
              <a:t>perilaku yg penurut dan</a:t>
            </a:r>
            <a:r>
              <a:rPr b="0" lang="id-ID" sz="2600" spc="-1" strike="noStrike">
                <a:solidFill>
                  <a:srgbClr val="504937"/>
                </a:solidFill>
                <a:latin typeface="Calibri"/>
              </a:rPr>
              <a:t> terus menempel</a:t>
            </a:r>
            <a:r>
              <a:rPr b="0" lang="en-US" sz="2600" spc="-1" strike="noStrike">
                <a:solidFill>
                  <a:srgbClr val="504937"/>
                </a:solidFill>
                <a:latin typeface="Calibri"/>
              </a:rPr>
              <a:t>, takut akan perpisah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504937"/>
                </a:solidFill>
                <a:latin typeface="Calibri"/>
              </a:rPr>
              <a:t>D</a:t>
            </a:r>
            <a:r>
              <a:rPr b="0" lang="en-US" sz="2600" spc="-1" strike="noStrike">
                <a:solidFill>
                  <a:srgbClr val="504937"/>
                </a:solidFill>
                <a:latin typeface="Calibri"/>
              </a:rPr>
              <a:t>imulai pada masa dewasa awal dan  pada konteks yg bervarias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500" spc="-1" strike="noStrike">
                <a:solidFill>
                  <a:srgbClr val="353025"/>
                </a:solidFill>
                <a:latin typeface="Calibri"/>
              </a:rPr>
              <a:t>Dependen</a:t>
            </a:r>
            <a:br>
              <a:rPr sz="4500"/>
            </a:br>
            <a:r>
              <a:rPr b="0" lang="id-ID" sz="4500" spc="-1" strike="noStrike">
                <a:solidFill>
                  <a:srgbClr val="353025"/>
                </a:solidFill>
                <a:latin typeface="Calibri"/>
              </a:rPr>
              <a:t>(DSM 5)</a:t>
            </a:r>
            <a:endParaRPr b="0" lang="en-US" sz="45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504937"/>
                </a:solidFill>
                <a:latin typeface="Calibri"/>
              </a:rPr>
              <a:t>Minimal terdapat 5  hal-hal di bawah in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85776d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504937"/>
                </a:solidFill>
                <a:latin typeface="Calibri"/>
              </a:rPr>
              <a:t>Kesulitan dalam membuat keputusan sehari-hari tanpa mendapat sejumlah besar nasihat &amp; penentraman dari orang la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85776d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504937"/>
                </a:solidFill>
                <a:latin typeface="Calibri"/>
              </a:rPr>
              <a:t>Butuh orang lain untuk memikul tanggung jawab untuk bagian besar area utama dari kehidupanny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85776d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504937"/>
                </a:solidFill>
                <a:latin typeface="Calibri"/>
              </a:rPr>
              <a:t>Kesulitan mengekspresikan ketidaksetujuan dengan orang lain karena takut kehilangan dukungan atau persetujuan (tidak termasuk ketakutan yg realistik terhadap balas jasa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85776d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miliki kesulitan memulai proyek atau melakukan sendiri berbagai hal  (lebih  karena kurangnya  kepercayaan diri terhadap kemampuan dirinya dan dalam pengambilan keputusan, dibandingkan karena kurangnya motivasi atau energ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0" spc="-1" strike="noStrike">
                <a:solidFill>
                  <a:srgbClr val="353025"/>
                </a:solidFill>
                <a:latin typeface="Calibri"/>
              </a:rPr>
              <a:t>Dependen</a:t>
            </a: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85776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5 Berusaha keras memperoleh pengasuhan dan dukungan dari orang lain , sampai rela melakukan hal-hal yang tidak menyenangkan .</a:t>
            </a:r>
            <a:br>
              <a:rPr sz="2600"/>
            </a:b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6 . Merasa tidak nyaman atau tak berdaya saat sendirian karena takut berlebihan menjadi tidak mampu merawat dirinya sendiri .</a:t>
            </a:r>
            <a:br>
              <a:rPr sz="2600"/>
            </a:b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7 . Segera mencari hubungan lain sebagai sumber perawatan dan dukungan ketika hubungan dekat</a:t>
            </a:r>
            <a:br>
              <a:rPr sz="2600"/>
            </a:b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berakhir .</a:t>
            </a:r>
            <a:br>
              <a:rPr sz="2600"/>
            </a:b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8 . Preokupasi yang tidak realistis terhadap ketakutan ditinggalkan untuk mengurus dirinya sendiri .</a:t>
            </a:r>
            <a:br>
              <a:rPr sz="2600"/>
            </a:b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53025"/>
                </a:solidFill>
                <a:latin typeface="Calibri"/>
              </a:rPr>
              <a:t>PPDGJ III</a:t>
            </a:r>
            <a:endParaRPr b="0" lang="en-US" sz="4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4937"/>
                </a:solidFill>
                <a:latin typeface="Calibri"/>
              </a:rPr>
              <a:t>Ggn kepribadian yang ditandai ole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4937"/>
                </a:solidFill>
                <a:latin typeface="Calibri"/>
              </a:rPr>
              <a:t>(a) mendorong atau membiarkan orang lain untuk mengambil sebagian keputusan penting bagi diriny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4937"/>
                </a:solidFill>
                <a:latin typeface="Calibri"/>
              </a:rPr>
              <a:t>(b) meletakkan kebutuhan sendiri lebih rendah daripada orang lain pada siapa ia bergantung, dan kerelaan yang tidak semestinya terhadapkeinginan mere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4937"/>
                </a:solidFill>
                <a:latin typeface="Calibri"/>
              </a:rPr>
              <a:t>(c) keengganan untuk mengajukan tuntutan yg layak kepada orang pada siapa ia bergant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53025"/>
                </a:solidFill>
                <a:latin typeface="Calibri"/>
              </a:rPr>
              <a:t>PPDGJ III</a:t>
            </a:r>
            <a:endParaRPr b="0" lang="en-US" sz="4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8000" y="1483920"/>
            <a:ext cx="74674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04937"/>
                </a:solidFill>
                <a:latin typeface="Calibri"/>
              </a:rPr>
              <a:t>(d) perasaan tidak enak atau tidak berdaya apabila sendirian, karena ketakutan yg dibesar-besarkan tentang ketidakmampuan mrngurus diri sendir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04937"/>
                </a:solidFill>
                <a:latin typeface="Calibri"/>
              </a:rPr>
              <a:t>(e) terpaku pada ketakutan akan ditinggalkan oleh orang yg dekat dengannya dan ditinggalkan agar mengurus diri sendir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04937"/>
                </a:solidFill>
                <a:latin typeface="Calibri"/>
              </a:rPr>
              <a:t>(f) keterbatasan kemampuan untuk membuat keputusan sehari-hari tanpa mendapat nasihat yg berlebihan dan diyakinkan oleh orang la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504937"/>
                </a:solidFill>
                <a:latin typeface="Calibri"/>
              </a:rPr>
              <a:t>Untuk diagnosis  dibutuhkan paling sedikit 3 dari diat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0" spc="-1" strike="noStrike">
                <a:solidFill>
                  <a:srgbClr val="353025"/>
                </a:solidFill>
                <a:latin typeface="Calibri"/>
              </a:rPr>
              <a:t>Dependen</a:t>
            </a: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504937"/>
                </a:solidFill>
                <a:latin typeface="Calibri"/>
              </a:rPr>
              <a:t>Ciri lainnya</a:t>
            </a:r>
            <a:r>
              <a:rPr b="0" lang="id-ID" sz="20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000" spc="-1" strike="noStrike">
                <a:solidFill>
                  <a:srgbClr val="504937"/>
                </a:solidFill>
                <a:latin typeface="Calibri"/>
              </a:rPr>
              <a:t>tidak percaya diri disertai sikap keraguan dan merusak diri sendi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504937"/>
                </a:solidFill>
                <a:latin typeface="Calibri"/>
              </a:rPr>
              <a:t>Komplikasi</a:t>
            </a:r>
            <a:r>
              <a:rPr b="0" lang="id-ID" sz="20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000" spc="-1" strike="noStrike">
                <a:solidFill>
                  <a:srgbClr val="504937"/>
                </a:solidFill>
                <a:latin typeface="Calibri"/>
              </a:rPr>
              <a:t>gangguan mood, gangguan ansietas, gangguan penyesuaian,fobia sosial,statsu sosioekonomi yg rendah, fungsi marital dan keluarga yg buru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504937"/>
                </a:solidFill>
                <a:latin typeface="Calibri"/>
              </a:rPr>
              <a:t>Komorbiditas</a:t>
            </a:r>
            <a:r>
              <a:rPr b="0" lang="id-ID" sz="20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000" spc="-1" strike="noStrike">
                <a:solidFill>
                  <a:srgbClr val="504937"/>
                </a:solidFill>
                <a:latin typeface="Calibri"/>
              </a:rPr>
              <a:t> beresiko tinggi untuk mengalami depresi  mayor, gangguan ansietas, dan gangguan penyesuai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504937"/>
                </a:solidFill>
                <a:latin typeface="Calibri"/>
              </a:rPr>
              <a:t>Gangguan yg paling sering menyertai</a:t>
            </a:r>
            <a:r>
              <a:rPr b="0" lang="id-ID" sz="20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000" spc="-1" strike="noStrike">
                <a:solidFill>
                  <a:srgbClr val="504937"/>
                </a:solidFill>
                <a:latin typeface="Calibri"/>
              </a:rPr>
              <a:t>histrionik, cemas menghindar, dan amba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504937"/>
                </a:solidFill>
                <a:latin typeface="Calibri"/>
              </a:rPr>
              <a:t>Sering menyebabkan terjadinya hendaya ringan pada fungsi hubungan interpersonal dan pekerjaan jika kemandirian diperluk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504937"/>
                </a:solidFill>
                <a:latin typeface="Calibri"/>
              </a:rPr>
              <a:t>Frekuensi : pria=wanit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504937"/>
                </a:solidFill>
                <a:latin typeface="Calibri"/>
              </a:rPr>
              <a:t>Epidemiologi</a:t>
            </a:r>
            <a:r>
              <a:rPr b="0" lang="id-ID" sz="20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000" spc="-1" strike="noStrike">
                <a:solidFill>
                  <a:srgbClr val="504937"/>
                </a:solidFill>
                <a:latin typeface="Calibri"/>
              </a:rPr>
              <a:t>gangguan kepribadian yg paling sering ditemuk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504937"/>
                </a:solidFill>
                <a:latin typeface="Calibri"/>
              </a:rPr>
              <a:t>Faktor predisposisi</a:t>
            </a:r>
            <a:r>
              <a:rPr b="0" lang="id-ID" sz="20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000" spc="-1" strike="noStrike">
                <a:solidFill>
                  <a:srgbClr val="504937"/>
                </a:solidFill>
                <a:latin typeface="Calibri"/>
              </a:rPr>
              <a:t> penyakit fisik kronik atau gangguan cemas perpisah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0" spc="-1" strike="noStrike">
                <a:solidFill>
                  <a:srgbClr val="353025"/>
                </a:solidFill>
                <a:latin typeface="Calibri"/>
              </a:rPr>
              <a:t>Dependen</a:t>
            </a: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8360" y="148428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504937"/>
                </a:solidFill>
                <a:latin typeface="Calibri"/>
              </a:rPr>
              <a:t>Diagnosis Ba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85776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504937"/>
                </a:solidFill>
                <a:latin typeface="Calibri"/>
              </a:rPr>
              <a:t>Dibedakan dari ketergantungan yg terdapat pada gangguan mood, gangguan panik, dan agorafobia; merupakan akibat dari kondisi medis umu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85776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504937"/>
                </a:solidFill>
                <a:latin typeface="Calibri"/>
              </a:rPr>
              <a:t>Borderline </a:t>
            </a:r>
            <a:r>
              <a:rPr b="0" lang="id-ID" sz="24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400" spc="-1" strike="noStrike">
                <a:solidFill>
                  <a:srgbClr val="504937"/>
                </a:solidFill>
                <a:latin typeface="Calibri"/>
              </a:rPr>
              <a:t> pada ambang terdapat ketidakstabilan,hubungan yg buruk dan reaksi kemarahan akibat ditinggalkan,perasaan kosong, dan tuntutan berlawanan dengan kepribadian dependen</a:t>
            </a:r>
            <a:r>
              <a:rPr b="0" lang="id-ID" sz="24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400" spc="-1" strike="noStrike">
                <a:solidFill>
                  <a:srgbClr val="504937"/>
                </a:solidFill>
                <a:latin typeface="Calibri"/>
              </a:rPr>
              <a:t>menuntut penentraman dan bersikap patu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85776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504937"/>
                </a:solidFill>
                <a:latin typeface="Calibri"/>
              </a:rPr>
              <a:t>Histrionic</a:t>
            </a:r>
            <a:r>
              <a:rPr b="0" lang="id-ID" sz="24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i="1" lang="id-ID" sz="2400" spc="-1" strike="noStrike">
                <a:solidFill>
                  <a:srgbClr val="504937"/>
                </a:solidFill>
                <a:latin typeface="Calibri"/>
              </a:rPr>
              <a:t>gregarious flamboyance </a:t>
            </a:r>
            <a:r>
              <a:rPr b="0" lang="id-ID" sz="2400" spc="-1" strike="noStrike">
                <a:solidFill>
                  <a:srgbClr val="504937"/>
                </a:solidFill>
                <a:latin typeface="Calibri"/>
              </a:rPr>
              <a:t>disertai tuntutan akan perhatian yg terus meneru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85776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504937"/>
                </a:solidFill>
                <a:latin typeface="Calibri"/>
              </a:rPr>
              <a:t>Avoidant</a:t>
            </a:r>
            <a:r>
              <a:rPr b="0" lang="id-ID" sz="24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400" spc="-1" strike="noStrike">
                <a:solidFill>
                  <a:srgbClr val="504937"/>
                </a:solidFill>
                <a:latin typeface="Calibri"/>
              </a:rPr>
              <a:t>isolasi sosial karena ketakutan akan penilaian negatif </a:t>
            </a:r>
            <a:r>
              <a:rPr b="0" lang="id-ID" sz="24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400" spc="-1" strike="noStrike">
                <a:solidFill>
                  <a:srgbClr val="504937"/>
                </a:solidFill>
                <a:latin typeface="Calibri"/>
              </a:rPr>
              <a:t>berlawanan dengan kepribadian dependen</a:t>
            </a:r>
            <a:r>
              <a:rPr b="0" lang="id-ID" sz="24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400" spc="-1" strike="noStrike">
                <a:solidFill>
                  <a:srgbClr val="504937"/>
                </a:solidFill>
                <a:latin typeface="Calibri"/>
              </a:rPr>
              <a:t>perilaku patuh dan bergant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0" spc="-1" strike="noStrike">
                <a:solidFill>
                  <a:srgbClr val="353025"/>
                </a:solidFill>
                <a:latin typeface="Calibri"/>
              </a:rPr>
              <a:t>Obsesif Kompulsif (DSM 5)</a:t>
            </a: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68360" y="220464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504937"/>
                </a:solidFill>
                <a:latin typeface="Calibri"/>
              </a:rPr>
              <a:t>Pola yang meresap berupa preokupasi  terhadap keteraturan, perfeksionisme, dan pengendalian mental dan interpersonal, dengan mengorbankan fleksibilitas, keterbukaan, dan efisiensi, dimulai pada usia dewasa awal dan ditemukan dalam berbagai kontek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504937"/>
                </a:solidFill>
                <a:latin typeface="Calibri"/>
              </a:rPr>
              <a:t>Minimal  4 dari hal-hal di bawah ini 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1 . Preokupasi dengan rincian , peraturan , daftar, urutan , organisasi , atau jadwal sampai kehilangan titik utama dari aktivitas tersebut.</a:t>
            </a:r>
            <a:br>
              <a:rPr sz="2600"/>
            </a:b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2 . Menunjukkan perfeksionisme yang mengganggu penyelesaian tugas ( misalnya , tidak dapat menyelesaikan proyek karena standar yang  terlalu ketat yang mereka tetapkan sendiri tidak terpenuhi ) .</a:t>
            </a:r>
            <a:br>
              <a:rPr sz="2600"/>
            </a:b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3 . Setia berlebihan terhadap kerja dan produktivitas dengan mengesampingkan kegiatan rekreasi dan persahabatan ( tidak dapat dijelaskan dengan  kebutuhan ekonomi yang jelas) 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5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4 . Terlalu mengikuti kata hati, teliti , dan tidak fleksibel tentang masalah moralitas , etika , atau  nilai ( tidak dapat dijelaskan oleh identifikasi budaya atau agama ) .</a:t>
            </a:r>
            <a:br>
              <a:rPr sz="2600"/>
            </a:b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5 . Tidak dapat membuang benda yang usang atau tak berharga  meskipun tidak ada nilai sentimentalnya.</a:t>
            </a:r>
            <a:br>
              <a:rPr sz="2600"/>
            </a:b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6 . Enggan untuk mendelegasikan tugas atau bekerja dengan orang lain kecuali mereka betul-betul mengikuti caranya melakukan sesuatu .</a:t>
            </a:r>
            <a:br>
              <a:rPr sz="2600"/>
            </a:b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7 . Mengadopsi gaya belanja kikir terhadap dirinya sendiri dan orang lain , uang dipandang sebagai sesuatu yang harus ditimbun untuk bencana di masa depan .</a:t>
            </a:r>
            <a:br>
              <a:rPr sz="2600"/>
            </a:b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8 . Menunjukkan kekakuan dan keras kepala .</a:t>
            </a:r>
            <a:br>
              <a:rPr sz="2600"/>
            </a:br>
            <a:r>
              <a:rPr b="0" lang="id-ID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0" spc="-1" strike="noStrike">
                <a:solidFill>
                  <a:srgbClr val="353025"/>
                </a:solidFill>
                <a:latin typeface="Calibri"/>
              </a:rPr>
              <a:t>Cluster C</a:t>
            </a: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504937"/>
                </a:solidFill>
                <a:latin typeface="Calibri"/>
              </a:rPr>
              <a:t>Gangguan kepribadian Cemas Menghind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504937"/>
                </a:solidFill>
                <a:latin typeface="Calibri"/>
              </a:rPr>
              <a:t>Gangguan kepribadian Depen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504937"/>
                </a:solidFill>
                <a:latin typeface="Calibri"/>
              </a:rPr>
              <a:t>Gangguan kepribadian Obsesif Kompulsi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500" spc="-1" strike="noStrike">
                <a:solidFill>
                  <a:srgbClr val="353025"/>
                </a:solidFill>
                <a:latin typeface="Calibri"/>
              </a:rPr>
              <a:t>Gangguan Kepribadian Obsesif Kompulsif</a:t>
            </a:r>
            <a:endParaRPr b="0" lang="en-US" sz="45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504937"/>
                </a:solidFill>
                <a:latin typeface="Calibri"/>
              </a:rPr>
              <a:t>Ciri-ciri lainnya termasu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85776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504937"/>
                </a:solidFill>
                <a:latin typeface="Calibri"/>
              </a:rPr>
              <a:t>Kesulitan membuat keputusan jika tidak ada aturan yg ketat atau prosedur  tetap yg mendikte kerja yg bena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85776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504937"/>
                </a:solidFill>
                <a:latin typeface="Calibri"/>
              </a:rPr>
              <a:t>Kemarahan dan frustasi jika tidak mampu untuk mengontrol lingkungan fisik atau interpersonal (kemarahan biasanya tidak diekspresikan secara langsung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85776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504937"/>
                </a:solidFill>
                <a:latin typeface="Calibri"/>
              </a:rPr>
              <a:t>Perhatian / kepedulian yg berlebihan terhadap statusnya dalam hubungan dominan-submis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85776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504937"/>
                </a:solidFill>
                <a:latin typeface="Calibri"/>
              </a:rPr>
              <a:t>Ekspresi emosi yg terkendali dan terbatas, pribadi yg pendi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85776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504937"/>
                </a:solidFill>
                <a:latin typeface="Calibri"/>
              </a:rPr>
              <a:t>Kualitas hubungan sehari-hari yg formal dan seri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53025"/>
                </a:solidFill>
                <a:latin typeface="Calibri"/>
              </a:rPr>
              <a:t>PPDGJ III</a:t>
            </a:r>
            <a:endParaRPr b="0" lang="en-US" sz="4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4937"/>
                </a:solidFill>
                <a:latin typeface="Calibri"/>
              </a:rPr>
              <a:t>Gangguan kepribadian yg ditandai ole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4937"/>
                </a:solidFill>
                <a:latin typeface="Calibri"/>
              </a:rPr>
              <a:t>(a) perasaan ragu dan hati-hati yang berlebih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4937"/>
                </a:solidFill>
                <a:latin typeface="Calibri"/>
              </a:rPr>
              <a:t>(b) keterpakuan pada rincian, peraturan, daftar, perintah, organisasi atau jadw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4937"/>
                </a:solidFill>
                <a:latin typeface="Calibri"/>
              </a:rPr>
              <a:t>(c) perfeksionisme yg menghambat penyelesaian tug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4937"/>
                </a:solidFill>
                <a:latin typeface="Calibri"/>
              </a:rPr>
              <a:t>(d)ketelitian yg berlebihan, terlalu hati-hati, dan kecenderunganyg tidak semestinya untuk menciptakan kesenangan dan hubungan interpersonal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53025"/>
                </a:solidFill>
                <a:latin typeface="Calibri"/>
              </a:rPr>
              <a:t>PPDGJ III</a:t>
            </a:r>
            <a:endParaRPr b="0" lang="en-US" sz="4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8000" y="1413000"/>
            <a:ext cx="7467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4937"/>
                </a:solidFill>
                <a:latin typeface="Calibri"/>
              </a:rPr>
              <a:t>(e) keterpakuan dan keterikatan yg berlebihan pada kebiasaan sos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4937"/>
                </a:solidFill>
                <a:latin typeface="Calibri"/>
              </a:rPr>
              <a:t>(f) kaku dan keras kep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4937"/>
                </a:solidFill>
                <a:latin typeface="Calibri"/>
              </a:rPr>
              <a:t>(g) pemaksaan secara tidak masuk akal agar orang lain melakukan sesuatu menurut caranya, atau keengganan yg tidak masuk akal untuk mengizinkan orang lain melakukan sesua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4937"/>
                </a:solidFill>
                <a:latin typeface="Calibri"/>
              </a:rPr>
              <a:t>(h) mencampuradukkan pikiran atau dorongan yg bersifat memaksa atau yg tidak disuk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500" spc="-1" strike="noStrike">
                <a:solidFill>
                  <a:srgbClr val="353025"/>
                </a:solidFill>
                <a:latin typeface="Calibri"/>
              </a:rPr>
              <a:t>Gangguan Kepribadian Obsesif Kompulsif</a:t>
            </a:r>
            <a:endParaRPr b="0" lang="en-US" sz="45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504937"/>
                </a:solidFill>
                <a:latin typeface="Calibri"/>
              </a:rPr>
              <a:t>Faktor predisposisi</a:t>
            </a:r>
            <a:r>
              <a:rPr b="0" lang="id-ID" sz="28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800" spc="-1" strike="noStrike">
                <a:solidFill>
                  <a:srgbClr val="504937"/>
                </a:solidFill>
                <a:latin typeface="Calibri"/>
              </a:rPr>
              <a:t>fungsi serotonergik yg tinggi di otak berkaitan dengan ansietas</a:t>
            </a:r>
            <a:r>
              <a:rPr b="0" lang="id-ID" sz="28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800" spc="-1" strike="noStrike">
                <a:solidFill>
                  <a:srgbClr val="504937"/>
                </a:solidFill>
                <a:latin typeface="Calibri"/>
              </a:rPr>
              <a:t>mendukung hipotesis bahwa obsesi dan kompulsi mewakili mekanisme psikologis dan perilaku mencerminkan ansietas yg mendasariny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504937"/>
                </a:solidFill>
                <a:latin typeface="Calibri"/>
              </a:rPr>
              <a:t>Komplikasi</a:t>
            </a:r>
            <a:r>
              <a:rPr b="0" lang="id-ID" sz="28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800" spc="-1" strike="noStrike">
                <a:solidFill>
                  <a:srgbClr val="504937"/>
                </a:solidFill>
                <a:latin typeface="Calibri"/>
              </a:rPr>
              <a:t>stress dan kesulitan saat berhadapan dengan situasi baru yg membutuhkan fleksibilitas dan kompromi;infark miokard (akibat dari </a:t>
            </a:r>
            <a:r>
              <a:rPr b="0" i="1" lang="id-ID" sz="2800" spc="-1" strike="noStrike">
                <a:solidFill>
                  <a:srgbClr val="504937"/>
                </a:solidFill>
                <a:latin typeface="Calibri"/>
              </a:rPr>
              <a:t>time urgency</a:t>
            </a:r>
            <a:r>
              <a:rPr b="0" lang="id-ID" sz="2800" spc="-1" strike="noStrike">
                <a:solidFill>
                  <a:srgbClr val="504937"/>
                </a:solidFill>
                <a:latin typeface="Calibri"/>
              </a:rPr>
              <a:t>, hostilitas, dan daya sa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500" spc="-1" strike="noStrike">
                <a:solidFill>
                  <a:srgbClr val="353025"/>
                </a:solidFill>
                <a:latin typeface="Calibri"/>
              </a:rPr>
              <a:t>Gangguan Kepribadian Obsesif Kompulsif</a:t>
            </a:r>
            <a:endParaRPr b="0" lang="en-US" sz="45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504937"/>
                </a:solidFill>
                <a:latin typeface="Calibri"/>
              </a:rPr>
              <a:t>Komorbiditas</a:t>
            </a:r>
            <a:r>
              <a:rPr b="0" lang="id-ID" sz="28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800" spc="-1" strike="noStrike">
                <a:solidFill>
                  <a:srgbClr val="504937"/>
                </a:solidFill>
                <a:latin typeface="Calibri"/>
              </a:rPr>
              <a:t>beresiko tinggi untuk mengalami depresi mayor dan gangguan ansietas serta gangguan obsesif-kompulsi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504937"/>
                </a:solidFill>
                <a:latin typeface="Calibri"/>
              </a:rPr>
              <a:t>Hendaya berat pada fungsi sosial dan pekerja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504937"/>
                </a:solidFill>
                <a:latin typeface="Calibri"/>
              </a:rPr>
              <a:t>Frekuensi : pria 2x lebih tinggi dibanding wanit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504937"/>
                </a:solidFill>
                <a:latin typeface="Calibri"/>
              </a:rPr>
              <a:t>Epidemiologi</a:t>
            </a:r>
            <a:r>
              <a:rPr b="0" lang="id-ID" sz="28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800" spc="-1" strike="noStrike">
                <a:solidFill>
                  <a:srgbClr val="504937"/>
                </a:solidFill>
                <a:latin typeface="Calibri"/>
              </a:rPr>
              <a:t>angka prevalensi 1% dari populasi umum dan 3-10 % dari pasien psikiatri rawat ja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504937"/>
                </a:solidFill>
                <a:latin typeface="Calibri"/>
              </a:rPr>
              <a:t>Beberapa penelitian memperlihatkan adanya agregasi famil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500" spc="-1" strike="noStrike">
                <a:solidFill>
                  <a:srgbClr val="353025"/>
                </a:solidFill>
                <a:latin typeface="Calibri"/>
              </a:rPr>
              <a:t>Gangguan Kepribadian Obsesif Kompulsif</a:t>
            </a:r>
            <a:endParaRPr b="0" lang="en-US" sz="45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68360" y="141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504937"/>
                </a:solidFill>
                <a:latin typeface="Calibri"/>
              </a:rPr>
              <a:t>Diagnosis Ban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buClr>
                <a:srgbClr val="85776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504937"/>
                </a:solidFill>
                <a:latin typeface="Calibri"/>
              </a:rPr>
              <a:t>Dibedakan dengan gangguan obsesif-kompulsif berdasarkan obsesi  dan kompulsi sebenarnya</a:t>
            </a:r>
            <a:r>
              <a:rPr b="0" lang="id-ID" sz="22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200" spc="-1" strike="noStrike">
                <a:solidFill>
                  <a:srgbClr val="504937"/>
                </a:solidFill>
                <a:latin typeface="Calibri"/>
              </a:rPr>
              <a:t>ego distonik.sedangkan gangguan kepribadian obsesif kompulsif</a:t>
            </a:r>
            <a:r>
              <a:rPr b="0" lang="id-ID" sz="22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200" spc="-1" strike="noStrike">
                <a:solidFill>
                  <a:srgbClr val="504937"/>
                </a:solidFill>
                <a:latin typeface="Calibri"/>
              </a:rPr>
              <a:t>ego sintoni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buClr>
                <a:srgbClr val="85776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504937"/>
                </a:solidFill>
                <a:latin typeface="Calibri"/>
              </a:rPr>
              <a:t>Skizoid</a:t>
            </a:r>
            <a:r>
              <a:rPr b="0" lang="id-ID" sz="22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200" spc="-1" strike="noStrike">
                <a:solidFill>
                  <a:srgbClr val="504937"/>
                </a:solidFill>
                <a:latin typeface="Calibri"/>
              </a:rPr>
              <a:t>pada skizoid kurangnya kapasitas keintiman dan isolasi sosial akibat dari tidak ada kelekatan emosi</a:t>
            </a:r>
            <a:r>
              <a:rPr b="0" lang="id-ID" sz="22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200" spc="-1" strike="noStrike">
                <a:solidFill>
                  <a:srgbClr val="504937"/>
                </a:solidFill>
                <a:latin typeface="Calibri"/>
              </a:rPr>
              <a:t>berlawanan dengan ketaatan bekerja dan tidak nyaman dengan emosi yg dirasaka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buClr>
                <a:srgbClr val="85776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504937"/>
                </a:solidFill>
                <a:latin typeface="Calibri"/>
              </a:rPr>
              <a:t>Antisosial</a:t>
            </a:r>
            <a:r>
              <a:rPr b="0" lang="id-ID" sz="22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200" spc="-1" strike="noStrike">
                <a:solidFill>
                  <a:srgbClr val="504937"/>
                </a:solidFill>
                <a:latin typeface="Calibri"/>
              </a:rPr>
              <a:t>perilaku antisosial dan kriminalitas</a:t>
            </a:r>
            <a:r>
              <a:rPr b="0" lang="id-ID" sz="22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200" spc="-1" strike="noStrike">
                <a:solidFill>
                  <a:srgbClr val="504937"/>
                </a:solidFill>
                <a:latin typeface="Calibri"/>
              </a:rPr>
              <a:t>berlawanan dengan hipermoralitas pada kepribadian obsesif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buClr>
                <a:srgbClr val="85776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504937"/>
                </a:solidFill>
                <a:latin typeface="Calibri"/>
              </a:rPr>
              <a:t>Narsissistik</a:t>
            </a:r>
            <a:r>
              <a:rPr b="0" lang="id-ID" sz="22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200" spc="-1" strike="noStrike">
                <a:solidFill>
                  <a:srgbClr val="504937"/>
                </a:solidFill>
                <a:latin typeface="Calibri"/>
              </a:rPr>
              <a:t>perasaan kebesaran, pembesaran diri, eksibisionisme, dan ketakutan akan mempunyai ketidaksempurnaan yg tersembunyi dan kekurangan akan terlih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0" spc="-1" strike="noStrike">
                <a:solidFill>
                  <a:srgbClr val="353025"/>
                </a:solidFill>
                <a:latin typeface="Calibri"/>
              </a:rPr>
              <a:t>Cemas Menghindar</a:t>
            </a:r>
            <a:br>
              <a:rPr sz="5000"/>
            </a:br>
            <a:r>
              <a:rPr b="0" lang="id-ID" sz="5000" spc="-1" strike="noStrike">
                <a:solidFill>
                  <a:srgbClr val="353025"/>
                </a:solidFill>
                <a:latin typeface="Calibri"/>
              </a:rPr>
              <a:t>(DSM 5 )</a:t>
            </a: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3644640"/>
            <a:ext cx="8229600" cy="26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504937"/>
                </a:solidFill>
                <a:latin typeface="Calibri"/>
              </a:rPr>
              <a:t>Tanda khas : pola yg meresap berupa hambatan dalam hubungan sosial, perasaan tidak cakap &amp; hipersensitivitas terhadap evaluasi negati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4937"/>
                </a:solidFill>
                <a:latin typeface="Calibri"/>
              </a:rPr>
              <a:t>dimulai pada masa dewasa awal dan tampak dalam berbagai konte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0" spc="-1" strike="noStrike">
                <a:solidFill>
                  <a:srgbClr val="353025"/>
                </a:solidFill>
                <a:latin typeface="Calibri"/>
              </a:rPr>
              <a:t>Cemas Menghindar</a:t>
            </a: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9528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504937"/>
                </a:solidFill>
                <a:latin typeface="Calibri"/>
              </a:rPr>
              <a:t>Minimal terdapat 4 dari hal-hal di bawah ini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5776d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Menghindari kegiatan kerja yang melibatkan kontak interpersonal yang signifikan karena ketakutan kritik, ketidaksetujuan, atau penolaka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5776d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Tidak mau terlibat dengan orang-orang kecuali ada kepastian akan disuka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5776d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Menunjukkan menahan diri dalam hubungan intim karena takut dipermalukan atau ditertawaka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4. Preokupasi  bahwa dirinya  dikritik atau ditolak dalam situasi sosia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5. Terhambat dalam situasi interpersonal yang baru karena perasaan tidak mamp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6. Memandang dirinya tidak layak secara sosial, secara pribadi tidak menarik, atau lebih rendah daripada orang lai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7. Enggan secara  berlebihan untuk mengambil risiko pribadi atau untuk terlibat dalam setiap kegiatan baru karena mereka dapat membuktikan memalukan</a:t>
            </a: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53025"/>
                </a:solidFill>
                <a:latin typeface="Calibri"/>
              </a:rPr>
              <a:t>PPDGJ III</a:t>
            </a:r>
            <a:endParaRPr b="0" lang="en-US" sz="4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04937"/>
                </a:solidFill>
                <a:latin typeface="Calibri"/>
              </a:rPr>
              <a:t>Ggn kepribadian yg ditandai denga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504937"/>
              </a:buClr>
              <a:buSzPct val="95000"/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04937"/>
                </a:solidFill>
                <a:latin typeface="Calibri"/>
              </a:rPr>
              <a:t>perasaan tegang dan takut yg menetap dan pervasif</a:t>
            </a:r>
            <a:r>
              <a:rPr b="0" lang="id-ID" sz="2600" spc="-1" strike="noStrike">
                <a:solidFill>
                  <a:srgbClr val="504937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504937"/>
              </a:buClr>
              <a:buSzPct val="95000"/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04937"/>
                </a:solidFill>
                <a:latin typeface="Calibri"/>
              </a:rPr>
              <a:t>merasa dirinya tak mampu, tidak menarik atau lebih rendah dari org lain</a:t>
            </a:r>
            <a:r>
              <a:rPr b="0" lang="id-ID" sz="2600" spc="-1" strike="noStrike">
                <a:solidFill>
                  <a:srgbClr val="504937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504937"/>
              </a:buClr>
              <a:buSzPct val="95000"/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04937"/>
                </a:solidFill>
                <a:latin typeface="Calibri"/>
              </a:rPr>
              <a:t>kekhawatiran yg berlebihan terhadap kritik dan penolakan dlm situasi sosial</a:t>
            </a:r>
            <a:r>
              <a:rPr b="0" lang="id-ID" sz="2600" spc="-1" strike="noStrike">
                <a:solidFill>
                  <a:srgbClr val="504937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504937"/>
              </a:buClr>
              <a:buSzPct val="95000"/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04937"/>
                </a:solidFill>
                <a:latin typeface="Calibri"/>
              </a:rPr>
              <a:t>keengganan untuk terlibat dengan orang kecuali merasa yakin akan disukai </a:t>
            </a:r>
            <a:r>
              <a:rPr b="0" lang="id-ID" sz="2600" spc="-1" strike="noStrike">
                <a:solidFill>
                  <a:srgbClr val="504937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53025"/>
                </a:solidFill>
                <a:latin typeface="Calibri"/>
              </a:rPr>
              <a:t>PPDGJ III</a:t>
            </a:r>
            <a:endParaRPr b="0" lang="en-US" sz="4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504937"/>
                </a:solidFill>
                <a:latin typeface="Calibri"/>
              </a:rPr>
              <a:t>E. P</a:t>
            </a:r>
            <a:r>
              <a:rPr b="0" lang="en-US" sz="2600" spc="-1" strike="noStrike">
                <a:solidFill>
                  <a:srgbClr val="504937"/>
                </a:solidFill>
                <a:latin typeface="Calibri"/>
              </a:rPr>
              <a:t>embatasan gaya hidup karena alasan keamanan fis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504937"/>
                </a:solidFill>
                <a:latin typeface="Calibri"/>
              </a:rPr>
              <a:t>F. M</a:t>
            </a:r>
            <a:r>
              <a:rPr b="0" lang="en-US" sz="2600" spc="-1" strike="noStrike">
                <a:solidFill>
                  <a:srgbClr val="504937"/>
                </a:solidFill>
                <a:latin typeface="Calibri"/>
              </a:rPr>
              <a:t>enghindari aktivitas sosial atau pekerjaan yg banyak melibatkan kontak interpersonal karena takut dikritik, tidak didukung atau ditol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504937"/>
                </a:solidFill>
                <a:latin typeface="Calibri"/>
              </a:rPr>
              <a:t>Untuk diagnosis  dibutuhkan paling sedikit 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504937"/>
                </a:solidFill>
                <a:latin typeface="Calibri"/>
              </a:rPr>
              <a:t>dari diat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0" spc="-1" strike="noStrike">
                <a:solidFill>
                  <a:srgbClr val="353025"/>
                </a:solidFill>
                <a:latin typeface="Calibri"/>
              </a:rPr>
              <a:t>Cemas Menghindar</a:t>
            </a:r>
            <a:endParaRPr b="0" lang="en-US" sz="50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504937"/>
                </a:solidFill>
                <a:latin typeface="Calibri"/>
              </a:rPr>
              <a:t>Komorbiditas : beresiko tinggi mengalami gangguan mood dan ansietas (terutama fobia sosial  menyeluruh); gangguan yang paling sering menyertai </a:t>
            </a:r>
            <a:r>
              <a:rPr b="0" lang="id-ID" sz="22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200" spc="-1" strike="noStrike">
                <a:solidFill>
                  <a:srgbClr val="504937"/>
                </a:solidFill>
                <a:latin typeface="Calibri"/>
              </a:rPr>
              <a:t> skizotipal, skizoid, paranoid, dependen, dan amba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504937"/>
                </a:solidFill>
                <a:latin typeface="Calibri"/>
              </a:rPr>
              <a:t>Menyebabkan hendaya fungsi pekerjaan dan sosial yang bermakn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504937"/>
                </a:solidFill>
                <a:latin typeface="Calibri"/>
              </a:rPr>
              <a:t>Frekuensi : wanita = pr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504937"/>
                </a:solidFill>
                <a:latin typeface="Calibri"/>
              </a:rPr>
              <a:t>Prevalensi di masyarakat umum 0,5 – 1%, pasien psikiatri rawat jalan 10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504937"/>
                </a:solidFill>
                <a:latin typeface="Calibri"/>
              </a:rPr>
              <a:t>Paling sering dimulai pada masa kanak dengan rasa malu dan takut terhadap orang asing dan situasi bar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504937"/>
                </a:solidFill>
                <a:latin typeface="Calibri"/>
              </a:rPr>
              <a:t>Menjelek-jelekan penyakit yg diderita dan sifat malu di masa kanak</a:t>
            </a:r>
            <a:r>
              <a:rPr b="0" lang="id-ID" sz="22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200" spc="-1" strike="noStrike">
                <a:solidFill>
                  <a:srgbClr val="504937"/>
                </a:solidFill>
                <a:latin typeface="Calibri"/>
              </a:rPr>
              <a:t>faktor predisposis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500" spc="-1" strike="noStrike">
                <a:solidFill>
                  <a:srgbClr val="353025"/>
                </a:solidFill>
                <a:latin typeface="Calibri"/>
              </a:rPr>
              <a:t>Cemas Menghindar</a:t>
            </a:r>
            <a:endParaRPr b="0" lang="en-US" sz="4500" spc="-1" strike="noStrike">
              <a:solidFill>
                <a:srgbClr val="37302a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24"/>
              </a:spcBef>
              <a:buClr>
                <a:srgbClr val="85776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504937"/>
                </a:solidFill>
                <a:latin typeface="Calibri"/>
              </a:rPr>
              <a:t>Diagnosis Band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24"/>
              </a:spcBef>
              <a:buClr>
                <a:srgbClr val="85776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504937"/>
                </a:solidFill>
                <a:latin typeface="Calibri"/>
              </a:rPr>
              <a:t>Sulit dibedakan dengan fobia sosial</a:t>
            </a:r>
            <a:r>
              <a:rPr b="0" lang="id-ID" sz="21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100" spc="-1" strike="noStrike">
                <a:solidFill>
                  <a:srgbClr val="504937"/>
                </a:solidFill>
                <a:latin typeface="Calibri"/>
              </a:rPr>
              <a:t>dianggap sebagai bentuk alternatif fobia sosial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24"/>
              </a:spcBef>
              <a:buClr>
                <a:srgbClr val="85776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504937"/>
                </a:solidFill>
                <a:latin typeface="Calibri"/>
              </a:rPr>
              <a:t>Gangguan panik dengan agorafobia</a:t>
            </a:r>
            <a:r>
              <a:rPr b="0" lang="id-ID" sz="21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100" spc="-1" strike="noStrike">
                <a:solidFill>
                  <a:srgbClr val="504937"/>
                </a:solidFill>
                <a:latin typeface="Calibri"/>
              </a:rPr>
              <a:t>penghindaran terjadi setelah onset serangan pani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24"/>
              </a:spcBef>
              <a:buClr>
                <a:srgbClr val="85776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504937"/>
                </a:solidFill>
                <a:latin typeface="Calibri"/>
              </a:rPr>
              <a:t>Skizotipal dan Skizoid (tidakditemukan isolasi sosial disertai dengan keinginan untuk mempunyai hubungan sosial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24"/>
              </a:spcBef>
              <a:buClr>
                <a:srgbClr val="85776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504937"/>
                </a:solidFill>
                <a:latin typeface="Calibri"/>
              </a:rPr>
              <a:t>Paranoid</a:t>
            </a:r>
            <a:r>
              <a:rPr b="0" lang="id-ID" sz="21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100" spc="-1" strike="noStrike">
                <a:solidFill>
                  <a:srgbClr val="504937"/>
                </a:solidFill>
                <a:latin typeface="Calibri"/>
              </a:rPr>
              <a:t>pada paranoid terdapat perilaku berhati-hati, preokupasi dengan maksud tersembunyi, dan penjelasan konspiratori terhadap peristiwa yg tidak berbahaya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24"/>
              </a:spcBef>
              <a:buClr>
                <a:srgbClr val="85776d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100" spc="-1" strike="noStrike">
                <a:solidFill>
                  <a:srgbClr val="504937"/>
                </a:solidFill>
                <a:latin typeface="Calibri"/>
              </a:rPr>
              <a:t>Dependent</a:t>
            </a:r>
            <a:r>
              <a:rPr b="0" lang="id-ID" sz="2100" spc="-1" strike="noStrike">
                <a:solidFill>
                  <a:srgbClr val="504937"/>
                </a:solidFill>
                <a:latin typeface="Wingdings"/>
                <a:ea typeface="Wingdings"/>
              </a:rPr>
              <a:t></a:t>
            </a:r>
            <a:r>
              <a:rPr b="0" lang="id-ID" sz="2100" spc="-1" strike="noStrike">
                <a:solidFill>
                  <a:srgbClr val="504937"/>
                </a:solidFill>
                <a:latin typeface="Calibri"/>
              </a:rPr>
              <a:t>berfokus pada keinginan untuk dirawat dibandingkan ketakutan terhadap penilaian negatif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2:38:27Z</dcterms:created>
  <dc:creator>prita</dc:creator>
  <dc:description/>
  <dc:language>en-US</dc:language>
  <cp:lastModifiedBy>Hp Mini 110</cp:lastModifiedBy>
  <dcterms:modified xsi:type="dcterms:W3CDTF">2014-02-07T01:06:36Z</dcterms:modified>
  <cp:revision>55</cp:revision>
  <dc:subject/>
  <dc:title>PRESENTATION  NAME</dc:title>
</cp:coreProperties>
</file>