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FF7-2297-4B3F-AC48-DFE35931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1C2-63B7-4822-AD8B-93B898D5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F0D-CA79-481C-9E87-E9C93762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E93-529C-4198-88DE-472BAD0A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F64F-83A6-4148-B8B5-98F90FB2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F876-EE86-4684-A2CD-F33CD5E6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49B2-BCC4-4411-A229-6021A84F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3ECE-65CA-4415-9DF5-51A59C09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C88F-5D34-4FE1-8401-DC33FC2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6A10-E4C4-4982-B7A5-66B46E3E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D9A0-DA13-45F4-A593-5D0E07CD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CAE-3B49-4DA9-931A-526368C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19FA-D7AF-4EC6-8F76-A566BCB3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936B-8D01-4EED-B9A7-0CC408BC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3004-F156-4A62-ADAE-6183B03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BD1A-2C6D-4E78-9175-61AA4627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9642-1F81-4B1A-9099-72342F34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2D2A-99B3-4887-B894-55BF468F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FB66-54E7-4533-A18D-07415C87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618F-CD38-4572-9362-1F75A312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E609-058E-4E68-9D4B-05FF5EF3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631E-37E6-4DBB-B235-3038EBF8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DED-8773-4C24-9DA3-018BD6A0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D8E4-F966-4DFA-8CE9-301A5D6E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4CCC7-3C31-4C7F-A16A-5496DDB8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EB9F-25E9-4A92-99EC-F5B1659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9D6E-13A9-4E73-AD52-6DF6B808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F775-C27C-4DB8-8F13-35EF9B3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5EA4-8A10-482A-BA9D-1DC2CAB9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B00D-CA39-4DEA-AD1F-00676866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0DD7-C180-4DA1-A6A9-DCE1011E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70D5-54F5-4B0C-BBFC-F3F8ECBD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4601-106A-4FBA-B08A-F23CE1A1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077-36B8-4F1F-99CB-51068A1E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EE8CA-E58F-45BB-8AB4-3725B1EC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0733-4F46-4CFA-9B07-4AD63FDF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CBC3-826C-42D4-9E9F-8E6C8806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BCB5-F87C-480C-83D2-C08DD752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E631-E8E2-40D2-B9FB-597A9EE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6CB5-EFE9-45DF-BCA5-787F1C83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9AB0D-74BE-4E8D-8B3A-DFD36940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845B-2BC5-4D45-A0F0-73F1C83A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8A419-37F0-430E-A169-B52919AD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95E-0EF4-4C59-81FE-B14254E4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353-0D53-438B-845F-06A98C50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97F-8DD0-4FD1-94AC-8D9DC469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932-0FDD-4C76-A7E4-01C704E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827-39CA-4C16-9185-7A8DE5C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4E31-F8DF-4E22-B677-8D73BA0131C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016D-D368-4A09-A06A-4A615D6F808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BD5B-B1A5-4884-9CBA-402671EB323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0617-CED6-4B02-A653-49B24C50DF4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dc9e1f"/>
                </a:solidFill>
                <a:latin typeface="Arial Narrow"/>
              </a:rPr>
              <a:t>dr. Zulvia Oktanida Syari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9e1f"/>
                </a:solidFill>
                <a:latin typeface="Arial Narrow"/>
              </a:rPr>
              <a:t>DR. dr. Martina Wiwie, SpKJ(K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210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Narrow"/>
              </a:rPr>
              <a:t>NEUROPSYCHIATRIC ASSESSMENT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39640" y="556272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SOURCE: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Neuropsychiatry and Behavioral Neuroscience. Chapter 3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Jeffrey  L. Cummings , Michael S. Mega. 2003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2" name="Content Placeholder 4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97760" cy="4121280"/>
          </a:xfrm>
          <a:prstGeom prst="rect">
            <a:avLst/>
          </a:prstGeom>
          <a:ln w="0">
            <a:noFill/>
          </a:ln>
        </p:spPr>
      </p:pic>
      <p:sp>
        <p:nvSpPr>
          <p:cNvPr id="193" name="Rounded Rectangle 5"/>
          <p:cNvSpPr/>
          <p:nvPr/>
        </p:nvSpPr>
        <p:spPr>
          <a:xfrm>
            <a:off x="4038480" y="1523880"/>
            <a:ext cx="4800600" cy="419112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tistic thinking, loosening of associ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chizophren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rcumstantial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pileptogenic lesions in the limbic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ight of ide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ani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seve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ementia, frontal lobe syndromes, acute confusional sta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97760" cy="4121280"/>
          </a:xfrm>
          <a:prstGeom prst="rect">
            <a:avLst/>
          </a:prstGeom>
          <a:ln w="0">
            <a:noFill/>
          </a:ln>
        </p:spPr>
      </p:pic>
      <p:sp>
        <p:nvSpPr>
          <p:cNvPr id="196" name="Rounded Rectangle 6"/>
          <p:cNvSpPr/>
          <p:nvPr/>
        </p:nvSpPr>
        <p:spPr>
          <a:xfrm>
            <a:off x="4114800" y="1447920"/>
            <a:ext cx="4343400" cy="4267080"/>
          </a:xfrm>
          <a:prstGeom prst="roundRect">
            <a:avLst>
              <a:gd name="adj" fmla="val 16667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fabul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mpaired memo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yndrome of approximate answer (Ganser syndrome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hysterical pseudodementia in head trauma or toxic-metabolic encephalopath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ontent Placeholder 4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36702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603360" y="1468440"/>
            <a:ext cx="79372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603360" y="1468440"/>
            <a:ext cx="7937280" cy="4956120"/>
          </a:xfrm>
          <a:prstGeom prst="rect">
            <a:avLst/>
          </a:prstGeom>
          <a:ln w="0">
            <a:noFill/>
          </a:ln>
        </p:spPr>
      </p:pic>
      <p:sp>
        <p:nvSpPr>
          <p:cNvPr id="203" name="Rounded Rectangular Callout 4"/>
          <p:cNvSpPr/>
          <p:nvPr/>
        </p:nvSpPr>
        <p:spPr>
          <a:xfrm>
            <a:off x="1295280" y="1523880"/>
            <a:ext cx="6934320" cy="4724640"/>
          </a:xfrm>
          <a:prstGeom prst="wedgeRoundRectCallout">
            <a:avLst>
              <a:gd name="adj1" fmla="val -57134"/>
              <a:gd name="adj2" fmla="val -47370"/>
              <a:gd name="adj3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ime saving strategy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sk patient to perform a difficult task derived from each of the five principal domains of neuropsychological function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tten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suospatial skil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ecutive fun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08" name="Rounded Rectangle 4"/>
          <p:cNvSpPr/>
          <p:nvPr/>
        </p:nvSpPr>
        <p:spPr>
          <a:xfrm>
            <a:off x="3581280" y="1523880"/>
            <a:ext cx="5105520" cy="434340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igit span t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repeat a list of numbers dictated by the examiner (7 +- 2 digits forward, 5 +- 1 digits revers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A t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ifting hand whenever the letter A is heard in a list of letters read aloud by the examiner (error of ommiss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istractibility, error of commiss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xiet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0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5"/>
          <p:cNvSpPr/>
          <p:nvPr/>
        </p:nvSpPr>
        <p:spPr>
          <a:xfrm>
            <a:off x="3581280" y="1535040"/>
            <a:ext cx="5105520" cy="501804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mispatial neglect: unilateral sensory attention (hemi-inattention), unilateral motor activity (hemi-inintention)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erceive one of two auditory click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eel one of two somatosensory stimul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d only half of written wor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raw only half constru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gnore half of vertically written math proble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14" name="Rounded Rectangle 6"/>
          <p:cNvSpPr/>
          <p:nvPr/>
        </p:nvSpPr>
        <p:spPr>
          <a:xfrm>
            <a:off x="3505320" y="1523880"/>
            <a:ext cx="5181480" cy="426744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mispatial (visual) negle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line crossing tes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per with short straight line scatter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atient’s asked to cross each line in the midd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17" name="Rounded Rectangle 7"/>
          <p:cNvSpPr/>
          <p:nvPr/>
        </p:nvSpPr>
        <p:spPr>
          <a:xfrm>
            <a:off x="3505320" y="1504800"/>
            <a:ext cx="5181480" cy="426744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bstraction of 7’s from 1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bstraction of 3’s from 2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elling “world” backw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aying months of the year in the rever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Neuropsychiatric interview and Mental Status Examination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Neuropsychiatric and Neurobehavioral diagnose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nical assessment requires: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Experie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Understanding of brain function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Knowledge of examination techniqu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Down Arrow 5"/>
          <p:cNvSpPr/>
          <p:nvPr/>
        </p:nvSpPr>
        <p:spPr>
          <a:xfrm flipH="1">
            <a:off x="4114800" y="2151000"/>
            <a:ext cx="914400" cy="533520"/>
          </a:xfrm>
          <a:prstGeom prst="downArrow">
            <a:avLst>
              <a:gd name="adj1" fmla="val 50000"/>
              <a:gd name="adj2" fmla="val 46014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22" name="Oval Callout 5"/>
          <p:cNvSpPr/>
          <p:nvPr/>
        </p:nvSpPr>
        <p:spPr>
          <a:xfrm>
            <a:off x="2895480" y="2133720"/>
            <a:ext cx="5639040" cy="3581280"/>
          </a:xfrm>
          <a:prstGeom prst="wedgeEllipseCallout">
            <a:avLst>
              <a:gd name="adj1" fmla="val -54314"/>
              <a:gd name="adj2" fmla="val -44518"/>
            </a:avLst>
          </a:prstGeom>
          <a:solidFill>
            <a:srgbClr val="ecc577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nguage fluenc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4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25" name="Oval Callout 6"/>
          <p:cNvSpPr/>
          <p:nvPr/>
        </p:nvSpPr>
        <p:spPr>
          <a:xfrm>
            <a:off x="3429000" y="457200"/>
            <a:ext cx="5562720" cy="5562720"/>
          </a:xfrm>
          <a:prstGeom prst="wedgeEllipseCallout">
            <a:avLst>
              <a:gd name="adj1" fmla="val -69425"/>
              <a:gd name="adj2" fmla="val 2893"/>
            </a:avLst>
          </a:prstGeom>
          <a:solidFill>
            <a:srgbClr val="9d936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ree-step pointing to room objects ( door, window, chai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sy to difficult yes/no Qs ( Is your name X? Do you put your shoes on before your socks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7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28" name="Oval Callout 7"/>
          <p:cNvSpPr/>
          <p:nvPr/>
        </p:nvSpPr>
        <p:spPr>
          <a:xfrm>
            <a:off x="3581280" y="685800"/>
            <a:ext cx="5410440" cy="5867280"/>
          </a:xfrm>
          <a:prstGeom prst="wedgeEllipseCallout">
            <a:avLst>
              <a:gd name="adj1" fmla="val -76662"/>
              <a:gd name="adj2" fmla="val 6666"/>
            </a:avLst>
          </a:prstGeom>
          <a:solidFill>
            <a:srgbClr val="9d936f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ssive construction (“if a lion and a tiger are in a fight, and the lion is killed by the tiger, which animal is dead?”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sessive (“Is my wife’s brother is a man or a woman?”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0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31" name="Oval Callout 8"/>
          <p:cNvSpPr/>
          <p:nvPr/>
        </p:nvSpPr>
        <p:spPr>
          <a:xfrm>
            <a:off x="2533680" y="0"/>
            <a:ext cx="6629400" cy="6553080"/>
          </a:xfrm>
          <a:prstGeom prst="wedgeEllipseCallout">
            <a:avLst>
              <a:gd name="adj1" fmla="val -50023"/>
              <a:gd name="adj2" fmla="val 33972"/>
            </a:avLst>
          </a:prstGeom>
          <a:solidFill>
            <a:srgbClr val="56b661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peat each sentence exactly as spoken by the examin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mple phrase: “he is here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fficult phrase: “The quick brown fox jumped over the lazy dog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petition span (number of words that can be repeated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typically two words longer than the digit’s spa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34" name="Oval Callout 2"/>
          <p:cNvSpPr/>
          <p:nvPr/>
        </p:nvSpPr>
        <p:spPr>
          <a:xfrm>
            <a:off x="914400" y="2971800"/>
            <a:ext cx="7848720" cy="3276720"/>
          </a:xfrm>
          <a:prstGeom prst="wedgeEllipseCallout">
            <a:avLst>
              <a:gd name="adj1" fmla="val -8958"/>
              <a:gd name="adj2" fmla="val -65351"/>
            </a:avLst>
          </a:prstGeom>
          <a:solidFill>
            <a:srgbClr val="56b661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om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st often one aspect of aphasia syndro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teral paraphasia (“greel for green”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erbal paraphasia (“blue for green”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ologism (completely new construction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ircumlocution (description of the object without naming it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6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37" name="Oval Callout 9"/>
          <p:cNvSpPr/>
          <p:nvPr/>
        </p:nvSpPr>
        <p:spPr>
          <a:xfrm>
            <a:off x="609480" y="4038480"/>
            <a:ext cx="8552160" cy="2667240"/>
          </a:xfrm>
          <a:prstGeom prst="wedgeEllipseCallout">
            <a:avLst>
              <a:gd name="adj1" fmla="val -12879"/>
              <a:gd name="adj2" fmla="val -60402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ing difficulties can be judged after considering level of edu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: ability to read aloud and reading comprehens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tter, word, sentence reading should be test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ex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terior/posterior left-sided les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9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40" name="Oval Callout 10"/>
          <p:cNvSpPr/>
          <p:nvPr/>
        </p:nvSpPr>
        <p:spPr>
          <a:xfrm>
            <a:off x="1219320" y="1001880"/>
            <a:ext cx="7619760" cy="3276360"/>
          </a:xfrm>
          <a:prstGeom prst="wedgeEllipseCallout">
            <a:avLst>
              <a:gd name="adj1" fmla="val 2587"/>
              <a:gd name="adj2" fmla="val 77115"/>
            </a:avLst>
          </a:prstGeom>
          <a:solidFill>
            <a:srgbClr val="92d05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raphia (disturbance of writing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hasic will make errors in written as well as oral produ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ipheral,corticospinal,extrapyramidal and cerebellar disturba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isrupt motoric aspect of writ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43" name="Oval Callout 2"/>
          <p:cNvSpPr/>
          <p:nvPr/>
        </p:nvSpPr>
        <p:spPr>
          <a:xfrm>
            <a:off x="609480" y="2590920"/>
            <a:ext cx="7925040" cy="4079880"/>
          </a:xfrm>
          <a:prstGeom prst="wedgeEllipseCallout">
            <a:avLst>
              <a:gd name="adj1" fmla="val 22550"/>
              <a:gd name="adj2" fmla="val -58976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erbal fluenc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: Name as many animals as possible in 1 minute (normal 18 +- 6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: Name as many words beginning with letter F, than A, then S . 1 min/letter (mean 15 +- 5 per letter or mean total of 45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tients with prefrontal lesion, basal ganglia disorder, psychomotor retard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ai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5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46" name="Oval Callout 9"/>
          <p:cNvSpPr/>
          <p:nvPr/>
        </p:nvSpPr>
        <p:spPr>
          <a:xfrm>
            <a:off x="36360" y="457200"/>
            <a:ext cx="6288120" cy="5791320"/>
          </a:xfrm>
          <a:prstGeom prst="wedgeEllipseCallout">
            <a:avLst>
              <a:gd name="adj1" fmla="val 54740"/>
              <a:gd name="adj2" fmla="val 8453"/>
            </a:avLst>
          </a:prstGeom>
          <a:solidFill>
            <a:srgbClr val="b2c1ce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rosodic output: monotonic, amelodic, affectles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aspects: spontaneous prosody, prosodic comprehens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ontaneous prosod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istening to verbal utterances during convers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sodic comprehens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eutral sentence executed by examiner in 4 prosodic styles ( surprised, happy, angry, sad 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LANGU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8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7925040" cy="4121280"/>
          </a:xfrm>
          <a:prstGeom prst="rect">
            <a:avLst/>
          </a:prstGeom>
          <a:ln w="0">
            <a:noFill/>
          </a:ln>
        </p:spPr>
      </p:pic>
      <p:sp>
        <p:nvSpPr>
          <p:cNvPr id="249" name="Oval Callout 10"/>
          <p:cNvSpPr/>
          <p:nvPr/>
        </p:nvSpPr>
        <p:spPr>
          <a:xfrm>
            <a:off x="228600" y="152280"/>
            <a:ext cx="7772400" cy="3997440"/>
          </a:xfrm>
          <a:prstGeom prst="wedgeEllipseCallout">
            <a:avLst>
              <a:gd name="adj1" fmla="val 35509"/>
              <a:gd name="adj2" fmla="val 64870"/>
            </a:avLst>
          </a:prstGeom>
          <a:solidFill>
            <a:srgbClr val="a2afb1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tomatic speech (counting, reciting alphabet, naming the days of the week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g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ythmic asp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eft hemisphere, tone and pitc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ight hemisphe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hasic patients can often reproduce tune of a familiar song (Happy B’day) even when  they cant sing the wor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1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54" name="Rounded Rectangle 4"/>
          <p:cNvSpPr/>
          <p:nvPr/>
        </p:nvSpPr>
        <p:spPr>
          <a:xfrm>
            <a:off x="3524400" y="1295280"/>
            <a:ext cx="5410080" cy="525780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nt memory: orientation, recall recently presented verbal/non verbal inform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ientation in time and spa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ve patient 3-4 words, recall after 3 minut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nt memory disturbances: amnesia and retrieval deficit syndrom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mnes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ot benefited from clu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 verbal mem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sk patient to copy construction after 3 minut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 verbal mem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ight hemisphere, verbal mem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eft hemisphe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57" name="Rounded Rectangle 5"/>
          <p:cNvSpPr/>
          <p:nvPr/>
        </p:nvSpPr>
        <p:spPr>
          <a:xfrm>
            <a:off x="3505320" y="682560"/>
            <a:ext cx="5410080" cy="5943600"/>
          </a:xfrm>
          <a:custGeom>
            <a:avLst/>
            <a:gdLst>
              <a:gd name="textAreaLeft" fmla="*/ 263880 w 5410080"/>
              <a:gd name="textAreaRight" fmla="*/ 5146200 w 5410080"/>
              <a:gd name="textAreaTop" fmla="*/ 263880 h 5943600"/>
              <a:gd name="textAreaBottom" fmla="*/ 5679720 h 5943600"/>
            </a:gdLst>
            <a:ahLst/>
            <a:rect l="textAreaLeft" t="textAreaTop" r="textAreaRight" b="textAreaBottom"/>
            <a:pathLst>
              <a:path w="21600" h="23730">
                <a:moveTo>
                  <a:pt x="3600" y="0"/>
                </a:moveTo>
                <a:arcTo wR="3600" hR="3600" stAng="16200000" swAng="-5400000"/>
                <a:lnTo>
                  <a:pt x="0" y="20130"/>
                </a:lnTo>
                <a:arcTo wR="3600" hR="3600" stAng="10800000" swAng="-5400000"/>
                <a:lnTo>
                  <a:pt x="18000" y="237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 of constructional ab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creening for brain dysfun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ock drawing te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visuospatioal abilit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raw the face of the clock including numb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ce too smal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ficit in planning and foresigh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umber placement: unilateral negl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nly one side of the cloc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clock to 11:10. Executive dysfunc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accurate (10:50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suoconstructive and constructive  abilii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arietal or frontal lob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9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60" name="Rounded Rectangle 6"/>
          <p:cNvSpPr/>
          <p:nvPr/>
        </p:nvSpPr>
        <p:spPr>
          <a:xfrm>
            <a:off x="3489480" y="291960"/>
            <a:ext cx="5410080" cy="5943600"/>
          </a:xfrm>
          <a:custGeom>
            <a:avLst/>
            <a:gdLst>
              <a:gd name="textAreaLeft" fmla="*/ 263880 w 5410080"/>
              <a:gd name="textAreaRight" fmla="*/ 5146200 w 5410080"/>
              <a:gd name="textAreaTop" fmla="*/ 263880 h 5943600"/>
              <a:gd name="textAreaBottom" fmla="*/ 5679720 h 5943600"/>
            </a:gdLst>
            <a:ahLst/>
            <a:rect l="textAreaLeft" t="textAreaTop" r="textAreaRight" b="textAreaBottom"/>
            <a:pathLst>
              <a:path w="21600" h="23730">
                <a:moveTo>
                  <a:pt x="3600" y="0"/>
                </a:moveTo>
                <a:arcTo wR="3600" hR="3600" stAng="16200000" swAng="-5400000"/>
                <a:lnTo>
                  <a:pt x="0" y="20130"/>
                </a:lnTo>
                <a:arcTo wR="3600" hR="3600" stAng="10800000" swAng="-5400000"/>
                <a:lnTo>
                  <a:pt x="18000" y="237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alculia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uent aphasia, paraphasic errors in reading, writing and saying numbers, impossible correct calcul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ight-sided parietal les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ability to correctly align columns of written numb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ary anarithmetr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esft-sided posterior hemisphere lesion (part of Gerstmanss’s syndrome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ability to perform actual numerical manipul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Rounded Rectangle 2"/>
          <p:cNvSpPr/>
          <p:nvPr/>
        </p:nvSpPr>
        <p:spPr>
          <a:xfrm>
            <a:off x="3429000" y="1657440"/>
            <a:ext cx="5181480" cy="403848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would you do if you found a stamped addressed envelope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would you do if you were the first to see a fire in the crowded theater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ight of illness: what the patient understands about the illness, intends to do after leaving the hospit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Rounded Rectangle 5"/>
          <p:cNvSpPr/>
          <p:nvPr/>
        </p:nvSpPr>
        <p:spPr>
          <a:xfrm>
            <a:off x="3505320" y="1676520"/>
            <a:ext cx="4952880" cy="4038480"/>
          </a:xfrm>
          <a:prstGeom prst="roundRect">
            <a:avLst>
              <a:gd name="adj" fmla="val 16667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test praxis: limb, whole body, oral-lingual mov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mb: “show me how you comb your hair”, “show me how you brush your teeth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ole body: “take a bow”, show me how you swing a golf club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ral-lingual: “show me how you blow a match”, “show me how you suck through a straw”, “cough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ounded Rectangle 6"/>
          <p:cNvSpPr/>
          <p:nvPr/>
        </p:nvSpPr>
        <p:spPr>
          <a:xfrm>
            <a:off x="3581280" y="1676520"/>
            <a:ext cx="4953240" cy="4038480"/>
          </a:xfrm>
          <a:prstGeom prst="roundRect">
            <a:avLst>
              <a:gd name="adj" fmla="val 16667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ational praxis : to synthesize a series of individual actions into a complex activi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ntomime steps of a complicated task: putting a letter into an envelope, sealing and addressing the envelope, adding a stamp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ational praxis disrupted in diffuse/multifocal brain lesions or dementia syndrom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Content Placeholder 3" descr=""/>
          <p:cNvPicPr/>
          <p:nvPr/>
        </p:nvPicPr>
        <p:blipFill>
          <a:blip r:embed="rId1"/>
          <a:stretch/>
        </p:blipFill>
        <p:spPr>
          <a:xfrm>
            <a:off x="549360" y="1596960"/>
            <a:ext cx="8143920" cy="2036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Content Placeholder 3" descr=""/>
          <p:cNvPicPr/>
          <p:nvPr/>
        </p:nvPicPr>
        <p:blipFill>
          <a:blip r:embed="rId1"/>
          <a:stretch/>
        </p:blipFill>
        <p:spPr>
          <a:xfrm>
            <a:off x="549360" y="1596960"/>
            <a:ext cx="8143920" cy="20368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MENTAL STATUS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Oval Callout 2"/>
          <p:cNvSpPr/>
          <p:nvPr/>
        </p:nvSpPr>
        <p:spPr>
          <a:xfrm>
            <a:off x="3505320" y="685800"/>
            <a:ext cx="5638680" cy="5867280"/>
          </a:xfrm>
          <a:prstGeom prst="wedgeEllipseCallout">
            <a:avLst>
              <a:gd name="adj1" fmla="val -55476"/>
              <a:gd name="adj2" fmla="val -15375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py the alternating sequences or looped figu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iproc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ciprocal maneuvers. E.g: patient taps once if examiner taps twi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hythm tapping: imitate a rhythmic sequence of tap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rial hand seque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ute a series of repeating hand postures while announcing aloud the name of each posture (fist-slap-sid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DDITONAL TESTS AND MISCELLANEOUS OBSERVATIO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DDITONAL TESTS AND MISCELLANEOUS OBSERVATIO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0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45040"/>
          </a:xfrm>
          <a:prstGeom prst="rect">
            <a:avLst/>
          </a:prstGeom>
          <a:ln w="0">
            <a:noFill/>
          </a:ln>
        </p:spPr>
      </p:pic>
      <p:sp>
        <p:nvSpPr>
          <p:cNvPr id="281" name="Rounded Rectangle 2"/>
          <p:cNvSpPr/>
          <p:nvPr/>
        </p:nvSpPr>
        <p:spPr>
          <a:xfrm>
            <a:off x="3581280" y="1467000"/>
            <a:ext cx="5029200" cy="440028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ise right / left han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uch right ear with left han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dicate examiner’s right/left hand ( facing each othe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DDITONAL TESTS AND MISCELLANEOUS OBSERVATION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45040"/>
          </a:xfrm>
          <a:prstGeom prst="rect">
            <a:avLst/>
          </a:prstGeom>
          <a:ln w="0">
            <a:noFill/>
          </a:ln>
        </p:spPr>
      </p:pic>
      <p:sp>
        <p:nvSpPr>
          <p:cNvPr id="284" name="Rounded Rectangle 4"/>
          <p:cNvSpPr/>
          <p:nvPr/>
        </p:nvSpPr>
        <p:spPr>
          <a:xfrm>
            <a:off x="3581280" y="1371600"/>
            <a:ext cx="5029200" cy="480060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int to little finger, middle finger, ring finger, index fing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uching individual finger on patient’s hand while it is above head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uch any combination of two finge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how many digits between those touch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88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289" name="Rounded Rectangle 2"/>
          <p:cNvSpPr/>
          <p:nvPr/>
        </p:nvSpPr>
        <p:spPr>
          <a:xfrm>
            <a:off x="3429000" y="1511280"/>
            <a:ext cx="5181480" cy="4267080"/>
          </a:xfrm>
          <a:prstGeom prst="roundRect">
            <a:avLst>
              <a:gd name="adj" fmla="val 16667"/>
            </a:avLst>
          </a:prstGeom>
          <a:solidFill>
            <a:srgbClr val="b4936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lfacti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dentify odo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ti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visual: opthalmoscopy, Snellen char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,4,6 Oculomotor,trochlear,abduce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ocular motility and pupillary respon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gemina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muscle of the jaw, facial and corneal sensa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cia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facial musculature, UMN lesio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contralateral lower facial paresis, peripheral nerve lesio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psilateral paralysis of upper and lower fac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 Narrow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ditory and vestibula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deafness, auditory hallucinations, nystagmus, vertig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1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292" name="Rounded Rectangle 4"/>
          <p:cNvSpPr/>
          <p:nvPr/>
        </p:nvSpPr>
        <p:spPr>
          <a:xfrm>
            <a:off x="3505320" y="1523880"/>
            <a:ext cx="5181480" cy="4267440"/>
          </a:xfrm>
          <a:prstGeom prst="roundRect">
            <a:avLst>
              <a:gd name="adj" fmla="val 16667"/>
            </a:avLst>
          </a:prstGeom>
          <a:solidFill>
            <a:srgbClr val="b4936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9,10.  Glossopharyngeal and vag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haryngela, laryngeal function,taste, gag reflex. Dysfunction of vag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hoarse voice, aphonia, dysphag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1. Spinal accesso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rapezius and sternocleidomastoideous musc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2. Hypogloss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ung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4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5"/>
          <p:cNvSpPr/>
          <p:nvPr/>
        </p:nvSpPr>
        <p:spPr>
          <a:xfrm>
            <a:off x="3581280" y="1409760"/>
            <a:ext cx="5181840" cy="426708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scle bul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visual inspection, palpation, measur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ength, graded as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0: no evidence of muscle contrac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: muscle contraction without movement of limb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2: limb movement after gravity eliminate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3: limb movement against grav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4: limb movement against partial resistenc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5: normal strengt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7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298" name="Rounded Rectangle 6"/>
          <p:cNvSpPr/>
          <p:nvPr/>
        </p:nvSpPr>
        <p:spPr>
          <a:xfrm>
            <a:off x="3581280" y="1504800"/>
            <a:ext cx="5181840" cy="426744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scle tone: passively manipulating the limbs or neck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raw a square in the air, check tone of the other ar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ent’s sig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arkinsonism extrapyramidal rigidi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genhalten (paratonia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istence to move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axy flexib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one change in cataton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301" name="Rounded Rectangle 7"/>
          <p:cNvSpPr/>
          <p:nvPr/>
        </p:nvSpPr>
        <p:spPr>
          <a:xfrm>
            <a:off x="3505320" y="1447920"/>
            <a:ext cx="5181480" cy="4267080"/>
          </a:xfrm>
          <a:prstGeom prst="roundRect">
            <a:avLst>
              <a:gd name="adj" fmla="val 16667"/>
            </a:avLst>
          </a:pr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ordin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lternating movements (supination and pronationfinger to nose move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ait and postu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ait analy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ft sig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inor motor abnormalities, normal in childho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  <p:sp>
        <p:nvSpPr>
          <p:cNvPr id="179" name="Rounded Rectangle 6"/>
          <p:cNvSpPr/>
          <p:nvPr/>
        </p:nvSpPr>
        <p:spPr>
          <a:xfrm>
            <a:off x="3562200" y="1523880"/>
            <a:ext cx="5124600" cy="502920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hevel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rontal lobe syndrome, schizophrenic illness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ressing with multiple layer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ementia, acute confusional stat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nusual combination of style and colors of dre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chizophrenic and manic syndrom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3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67520" cy="4121280"/>
          </a:xfrm>
          <a:prstGeom prst="rect">
            <a:avLst/>
          </a:prstGeom>
          <a:ln w="0">
            <a:noFill/>
          </a:ln>
        </p:spPr>
      </p:pic>
      <p:sp>
        <p:nvSpPr>
          <p:cNvPr id="304" name="Rounded Rectangle 8"/>
          <p:cNvSpPr/>
          <p:nvPr/>
        </p:nvSpPr>
        <p:spPr>
          <a:xfrm>
            <a:off x="3505320" y="1523880"/>
            <a:ext cx="5181480" cy="4267440"/>
          </a:xfrm>
          <a:prstGeom prst="roundRect">
            <a:avLst>
              <a:gd name="adj" fmla="val 16667"/>
            </a:avLst>
          </a:prstGeom>
          <a:solidFill>
            <a:srgbClr val="7e97ad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raphestes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bility to identify numbers written on the tips of the fing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reogno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bility to recognize objects by touch when placed in the han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6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LOGICAL EXAMIN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8" name="Content Placeholder 3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372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Content Placeholder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1504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7"/>
          <p:cNvSpPr/>
          <p:nvPr/>
        </p:nvSpPr>
        <p:spPr>
          <a:xfrm>
            <a:off x="3581280" y="1676520"/>
            <a:ext cx="5029200" cy="4852800"/>
          </a:xfrm>
          <a:prstGeom prst="roundRect">
            <a:avLst>
              <a:gd name="adj" fmla="val 16667"/>
            </a:avLst>
          </a:prstGeom>
          <a:solidFill>
            <a:srgbClr val="cc8e60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tarded depres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sychomotor slowing, long latency of replies, paucity of verbal output, hypophonia, bowed postu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  <p:sp>
        <p:nvSpPr>
          <p:cNvPr id="185" name="Rounded Rectangle 8"/>
          <p:cNvSpPr/>
          <p:nvPr/>
        </p:nvSpPr>
        <p:spPr>
          <a:xfrm>
            <a:off x="3581280" y="1447920"/>
            <a:ext cx="5105520" cy="5207040"/>
          </a:xfrm>
          <a:custGeom>
            <a:avLst/>
            <a:gdLst>
              <a:gd name="textAreaLeft" fmla="*/ 249120 w 5105520"/>
              <a:gd name="textAreaRight" fmla="*/ 4856400 w 5105520"/>
              <a:gd name="textAreaTop" fmla="*/ 249120 h 5207040"/>
              <a:gd name="textAreaBottom" fmla="*/ 4957920 h 5207040"/>
            </a:gdLst>
            <a:ahLst/>
            <a:rect l="textAreaLeft" t="textAreaTop" r="textAreaRight" b="textAreaBottom"/>
            <a:pathLst>
              <a:path w="21600" h="22029">
                <a:moveTo>
                  <a:pt x="3600" y="0"/>
                </a:moveTo>
                <a:arcTo wR="3600" hR="3600" stAng="16200000" swAng="-5400000"/>
                <a:lnTo>
                  <a:pt x="0" y="18429"/>
                </a:lnTo>
                <a:arcTo wR="3600" hR="3600" stAng="10800000" swAng="-5400000"/>
                <a:lnTo>
                  <a:pt x="18000" y="220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b682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sociated mood and affec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sudobulbar pals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augh in feeling depressed, cry in a good mo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athy, emotional blu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rontal lobe disturbances, schizophrenic and extrapyramidal disord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utonia ( feeling of physical well-being 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ultiple scleros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566640" y="1596960"/>
            <a:ext cx="8047080" cy="4962600"/>
          </a:xfrm>
          <a:prstGeom prst="rect">
            <a:avLst/>
          </a:prstGeom>
          <a:ln w="0">
            <a:noFill/>
          </a:ln>
        </p:spPr>
      </p:pic>
      <p:sp>
        <p:nvSpPr>
          <p:cNvPr id="188" name="Rounded Rectangle 9"/>
          <p:cNvSpPr/>
          <p:nvPr/>
        </p:nvSpPr>
        <p:spPr>
          <a:xfrm>
            <a:off x="3595680" y="1523880"/>
            <a:ext cx="5243400" cy="5131080"/>
          </a:xfrm>
          <a:prstGeom prst="roundRect">
            <a:avLst>
              <a:gd name="adj" fmla="val 16667"/>
            </a:avLst>
          </a:prstGeom>
          <a:solidFill>
            <a:srgbClr val="b2c1ce"/>
          </a:solidFill>
          <a:ln w="10800">
            <a:solidFill>
              <a:srgbClr val="5b6e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utis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catatonic, conversion reaction, psudobulbar syndrom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apid spee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mani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rosodia/dysprosod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extrapyramidal disturbances, anterior right hemispheric les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NEUROPSYCHIATRIC INTERVIEW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Content Placeholder 4" descr=""/>
          <p:cNvPicPr/>
          <p:nvPr/>
        </p:nvPicPr>
        <p:blipFill>
          <a:blip r:embed="rId1"/>
          <a:stretch/>
        </p:blipFill>
        <p:spPr>
          <a:xfrm>
            <a:off x="603360" y="1596960"/>
            <a:ext cx="799776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5:19:53Z</dcterms:created>
  <dc:creator>ACER</dc:creator>
  <dc:description/>
  <dc:language>en-US</dc:language>
  <cp:lastModifiedBy>ACER</cp:lastModifiedBy>
  <dcterms:modified xsi:type="dcterms:W3CDTF">2013-11-14T10:48:13Z</dcterms:modified>
  <cp:revision>40</cp:revision>
  <dc:subject/>
  <dc:title>PowerPoint Presentation</dc:title>
</cp:coreProperties>
</file>