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FE9-0575-44A5-AB1C-F4ED3E7D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C42-403A-4CCD-868E-641862A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5F7-C2ED-4C0B-B506-DC05E7C9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1DC-392A-492D-AAD6-5CF6AF8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C29-8E8B-46B5-BB9F-11508046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4CFF-369D-49BD-95A7-9035756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E9C2-5379-46C7-BFA5-C22D3E04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B764-DF1B-4157-8AE4-5885EB3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361-ECC2-40C9-AAFB-9E31EC1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C058-836B-44EA-8473-A50B424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7F68-F7A6-4684-ABF1-3F922D2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762-AF64-4D84-BD96-D266CA3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A0D7-9402-44D1-BB81-B9E7511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6A55-8AE1-40F1-AE1C-B34E241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151E-7E43-415B-BA84-F6EFCD4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C2F8-1910-4AD2-929A-9733B18E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3C2-4962-4A4D-B3C6-601936E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EAFF-1560-4FCB-9027-B6C023E4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01DA-6FAF-48AE-8D6B-72F1F11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3067-9E33-4B9F-AD4F-9113EFB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567F-3C72-48E8-9429-64D7AE50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8647-6F61-40D7-8A45-B0DBB46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CA5-7B4B-47D7-9050-EDBEB82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0F1A-8766-4485-9E2F-2F65C0BB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75C0-1970-4738-B26C-BA952DE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520A-90A4-4E8E-A2BF-CE52294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E397-475A-4A1B-98A0-321C463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BDDF-90EC-4BB8-987A-C04B518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2B39-2FE1-4A42-9109-F25C3649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27D7-D415-43CD-B210-919C1A39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0A61-8850-494D-B1FE-203CEE65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3B2E-4784-447D-9F7D-190CEE4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1139-8068-4E24-A06D-A4A6BD2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7E9-CC61-421C-870A-A46259C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1F83-98AD-415C-9D96-AB0A9F4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57B5-A905-4914-A346-1D10FE0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0F6D-63B8-4A56-87C5-8705CE7F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7A7E-7D40-4DB4-9635-FA59A7C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E6C3-7E93-4E87-B3ED-832034A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2355-003C-46D6-ACAC-483228E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EF7F-091D-4699-A115-5526FC96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0E4D-21D1-40E1-B5F9-2589E3C3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84BE-4CE8-4E0A-A363-FD1BCC82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8C3-F388-4F03-A300-DB45A71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FDA-0AB3-42F2-8EC7-B18DA0A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829-0F23-4C2B-BB69-5A8CFF7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950-A049-4D56-BA0B-E96A8EB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F21-3654-4FE2-B477-C392F90F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694C-0AF8-413E-91A2-12A22F3C77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632-7908-4B7F-A004-C1A3592C987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3AD8-01DC-42E5-86D9-50402285888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FC4D-B293-44F9-A6AF-CFB42F97426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dr. Zulvia Oktanida Syari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DR. dr. Martina Wiwie, SpKJ(K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21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NEUROPSYCHIATRIC ASSESSMENT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39640" y="556272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SOURCE: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europsychiatry and Behavioral Neuroscience. Chapter 3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Jeffrey  L. Cummings , Michael S. Mega. 2003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  <p:sp>
        <p:nvSpPr>
          <p:cNvPr id="193" name="Rounded Rectangle 5"/>
          <p:cNvSpPr/>
          <p:nvPr/>
        </p:nvSpPr>
        <p:spPr>
          <a:xfrm>
            <a:off x="4038480" y="1523880"/>
            <a:ext cx="4800600" cy="419112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tistic thinking, loosening of associ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chizophre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mstanti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pileptogenic lesions in the limbic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ight of ide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a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eve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ementia, frontal lobe syndromes, acute confusional st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  <p:sp>
        <p:nvSpPr>
          <p:cNvPr id="196" name="Rounded Rectangle 6"/>
          <p:cNvSpPr/>
          <p:nvPr/>
        </p:nvSpPr>
        <p:spPr>
          <a:xfrm>
            <a:off x="4114800" y="1447920"/>
            <a:ext cx="4343400" cy="42670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abu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mpaired memo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ndrome of approximate answer (Ganser syndrom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ysterical pseudodementia in head trauma or toxic-metabolic encephalopath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ntent Placeholder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3670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603360" y="1468440"/>
            <a:ext cx="7937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603360" y="1468440"/>
            <a:ext cx="7937280" cy="4956120"/>
          </a:xfrm>
          <a:prstGeom prst="rect">
            <a:avLst/>
          </a:prstGeom>
          <a:ln w="0">
            <a:noFill/>
          </a:ln>
        </p:spPr>
      </p:pic>
      <p:sp>
        <p:nvSpPr>
          <p:cNvPr id="203" name="Rounded Rectangular Callout 4"/>
          <p:cNvSpPr/>
          <p:nvPr/>
        </p:nvSpPr>
        <p:spPr>
          <a:xfrm>
            <a:off x="1295280" y="1523880"/>
            <a:ext cx="6934320" cy="4724640"/>
          </a:xfrm>
          <a:prstGeom prst="wedgeRoundRectCallout">
            <a:avLst>
              <a:gd name="adj1" fmla="val -57134"/>
              <a:gd name="adj2" fmla="val -47370"/>
              <a:gd name="adj3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saving strategy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sk patient to perform a difficult task derived from each of the five principal domains of neuropsychological function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tten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suospatial ski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ecutive fun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08" name="Rounded Rectangle 4"/>
          <p:cNvSpPr/>
          <p:nvPr/>
        </p:nvSpPr>
        <p:spPr>
          <a:xfrm>
            <a:off x="3581280" y="1523880"/>
            <a:ext cx="5105520" cy="43434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igit span t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repeat a list of numbers dictated by the examiner (7 +- 2 digits forward, 5 +- 1 digits revers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A t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ifting hand whenever the letter A is heard in a list of letters read aloud by the examiner (error of ommiss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istractibility, error of commiss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xie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5"/>
          <p:cNvSpPr/>
          <p:nvPr/>
        </p:nvSpPr>
        <p:spPr>
          <a:xfrm>
            <a:off x="3581280" y="1535040"/>
            <a:ext cx="5105520" cy="501804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mispatial neglect: unilateral sensory attention (hemi-inattention), unilateral motor activity (hemi-inintention)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ceive one of two auditory click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el one of two somatosensory stimul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d only half of written wor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raw only half constru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gnore half of vertically written math probl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4" name="Rounded Rectangle 6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mispatial (visual) negl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line crossing te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per with short straight line scatter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tient’s asked to cross each line in the midd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le 7"/>
          <p:cNvSpPr/>
          <p:nvPr/>
        </p:nvSpPr>
        <p:spPr>
          <a:xfrm>
            <a:off x="3505320" y="150480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straction of 7’s from 1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straction of 3’s from 2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lling “world” backw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ying months of the year in the rever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europsychiatric interview and Mental Status Examination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europsychiatric and Neurobehavioral diagnos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nical assessment requires: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Experie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Understanding of brain function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Knowledge of examination techniqu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Down Arrow 5"/>
          <p:cNvSpPr/>
          <p:nvPr/>
        </p:nvSpPr>
        <p:spPr>
          <a:xfrm flipH="1">
            <a:off x="4114800" y="2151000"/>
            <a:ext cx="914400" cy="533520"/>
          </a:xfrm>
          <a:prstGeom prst="downArrow">
            <a:avLst>
              <a:gd name="adj1" fmla="val 50000"/>
              <a:gd name="adj2" fmla="val 46014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2" name="Oval Callout 5"/>
          <p:cNvSpPr/>
          <p:nvPr/>
        </p:nvSpPr>
        <p:spPr>
          <a:xfrm>
            <a:off x="2895480" y="2133720"/>
            <a:ext cx="5639040" cy="3581280"/>
          </a:xfrm>
          <a:prstGeom prst="wedgeEllipseCallout">
            <a:avLst>
              <a:gd name="adj1" fmla="val -54314"/>
              <a:gd name="adj2" fmla="val -44518"/>
            </a:avLst>
          </a:prstGeom>
          <a:solidFill>
            <a:srgbClr val="ecc577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nguage fluenc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4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5" name="Oval Callout 6"/>
          <p:cNvSpPr/>
          <p:nvPr/>
        </p:nvSpPr>
        <p:spPr>
          <a:xfrm>
            <a:off x="3429000" y="457200"/>
            <a:ext cx="5562720" cy="5562720"/>
          </a:xfrm>
          <a:prstGeom prst="wedgeEllipseCallout">
            <a:avLst>
              <a:gd name="adj1" fmla="val -69425"/>
              <a:gd name="adj2" fmla="val 2893"/>
            </a:avLst>
          </a:prstGeom>
          <a:solidFill>
            <a:srgbClr val="9d936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ree-step pointing to room objects ( door, window, chai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sy to difficult yes/no Qs ( Is your name X? Do you put your shoes on before your sock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8" name="Oval Callout 7"/>
          <p:cNvSpPr/>
          <p:nvPr/>
        </p:nvSpPr>
        <p:spPr>
          <a:xfrm>
            <a:off x="3581280" y="685800"/>
            <a:ext cx="5410440" cy="5867280"/>
          </a:xfrm>
          <a:prstGeom prst="wedgeEllipseCallout">
            <a:avLst>
              <a:gd name="adj1" fmla="val -76662"/>
              <a:gd name="adj2" fmla="val 6666"/>
            </a:avLst>
          </a:prstGeom>
          <a:solidFill>
            <a:srgbClr val="9d936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 construction (“if a lion and a tiger are in a fight, and the lion is killed by the tiger, which animal is dead?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sessive (“Is my wife’s brother is a man or a woman?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0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1" name="Oval Callout 8"/>
          <p:cNvSpPr/>
          <p:nvPr/>
        </p:nvSpPr>
        <p:spPr>
          <a:xfrm>
            <a:off x="2533680" y="0"/>
            <a:ext cx="6629400" cy="6553080"/>
          </a:xfrm>
          <a:prstGeom prst="wedgeEllipseCallout">
            <a:avLst>
              <a:gd name="adj1" fmla="val -50023"/>
              <a:gd name="adj2" fmla="val 33972"/>
            </a:avLst>
          </a:prstGeom>
          <a:solidFill>
            <a:srgbClr val="56b66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eat each sentence exactly as spoken by the exami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mple phrase: “he is her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fficult phrase: “The quick brown fox jumped over the lazy dog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etition span (number of words that can be repeated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ypically two words longer than the digit’s sp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4" name="Oval Callout 2"/>
          <p:cNvSpPr/>
          <p:nvPr/>
        </p:nvSpPr>
        <p:spPr>
          <a:xfrm>
            <a:off x="914400" y="2971800"/>
            <a:ext cx="7848720" cy="3276720"/>
          </a:xfrm>
          <a:prstGeom prst="wedgeEllipseCallout">
            <a:avLst>
              <a:gd name="adj1" fmla="val -8958"/>
              <a:gd name="adj2" fmla="val -65351"/>
            </a:avLst>
          </a:prstGeom>
          <a:solidFill>
            <a:srgbClr val="56b66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om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st often one aspect of aphasia syndr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eral paraphasia (“greel for green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rbal paraphasia (“blue for green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ologism (completely new construc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umlocution (description of the object without naming it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7" name="Oval Callout 9"/>
          <p:cNvSpPr/>
          <p:nvPr/>
        </p:nvSpPr>
        <p:spPr>
          <a:xfrm>
            <a:off x="609480" y="4038480"/>
            <a:ext cx="8552160" cy="2667240"/>
          </a:xfrm>
          <a:prstGeom prst="wedgeEllipseCallout">
            <a:avLst>
              <a:gd name="adj1" fmla="val -12879"/>
              <a:gd name="adj2" fmla="val -60402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ing difficulties can be judged after considering level of edu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ability to read aloud and reading comprehens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tter, word, sentence reading should be test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ex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terior/posterior left-sided les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0" name="Oval Callout 10"/>
          <p:cNvSpPr/>
          <p:nvPr/>
        </p:nvSpPr>
        <p:spPr>
          <a:xfrm>
            <a:off x="1219320" y="1001880"/>
            <a:ext cx="7619760" cy="3276360"/>
          </a:xfrm>
          <a:prstGeom prst="wedgeEllipseCallout">
            <a:avLst>
              <a:gd name="adj1" fmla="val 2587"/>
              <a:gd name="adj2" fmla="val 77115"/>
            </a:avLst>
          </a:prstGeom>
          <a:solidFill>
            <a:srgbClr val="92d05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raphia (disturbance of writ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hasic will make errors in written as well as oral produ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ipheral,corticospinal,extrapyramidal and cerebellar disturba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isrupt motoric aspect of wri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3" name="Oval Callout 2"/>
          <p:cNvSpPr/>
          <p:nvPr/>
        </p:nvSpPr>
        <p:spPr>
          <a:xfrm>
            <a:off x="609480" y="2590920"/>
            <a:ext cx="7925040" cy="4079880"/>
          </a:xfrm>
          <a:prstGeom prst="wedgeEllipseCallout">
            <a:avLst>
              <a:gd name="adj1" fmla="val 22550"/>
              <a:gd name="adj2" fmla="val -58976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rbal fluenc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Name as many animals as possible in 1 minute (normal 18 +- 6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Name as many words beginning with letter F, than A, then S . 1 min/letter (mean 15 +- 5 per letter or mean total of 45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tients with prefrontal lesion, basal ganglia disorder, psychomotor retard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ai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6" name="Oval Callout 9"/>
          <p:cNvSpPr/>
          <p:nvPr/>
        </p:nvSpPr>
        <p:spPr>
          <a:xfrm>
            <a:off x="36360" y="457200"/>
            <a:ext cx="6288120" cy="5791320"/>
          </a:xfrm>
          <a:prstGeom prst="wedgeEllipseCallout">
            <a:avLst>
              <a:gd name="adj1" fmla="val 54740"/>
              <a:gd name="adj2" fmla="val 8453"/>
            </a:avLst>
          </a:prstGeom>
          <a:solidFill>
            <a:srgbClr val="b2c1ce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rosodic output: monotonic, amelodic, affectles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aspects: spontaneous prosody, prosodic comprehens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ontaneous prosod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istening to verbal utterances during convers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odic comprehens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utral sentence executed by examiner in 4 prosodic styles ( surprised, happy, angry, sad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9" name="Oval Callout 10"/>
          <p:cNvSpPr/>
          <p:nvPr/>
        </p:nvSpPr>
        <p:spPr>
          <a:xfrm>
            <a:off x="228600" y="152280"/>
            <a:ext cx="7772400" cy="3997440"/>
          </a:xfrm>
          <a:prstGeom prst="wedgeEllipseCallout">
            <a:avLst>
              <a:gd name="adj1" fmla="val 35509"/>
              <a:gd name="adj2" fmla="val 64870"/>
            </a:avLst>
          </a:prstGeom>
          <a:solidFill>
            <a:srgbClr val="a2afb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ic speech (counting, reciting alphabet, naming the days of the week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g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ythmic asp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ft hemisphere, tone and pit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ight hemisphe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hasic patients can often reproduce tune of a familiar song (Happy B’day) even when  they cant sing the wor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54" name="Rounded Rectangle 4"/>
          <p:cNvSpPr/>
          <p:nvPr/>
        </p:nvSpPr>
        <p:spPr>
          <a:xfrm>
            <a:off x="3524400" y="1295280"/>
            <a:ext cx="5410080" cy="52578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nt memory: orientation, recall recently presented verbal/non verbal inform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entation in time and spa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 patient 3-4 words, recall after 3 minu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nt memory disturbances: amnesia and retrieval deficit syndro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nes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ot benefited from clu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k patient to copy construction after 3 minu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ight hemisphere,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ft hemisphe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57" name="Rounded Rectangle 5"/>
          <p:cNvSpPr/>
          <p:nvPr/>
        </p:nvSpPr>
        <p:spPr>
          <a:xfrm>
            <a:off x="3505320" y="682560"/>
            <a:ext cx="5410080" cy="5943600"/>
          </a:xfrm>
          <a:custGeom>
            <a:avLst/>
            <a:gdLst>
              <a:gd name="textAreaLeft" fmla="*/ 263880 w 5410080"/>
              <a:gd name="textAreaRight" fmla="*/ 5146200 w 5410080"/>
              <a:gd name="textAreaTop" fmla="*/ 263880 h 5943600"/>
              <a:gd name="textAreaBottom" fmla="*/ 5679720 h 5943600"/>
            </a:gdLst>
            <a:ahLst/>
            <a:rect l="textAreaLeft" t="textAreaTop" r="textAreaRight" b="textAreaBottom"/>
            <a:pathLst>
              <a:path w="21600" h="23730">
                <a:moveTo>
                  <a:pt x="3600" y="0"/>
                </a:moveTo>
                <a:arcTo wR="3600" hR="3600" stAng="16200000" swAng="-5400000"/>
                <a:lnTo>
                  <a:pt x="0" y="20130"/>
                </a:lnTo>
                <a:arcTo wR="3600" hR="3600" stAng="10800000" swAng="-5400000"/>
                <a:lnTo>
                  <a:pt x="18000" y="237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of constructional 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creening for brain dysfun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ock drawing t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isuospatioal abil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aw the face of the clock including numb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ce too sma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ficit in planning and foresigh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mber placement: unilateral negl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nly one side of the cloc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clock to 11:10. Executive dysfun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accurate (10:50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oconstructive and constructive  abilii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rietal or frontal lob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0" name="Rounded Rectangle 6"/>
          <p:cNvSpPr/>
          <p:nvPr/>
        </p:nvSpPr>
        <p:spPr>
          <a:xfrm>
            <a:off x="3489480" y="291960"/>
            <a:ext cx="5410080" cy="5943600"/>
          </a:xfrm>
          <a:custGeom>
            <a:avLst/>
            <a:gdLst>
              <a:gd name="textAreaLeft" fmla="*/ 263880 w 5410080"/>
              <a:gd name="textAreaRight" fmla="*/ 5146200 w 5410080"/>
              <a:gd name="textAreaTop" fmla="*/ 263880 h 5943600"/>
              <a:gd name="textAreaBottom" fmla="*/ 5679720 h 5943600"/>
            </a:gdLst>
            <a:ahLst/>
            <a:rect l="textAreaLeft" t="textAreaTop" r="textAreaRight" b="textAreaBottom"/>
            <a:pathLst>
              <a:path w="21600" h="23730">
                <a:moveTo>
                  <a:pt x="3600" y="0"/>
                </a:moveTo>
                <a:arcTo wR="3600" hR="3600" stAng="16200000" swAng="-5400000"/>
                <a:lnTo>
                  <a:pt x="0" y="20130"/>
                </a:lnTo>
                <a:arcTo wR="3600" hR="3600" stAng="10800000" swAng="-5400000"/>
                <a:lnTo>
                  <a:pt x="18000" y="237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alculia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uent aphasia, paraphasic errors in reading, writing and saying numbers, impossible correct calcul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ight-sided parietal les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ability to correctly align columns of written numb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anarithmetr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sft-sided posterior hemisphere lesion (part of Gerstmanss’s syndrom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ability to perform actual numerical manipul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Rounded Rectangle 2"/>
          <p:cNvSpPr/>
          <p:nvPr/>
        </p:nvSpPr>
        <p:spPr>
          <a:xfrm>
            <a:off x="3429000" y="1657440"/>
            <a:ext cx="5181480" cy="40384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you do if you found a stamped addressed envelope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you do if you were the first to see a fire in the crowded theater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ight of illness: what the patient understands about the illness, intends to do after leaving the hospit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505320" y="1676520"/>
            <a:ext cx="4952880" cy="40384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test praxis: limb, whole body, oral-lingual mov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b: “show me how you comb your hair”, “show me how you brush your teet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ole body: “take a bow”, show me how you swing a golf club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al-lingual: “show me how you blow a match”, “show me how you suck through a straw”, “coug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3581280" y="1676520"/>
            <a:ext cx="4953240" cy="40384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ational praxis : to synthesize a series of individual actions into a complex activ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ntomime steps of a complicated task: putting a letter into an envelope, sealing and addressing the envelope, adding a stamp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ational praxis disrupted in diffuse/multifocal brain lesions or dementia syndro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ontent Placeholder 3" descr=""/>
          <p:cNvPicPr/>
          <p:nvPr/>
        </p:nvPicPr>
        <p:blipFill>
          <a:blip r:embed="rId1"/>
          <a:stretch/>
        </p:blipFill>
        <p:spPr>
          <a:xfrm>
            <a:off x="549360" y="1596960"/>
            <a:ext cx="8143920" cy="2036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"/>
          <p:cNvPicPr/>
          <p:nvPr/>
        </p:nvPicPr>
        <p:blipFill>
          <a:blip r:embed="rId1"/>
          <a:stretch/>
        </p:blipFill>
        <p:spPr>
          <a:xfrm>
            <a:off x="549360" y="1596960"/>
            <a:ext cx="8143920" cy="2036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Oval Callout 2"/>
          <p:cNvSpPr/>
          <p:nvPr/>
        </p:nvSpPr>
        <p:spPr>
          <a:xfrm>
            <a:off x="3505320" y="685800"/>
            <a:ext cx="5638680" cy="5867280"/>
          </a:xfrm>
          <a:prstGeom prst="wedgeEllipseCallout">
            <a:avLst>
              <a:gd name="adj1" fmla="val -55476"/>
              <a:gd name="adj2" fmla="val -15375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py the alternating sequences or looped figu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iproc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ciprocal maneuvers. E.g: patient taps once if examiner taps tw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hythm tapping: imitate a rhythmic sequence of tap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ial hand sequ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ute a series of repeating hand postures while announcing aloud the name of each posture (fist-slap-si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  <p:sp>
        <p:nvSpPr>
          <p:cNvPr id="281" name="Rounded Rectangle 2"/>
          <p:cNvSpPr/>
          <p:nvPr/>
        </p:nvSpPr>
        <p:spPr>
          <a:xfrm>
            <a:off x="3581280" y="1467000"/>
            <a:ext cx="5029200" cy="440028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ise right / left h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 right ear with left h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icate examiner’s right/left hand ( facing each oth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  <p:sp>
        <p:nvSpPr>
          <p:cNvPr id="284" name="Rounded Rectangle 4"/>
          <p:cNvSpPr/>
          <p:nvPr/>
        </p:nvSpPr>
        <p:spPr>
          <a:xfrm>
            <a:off x="3581280" y="1371600"/>
            <a:ext cx="5029200" cy="480060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int to little finger, middle finger, ring finger, index fing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ing individual finger on patient’s hand while it is above head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 any combination of two fing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how many digits between those touch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2"/>
          <p:cNvSpPr/>
          <p:nvPr/>
        </p:nvSpPr>
        <p:spPr>
          <a:xfrm>
            <a:off x="3429000" y="1511280"/>
            <a:ext cx="5181480" cy="4267080"/>
          </a:xfrm>
          <a:prstGeom prst="roundRect">
            <a:avLst>
              <a:gd name="adj" fmla="val 16667"/>
            </a:avLst>
          </a:prstGeom>
          <a:solidFill>
            <a:srgbClr val="b4936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lfa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entify odo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ti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visual: opthalmoscopy, Snellen char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,4,6 Oculomotor,trochlear,abduce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ocular motility and pupillary respon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gemin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muscle of the jaw, facial and corneal sens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i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facial musculature, UMN les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ontralateral lower facial paresis, peripheral nerve les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psilateral paralysis of upper and lower fa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ditory and vestibula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deafness, auditory hallucinations, nystagmus, vertig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2" name="Rounded Rectangle 4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b4936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9,10.  Glossopharyngeal and v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haryngela, laryngeal function,taste, gag reflex. Dysfunction of v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oarse voice, aphonia, dysphag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. Spinal access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rapezius and sternocleidomastoideous musc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2. Hypogloss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un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4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5"/>
          <p:cNvSpPr/>
          <p:nvPr/>
        </p:nvSpPr>
        <p:spPr>
          <a:xfrm>
            <a:off x="3581280" y="1409760"/>
            <a:ext cx="5181840" cy="42670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cle bul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visual inspection, palpation, measur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ength, graded as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0: no evidence of muscle contrac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: muscle contraction without movement of lim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: limb movement after gravity eliminat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: limb movement against grav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: limb movement against partial resisten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: normal streng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7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8" name="Rounded Rectangle 6"/>
          <p:cNvSpPr/>
          <p:nvPr/>
        </p:nvSpPr>
        <p:spPr>
          <a:xfrm>
            <a:off x="3581280" y="1504800"/>
            <a:ext cx="5181840" cy="426744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scle tone: passively manipulating the limbs or nec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aw a square in the air, check tone of the other ar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ent’s sig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rkinsonism extrapyramidal rigid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genhalten (paratoni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istence to move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xy flexi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ne change in cataton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301" name="Rounded Rectangle 7"/>
          <p:cNvSpPr/>
          <p:nvPr/>
        </p:nvSpPr>
        <p:spPr>
          <a:xfrm>
            <a:off x="3505320" y="1447920"/>
            <a:ext cx="5181480" cy="42670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ordin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lternating movements (supination and pronationfinger to nose mov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ait and post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ait analy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ft sig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inor motor abnormalities, normal in childho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79" name="Rounded Rectangle 6"/>
          <p:cNvSpPr/>
          <p:nvPr/>
        </p:nvSpPr>
        <p:spPr>
          <a:xfrm>
            <a:off x="3562200" y="1523880"/>
            <a:ext cx="5124600" cy="50292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hevel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rontal lobe syndrome, schizophrenic illnes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essing with multiple layer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ementia, acute confusional st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usual combination of style and colors of dre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chizophrenic and manic syndro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304" name="Rounded Rectangle 8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aphestes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ility to identify numbers written on the tips of the fing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reogn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ility to recognize objects by touch when placed in the ha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1504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7"/>
          <p:cNvSpPr/>
          <p:nvPr/>
        </p:nvSpPr>
        <p:spPr>
          <a:xfrm>
            <a:off x="3581280" y="1676520"/>
            <a:ext cx="5029200" cy="48528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tarded depres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sychomotor slowing, long latency of replies, paucity of verbal output, hypophonia, bowed post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le 8"/>
          <p:cNvSpPr/>
          <p:nvPr/>
        </p:nvSpPr>
        <p:spPr>
          <a:xfrm>
            <a:off x="3581280" y="1447920"/>
            <a:ext cx="5105520" cy="5207040"/>
          </a:xfrm>
          <a:custGeom>
            <a:avLst/>
            <a:gdLst>
              <a:gd name="textAreaLeft" fmla="*/ 249120 w 5105520"/>
              <a:gd name="textAreaRight" fmla="*/ 4856400 w 5105520"/>
              <a:gd name="textAreaTop" fmla="*/ 249120 h 5207040"/>
              <a:gd name="textAreaBottom" fmla="*/ 4957920 h 5207040"/>
            </a:gdLst>
            <a:ahLst/>
            <a:rect l="textAreaLeft" t="textAreaTop" r="textAreaRight" b="textAreaBottom"/>
            <a:pathLst>
              <a:path w="21600" h="22029">
                <a:moveTo>
                  <a:pt x="3600" y="0"/>
                </a:moveTo>
                <a:arcTo wR="3600" hR="3600" stAng="16200000" swAng="-5400000"/>
                <a:lnTo>
                  <a:pt x="0" y="18429"/>
                </a:lnTo>
                <a:arcTo wR="3600" hR="3600" stAng="10800000" swAng="-5400000"/>
                <a:lnTo>
                  <a:pt x="18000" y="22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sociated mood and affec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sudobulbar pals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augh in feeling depressed, cry in a good mo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athy, emotional blu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rontal lobe disturbances, schizophrenic and extrapyramidal disor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utonia ( feeling of physical well-being 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ultiple sclero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8" name="Rounded Rectangle 9"/>
          <p:cNvSpPr/>
          <p:nvPr/>
        </p:nvSpPr>
        <p:spPr>
          <a:xfrm>
            <a:off x="3595680" y="1523880"/>
            <a:ext cx="5243400" cy="5131080"/>
          </a:xfrm>
          <a:prstGeom prst="roundRect">
            <a:avLst>
              <a:gd name="adj" fmla="val 16667"/>
            </a:avLst>
          </a:prstGeom>
          <a:solidFill>
            <a:srgbClr val="b2c1ce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tis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atatonic, conversion reaction, psudobulbar syndrom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pid spee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man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rosodia/dysprosod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xtrapyramidal disturbances, anterior right hemispheric le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5:19:53Z</dcterms:created>
  <dc:creator>ACER</dc:creator>
  <dc:description/>
  <dc:language>en-US</dc:language>
  <cp:lastModifiedBy>ACER</cp:lastModifiedBy>
  <dcterms:modified xsi:type="dcterms:W3CDTF">2013-11-14T10:48:13Z</dcterms:modified>
  <cp:revision>40</cp:revision>
  <dc:subject/>
  <dc:title>PowerPoint Presentation</dc:title>
</cp:coreProperties>
</file>