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5001-9678-4D29-B206-F15EE07F61C3}" type="slidenum">
              <a:rPr b="0" lang="id-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D2BB-321D-467B-97DD-1C24E4D4491A}" type="slidenum">
              <a:rPr b="0" lang="id-ID"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6538D-F975-4447-9C23-8E2819CBA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A462D-34F3-4AB2-90AF-E22E69577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B22955C-42A5-4778-A72E-5027223169F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BB877A7-DAA8-4DCF-83CA-B953ECBD58E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C53AFCE-810D-4C44-A07C-6D7528315A9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46A646C-D0D7-4E29-B401-6F3F90DC72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2B28E32-A963-4F83-80AE-AE5B338FF35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C9F031F-A917-449D-8D37-A1424D6BC4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B10A9DF-BA51-46FA-A38E-0C80631C76F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06056BB-F282-4220-B31E-BDBE1B0DF4D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35A0649-D273-43F9-B462-77D19D22017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DBD294F-BA1E-487E-9261-7D30D99475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583ED-CAE7-4F94-955E-3B430BF75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5955905-2EB8-4E65-BCB5-D158325A4B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D0E2FCB-3888-40D9-ADEC-B2B1FCEFB6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B7695D4-567D-4AEB-AB28-27382FA4B3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A7BBC68-D631-49B3-AF31-A380EFE0E4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BFA9DE9-C9E8-4FD4-8B6D-0F3D17296B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2EC45F6-B6ED-4211-AF2D-5CFDCB9E32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67AB184-9B3B-494E-B082-B2CEB87B61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B05AF38-9FE9-4471-9E79-223A4E3AE2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8B96796-7BEE-4553-8049-11867194E6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4495645-C283-444D-9C63-C9804CE2CA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B6E75-0641-413E-A387-F2DA05C77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8A0D0F5-0FC6-4FF7-B8C7-61C487C7EB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E44788-003A-4D48-8701-0510C80D78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4A5118-B42B-4C72-A7B0-B3C5B410D0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EDB0A7-1797-49F6-8A13-073F9C285A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2F61AE-7A09-426F-9154-85B935AFDC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7718E4-3606-4253-BB47-E9E485D8F8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8A94FF-AFCC-4D70-A8D4-7276D98FCE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96DA02-40D7-41AF-BA50-94AD51A295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931F51-8516-4DC2-A305-EDA344FF59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C4ECEE-20F3-45D5-A170-760582CD24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84C15-8550-4C14-8B94-A61064C89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F0EE18-BDA1-423D-959F-B796EDFD43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5120086-5D8F-4091-9C7D-F9E27040D4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77FEE6-5F05-4003-81F7-97C62EADF93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C2519D9-6A08-4C06-B996-56F4C85416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7B1A806-1E09-4888-9DB2-242C772DE0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1EB618D-D10E-4D5D-BBAB-0A2143069A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8E4943A-10DB-4681-9710-D4BF46ED3F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126B9C7-A908-44DE-8BD2-9B46E8C74F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A450C26-1A10-4960-BD97-3B3FD6A3A8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0C4F658-47AE-4443-8F07-0650F6F65D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8908B-8ED1-43F8-8233-FD280CE88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B60587D-0245-445F-9D28-4EC1F5F554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F82570F-9E79-4899-AB83-FDDA8CCBD1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5CD5685-81EF-4D8E-9DD5-E14E4AE69C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56B765D-8073-46FE-9E9E-FECD7753F3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09BA621-BC45-4A25-87B7-DB58EB30A8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A81AB-CD74-4A90-8F08-502AAFD6B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BA126-04A9-429B-AA9C-3419D5792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1C207-CD67-46D4-8A3A-A5F4B500F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59E28-4532-49C4-BAEB-B4D5246E8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37A16-E983-45EE-BBB1-227B2D365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23290-D5AC-43FE-BACF-1435F03E6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49AD4-80CC-4686-B765-601B6B102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29369-7C64-4347-9527-7397A2853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FB370-3FC2-4038-8BFC-1523DD643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1ABA7-DB8B-4294-906C-F317B430A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B1BA7-FC31-4008-BC74-BF6DCD8E4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D22BBD-89A5-4596-A8A3-C97FF6027D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4B8BF7-F249-4F26-BFBD-B7AFA97BF7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BB4292-B0DD-4B39-833E-93039068ED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367A53-5171-47DD-991E-DAF4FDC9D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FAB94-F920-4FB9-8B2E-1A7422EDF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F9A78-6176-4BF3-849E-6CB84C3BD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489C5-60E2-49A3-AA36-6C2BB0137F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390D81-9B26-4316-B1D1-1466304E2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D8784-9F6F-435D-878B-BFDD2D7CB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4C5CA-992D-4B51-9FFE-80201F514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244CD1-4228-4614-AD8C-EBCFC9F8C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94E4D7-A0F4-4B51-AC53-66E0D07ACD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0451B2-906A-4E05-A119-B43D5451EB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DBFC36F-8273-454C-8799-2DBAD2DD1F2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3985B12-B22B-452D-A9C9-2E0A77E87E8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861DB39-CA39-4161-AF20-991433CFB78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E9E35-A70B-427F-9881-0F62D3D1E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3BCE330-5DB2-49FC-AB0F-0FAB985D93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565492C-96CC-41E1-B9F2-2BF9154CC92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7844964-B925-4DA1-A07F-E9CBECA6B50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E0DFE2E-D101-4DEB-A249-A5A6E918D1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1965480-1200-47F8-BFFF-D7BDCF8968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452CFA0-350B-4F90-B247-6AF8F2FED9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92D32BF-2483-4857-AEEE-FFF599442F6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2F78075-11D9-47C6-AE84-DCABC444209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613D1FD-1673-421A-8A03-05680883566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656C25-73FC-4987-82F3-9347B849BF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BB842-3458-4BAC-B894-59E7A94A8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458737-E4B8-4A64-BEED-6E6F44AB77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20699-5F59-443A-807A-BDB7F747E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15DF0-6E34-4AEE-B932-C9AFCB756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F65538-81AC-44B4-8990-6B65A79775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EB8204-23EB-4E31-B990-4DFA94F113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E8022B-8D87-41A2-970A-AD07519798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F1CEB-0234-4700-979D-FCCF2D573D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24B52-0700-4B0D-A055-AA5086985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E07F76-31DE-4424-8AA0-0529CBA7B3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6479FC-4A9A-47DC-912B-596DA8CE3D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6A13C-079B-48DA-94B1-B03269AB6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CB58CE-595E-4E58-AE56-6953774A3B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9F2D79-A494-49CE-9227-AA9FDA1AA2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E23877-BCD3-4DB5-B73C-0E472C97F5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CF6478-9F1B-4CF0-A187-14A876E2E5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611506-6A16-4F70-A805-1390F1A6A3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8B9681-A26D-4649-8811-DB32116AC7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88EAF4-3241-4DFC-82E6-4B302438B5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CED6C-85C1-42A5-904B-5321FE5B8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3C2D4E-9B9E-4719-BC40-C3595CA451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DA0DE-5AFD-4ECC-B8C9-C5B0F9684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73268-F01F-4103-8520-ECED34A73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82FBC0-A520-4DF4-8086-2E1E244DDE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4D9669-2074-4E21-87BF-A440226F23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4BA799-FC8B-4FED-824F-4337232E75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AF2A8A-1E35-484D-8028-8CC5EC9313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39942D-E947-4665-851A-6DEAC54E60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2F193E-3B50-481A-BEBF-733A9F1D23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D5A877-9459-47CE-9FEB-94BB82C4F5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B892F3-896B-4295-91A9-C2B71D9B35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8E0599-06CA-45CF-B653-2D8CC1ABC5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15B68-9819-4B94-A973-05F67DB8CF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76E9-11BD-400C-B399-2AE7A15F2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5195A-8BB8-4A1E-B9AD-19054DB264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1FC4C-3E2B-45C9-8601-FC8A30366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EECE0-A961-45EE-A318-BC631DB556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1E7999-6C22-47CF-B78F-0382C7B754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10E29F-66F4-48FC-A36F-05C61E5C0F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87855D-681E-4353-8E86-EA9F1A2871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E198D6-84B9-449D-94AC-4DD119E2EE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61CFE0-D5FE-475A-B393-CCE5FA06E6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156B28-5962-48CF-B761-CC63B4622F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781661-A068-49A3-AC03-E825C690D7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49AF5-D59C-46D6-AF59-2AEAB9623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7B7560-6406-4211-8268-77027FBDCB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E5A67-1585-4981-8221-0656F21291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36ECDF-C52A-4E6A-9F33-D2BCA4A225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2D09CE-6413-4B6B-8B38-0856969228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96DE3D-E7A8-4E55-933A-A0585F486E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F32F36-4B75-49CB-B715-058DA16222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D0B55D-42C6-46D0-8B36-3424C9AD5A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216D475-5B9B-4666-9783-9828800CC9B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351630C-1B1D-4D91-90B0-4A2410863F1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83868AB-8000-441E-A1DF-03E552E051D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82A4-2E09-4095-A3B8-0CF0941C1CAF}"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8B12-D24F-4A02-97C4-A3C062DACA16}"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E31A-8E35-4258-AE5C-75B9FB3449D0}"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6B43-F7A1-4216-A3AC-96ECC004C89E}"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C15E-A299-4415-AAA5-D9A807359199}"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7E93-A145-4377-A81C-67C9D9A3FC25}"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ECA5-E106-4A0B-93FC-941882EF6AC4}"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C867-6FD5-470A-BDAF-FDB597F9212E}"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514E-8707-4875-B443-6A81188247B5}"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6A68-4CB8-4180-B9ED-0A5A48C76D1C}"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CCB0-C250-42FA-9BDE-7BF19DC54D3D}" type="slidenum">
              <a:rPr b="0" lang="id-ID"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0B2F-B44C-4EBF-84E4-2E2B4F404FFE}"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642600" y="2819520"/>
            <a:ext cx="771516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PRESENTAN : DR. MEILIANA LINDAWAT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KONSULEN :DR.  RICHARD BUDIMAN SP.KJ(K)</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200" spc="-1" strike="noStrike">
                <a:solidFill>
                  <a:srgbClr val="d16349"/>
                </a:solidFill>
                <a:latin typeface="Georgia"/>
              </a:rPr>
              <a:t>F.1 ETIOLOGI</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Learning and Conditioning</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lIns="90000" rIns="90000" tIns="46800" bIns="46800" anchor="t">
            <a:normAutofit/>
          </a:bodyPr>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2. Withdrawal syndromes and negative reinforcement</a:t>
            </a:r>
            <a:endParaRPr b="0" lang="en-US" sz="2500" spc="-1" strike="noStrike">
              <a:solidFill>
                <a:srgbClr val="000000"/>
              </a:solidFill>
              <a:latin typeface="Georgia"/>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For example, in people who become dependent on benzodiazepines in the course of treatment for anxiety syndromes, when drug use is interrupted, some seem to experience a reappearance of the original symptoms, whereas others have new distressing symptoms indicating withdrawal. The use of benzodiazepines alleviates both kinds of aversive states. In either case, the drug is acting as a negative reinforcer in perpetuating drug use. Benzodiazepines can induce euphoria in alcoholic patients or in people with histories of sedative abuse, but they are not reliably euphorigenic in normal, nonalcoholic people</a:t>
            </a:r>
            <a:endParaRPr b="0" lang="en-US" sz="2500" spc="-1" strike="noStrike">
              <a:solidFill>
                <a:srgbClr val="000000"/>
              </a:solidFill>
              <a:latin typeface="Georgia"/>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514440" indent="-51444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Learning and Conditioning</a:t>
            </a:r>
            <a:endParaRPr b="0" lang="en-US" sz="3300" spc="-1" strike="noStrike">
              <a:solidFill>
                <a:srgbClr val="7b9899"/>
              </a:solidFill>
              <a:latin typeface="Georgia"/>
            </a:endParaRPr>
          </a:p>
        </p:txBody>
      </p:sp>
      <p:sp>
        <p:nvSpPr>
          <p:cNvPr id="634" name=""/>
          <p:cNvSpPr txBox="1"/>
          <p:nvPr/>
        </p:nvSpPr>
        <p:spPr>
          <a:xfrm>
            <a:off x="457200" y="1213920"/>
            <a:ext cx="8229600" cy="5357880"/>
          </a:xfrm>
          <a:prstGeom prst="rect">
            <a:avLst/>
          </a:prstGeom>
          <a:noFill/>
          <a:ln w="0">
            <a:noFill/>
          </a:ln>
        </p:spPr>
        <p:txBody>
          <a:bodyPr lIns="90000" rIns="90000" tIns="46800" bIns="46800"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3. Conditioned withdrawal and stress sensitivity</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long withdrawal phenomena, stress sensitivity, or both continue to contribute to risk of relapse is not clear. Evidence supports a withdrawal syndrome period for alcohol, opioids, and certain sedatives with subtle disturbances of mood, sleep, and cognition that persists for many weeks or months after the acute syndrome subsides. </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ether the dysregulation of the hypothalamic–pituitary–adrenal axis is causally related to protracted withdrawal or has a similar time course is still uncertain.</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60"/>
            <a:ext cx="8229600" cy="107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Integrating Neurobiology and Learning</a:t>
            </a:r>
            <a:endParaRPr b="0" lang="en-US" sz="3300" spc="-1" strike="noStrike">
              <a:solidFill>
                <a:srgbClr val="7b9899"/>
              </a:solidFill>
              <a:latin typeface="Georgia"/>
            </a:endParaRPr>
          </a:p>
        </p:txBody>
      </p:sp>
      <p:sp>
        <p:nvSpPr>
          <p:cNvPr id="636" name=""/>
          <p:cNvSpPr txBox="1"/>
          <p:nvPr/>
        </p:nvSpPr>
        <p:spPr>
          <a:xfrm>
            <a:off x="428760" y="856800"/>
            <a:ext cx="8229600" cy="6000840"/>
          </a:xfrm>
          <a:prstGeom prst="rect">
            <a:avLst/>
          </a:prstGeom>
          <a:noFill/>
          <a:ln w="0">
            <a:noFill/>
          </a:ln>
        </p:spPr>
        <p:txBody>
          <a:bodyPr lIns="90000" rIns="90000" tIns="46800" bIns="46800"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orge Koob and Michel LeMoal describe the addictive process as a “cycle of spiraling dysregulation of brain reward systems</a:t>
            </a:r>
            <a:r>
              <a:rPr b="0" lang="id-ID" sz="2400" spc="-1" strike="noStrike">
                <a:solidFill>
                  <a:srgbClr val="000000"/>
                </a:solidFill>
                <a:latin typeface="Georgia"/>
              </a:rPr>
              <a:t>”.  </a:t>
            </a:r>
            <a:r>
              <a:rPr b="0" lang="en-US" sz="2400" spc="-1" strike="noStrike">
                <a:solidFill>
                  <a:srgbClr val="000000"/>
                </a:solidFill>
                <a:latin typeface="Georgia"/>
              </a:rPr>
              <a:t>A strength of this description of the addictive process is the emphasis on the interaction of various neural systems subserving acute reinforcement, motivation effects of withdrawal, learned associations with drug effects, those systems (such as the cortico–striatal–thalamic circuits) involved in reinforcer evaluation, cognitive functioning and active inhibitory mechanisms, and the hypothalamic–pituitary–adrenal axis</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rry Robinson and Kent Berridge have elaborated on the role of drug-induced sensitization and alteration of brain structure in the development of addiction.</a:t>
            </a:r>
            <a:endParaRPr b="0" lang="en-US" sz="2400" spc="-1" strike="noStrike">
              <a:solidFill>
                <a:srgbClr val="000000"/>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oldstein and Volkow elaborate a perspective that makes considerable use of data from studies of neuroimaging</a:t>
            </a:r>
            <a:endParaRPr b="0" lang="en-US" sz="24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Integrating Neurobiology and Learning</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iological factors –vulnerabi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wins</a:t>
            </a:r>
            <a:r>
              <a:rPr b="0" lang="id-ID" sz="2700" spc="-1" strike="noStrike">
                <a:solidFill>
                  <a:srgbClr val="000000"/>
                </a:solidFill>
                <a:latin typeface="Georgia"/>
              </a:rPr>
              <a:t> :</a:t>
            </a:r>
            <a:r>
              <a:rPr b="0" lang="en-US" sz="2700" spc="-1" strike="noStrike">
                <a:solidFill>
                  <a:srgbClr val="000000"/>
                </a:solidFill>
                <a:latin typeface="Georgia"/>
              </a:rPr>
              <a:t> higher concordance rate for alcoholism among identical twins than among fraternal tw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roin</a:t>
            </a:r>
            <a:r>
              <a:rPr b="0" lang="id-ID" sz="2700" spc="-1" strike="noStrike">
                <a:solidFill>
                  <a:srgbClr val="000000"/>
                </a:solidFill>
                <a:latin typeface="Georgia"/>
              </a:rPr>
              <a:t>;</a:t>
            </a:r>
            <a:r>
              <a:rPr b="0" lang="en-US" sz="2700" spc="-1" strike="noStrike">
                <a:solidFill>
                  <a:srgbClr val="000000"/>
                </a:solidFill>
                <a:latin typeface="Georgia"/>
              </a:rPr>
              <a:t> 54 percent of total variance was due to genetic factors, and 70 percent of this genetic variance was due to drug-specific factor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Biological and Behavioral Differences</a:t>
            </a:r>
            <a:endParaRPr b="0" lang="en-US" sz="3300" spc="-1" strike="noStrike">
              <a:solidFill>
                <a:srgbClr val="7b9899"/>
              </a:solidFill>
              <a:latin typeface="Georgia"/>
            </a:endParaRPr>
          </a:p>
        </p:txBody>
      </p:sp>
      <p:sp>
        <p:nvSpPr>
          <p:cNvPr id="640" name=""/>
          <p:cNvSpPr txBox="1"/>
          <p:nvPr/>
        </p:nvSpPr>
        <p:spPr>
          <a:xfrm>
            <a:off x="457200" y="1213920"/>
            <a:ext cx="8229600" cy="52866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Example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a:t>
            </a:r>
            <a:r>
              <a:rPr b="0" lang="en-US" sz="2700" spc="-1" strike="noStrike">
                <a:solidFill>
                  <a:srgbClr val="000000"/>
                </a:solidFill>
                <a:latin typeface="Georgia"/>
              </a:rPr>
              <a:t>he electrical response of the brain that occurs approximately 300 milliseconds after a sensory stimulus (the P300 wave) has a smaller amplitude in nondrinking sons and daughters of alcoholic fathers than in control subjects without family histories of alcoholism</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decreased amplitude is believed to reflect a decreased capacity to recognize and interpret complex environmental stimuli</a:t>
            </a:r>
            <a:r>
              <a:rPr b="0" lang="id-ID" sz="2700" spc="-1" strike="noStrike">
                <a:solidFill>
                  <a:srgbClr val="000000"/>
                </a:solidFill>
                <a:latin typeface="Georgia"/>
              </a:rPr>
              <a:t>,</a:t>
            </a:r>
            <a:r>
              <a:rPr b="0" lang="en-US" sz="2700" spc="-1" strike="noStrike">
                <a:solidFill>
                  <a:srgbClr val="000000"/>
                </a:solidFill>
                <a:latin typeface="Georgia"/>
              </a:rPr>
              <a:t> an indicator of low physiological inhibition and reflective of a maturational lag</a:t>
            </a:r>
            <a:r>
              <a:rPr b="0" lang="id-ID"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7b9899"/>
                </a:solidFill>
                <a:latin typeface="Georgia"/>
              </a:rPr>
              <a:t>Psychodynamic Factors and Psychopathology</a:t>
            </a:r>
            <a:endParaRPr b="0" lang="en-US" sz="30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lIns="90000" rIns="90000" tIns="46800" bIns="46800" anchor="t">
            <a:normAutofit fontScale="93000"/>
          </a:bodyPr>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rug users</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ability to cope with painful affects than to the intensity or abnormality of the affects per se</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me substances pharmacologically and symbolically aid the ego in controlling those affects and that their use can be viewed as a form of self-medication</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sychodynamic perspective</a:t>
            </a:r>
            <a:r>
              <a:rPr b="0" lang="en-US" sz="2700" spc="-1" strike="noStrike">
                <a:solidFill>
                  <a:srgbClr val="000000"/>
                </a:solidFill>
                <a:latin typeface="Calibri"/>
                <a:ea typeface="Calibri"/>
              </a:rPr>
              <a:t>→</a:t>
            </a:r>
            <a:r>
              <a:rPr b="0" lang="en-US" sz="2700" spc="-1" strike="noStrike">
                <a:solidFill>
                  <a:srgbClr val="000000"/>
                </a:solidFill>
                <a:latin typeface="Georgia"/>
              </a:rPr>
              <a:t> psychopathology is the underlying motivation for initial use, dependent use, and relapse after a period of abstinence</a:t>
            </a:r>
            <a:endParaRPr b="0" lang="en-US" sz="27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Family Dynamics</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lIns="90000" rIns="90000" tIns="46800" bIns="46800" anchor="t">
            <a:normAutofit fontScale="94000"/>
          </a:bodyPr>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 understanding of the relationships among substance-using patients and their families is relevant for understanding the etiology of substance dependence and its treatment and for helping other family members to cope with problems associated with the substance-using behavior.</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spite the pathological interdependence between the addict and other family members, the addict is often described as passive, dependent, withdrawn, and unable to form close relationships</a:t>
            </a:r>
            <a:r>
              <a:rPr b="0" lang="id-ID"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Codependence</a:t>
            </a:r>
            <a:endParaRPr b="0" lang="en-US" sz="3300" spc="-1" strike="noStrike">
              <a:solidFill>
                <a:srgbClr val="7b9899"/>
              </a:solidFill>
              <a:latin typeface="Georgia"/>
            </a:endParaRPr>
          </a:p>
        </p:txBody>
      </p:sp>
      <p:sp>
        <p:nvSpPr>
          <p:cNvPr id="646" name=""/>
          <p:cNvSpPr txBox="1"/>
          <p:nvPr/>
        </p:nvSpPr>
        <p:spPr>
          <a:xfrm>
            <a:off x="301320" y="1526760"/>
            <a:ext cx="8504280" cy="5116680"/>
          </a:xfrm>
          <a:prstGeom prst="rect">
            <a:avLst/>
          </a:prstGeom>
          <a:noFill/>
          <a:ln w="0">
            <a:noFill/>
          </a:ln>
        </p:spPr>
        <p:txBody>
          <a:bodyPr lIns="90000" rIns="90000" tIns="46800" bIns="46800"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behavioral patterns of family members who have been significantly affected by another family member's substance use or addiction</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re are no established criteria</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Characteristics : for the users and families</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enabling behavior, </a:t>
            </a:r>
            <a:r>
              <a:rPr b="0" lang="en-US" sz="2500" spc="-1" strike="noStrike">
                <a:solidFill>
                  <a:srgbClr val="000000"/>
                </a:solidFill>
                <a:latin typeface="Georgia"/>
              </a:rPr>
              <a:t>because of social pressure to protect and support family members or because of pathological interdependencies, or both, enabling behavior often resists modification</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nwillingness to accept the notion of addiction as a disease</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nwilling to accept the notion that outside intervention is needed and, despite repeated failures</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Other Factors</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ny people believe that </a:t>
            </a:r>
            <a:endParaRPr b="0" lang="en-US" sz="2700" spc="-1" strike="noStrike">
              <a:solidFill>
                <a:srgbClr val="000000"/>
              </a:solidFill>
              <a:latin typeface="Georgia"/>
            </a:endParaRPr>
          </a:p>
          <a:p>
            <a:pPr marL="272880" indent="-27288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covery is powerfully influenced by the support of family and friends</a:t>
            </a:r>
            <a:endParaRPr b="0" lang="en-US" sz="2700" spc="-1" strike="noStrike">
              <a:solidFill>
                <a:srgbClr val="000000"/>
              </a:solidFill>
              <a:latin typeface="Georgia"/>
            </a:endParaRPr>
          </a:p>
          <a:p>
            <a:pPr marL="272880" indent="-27288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hope, faith, formal religious affiliation, or the sustaining love of some significant person are more important to their recovery than any specific treatmen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Comorbidity</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s the co-occurrence of two or more psychiatric disorders in a single patien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veral large epidemiological studies </a:t>
            </a:r>
            <a:r>
              <a:rPr b="0" lang="id-ID" sz="2700" spc="-1" strike="noStrike">
                <a:solidFill>
                  <a:srgbClr val="000000"/>
                </a:solidFill>
                <a:latin typeface="Calibri"/>
                <a:ea typeface="Calibri"/>
              </a:rPr>
              <a:t>→ </a:t>
            </a:r>
            <a:r>
              <a:rPr b="0" lang="en-US" sz="2700" spc="-1" strike="noStrike">
                <a:solidFill>
                  <a:srgbClr val="000000"/>
                </a:solidFill>
                <a:latin typeface="Georgia"/>
              </a:rPr>
              <a:t>those who meet the criteria for alcohol or drug abuse and dependence are more likely to meet the criteria for other psychiatric disorders also</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Why do people keep using substances?</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swer : Addictio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ddiction is a “brain diseas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Long-term drug-use results in significant changes in brain function that can persist long after the individual stops using drugs </a:t>
            </a:r>
            <a:r>
              <a:rPr b="0" lang="id-ID" sz="2700" spc="-1" strike="noStrike">
                <a:solidFill>
                  <a:srgbClr val="000000"/>
                </a:solidFill>
                <a:latin typeface="Calibri"/>
                <a:ea typeface="Calibri"/>
              </a:rPr>
              <a:t>→ many behavioral consequences : inability to exert control over the impuls to use drugs despite adverse consequences – the defining characteristic of addict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Multiple Factors</a:t>
            </a:r>
            <a:endParaRPr b="0" lang="en-US" sz="3300" spc="-1" strike="noStrike">
              <a:solidFill>
                <a:srgbClr val="7b9899"/>
              </a:solidFill>
              <a:latin typeface="Georgia"/>
            </a:endParaRPr>
          </a:p>
        </p:txBody>
      </p:sp>
      <p:sp>
        <p:nvSpPr>
          <p:cNvPr id="65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6600" spc="-1" strike="noStrike">
                <a:solidFill>
                  <a:srgbClr val="000000"/>
                </a:solidFill>
                <a:latin typeface="Georgia"/>
              </a:rPr>
              <a:t>TERIMA KASIH</a:t>
            </a:r>
            <a:endParaRPr b="0" lang="en-US" sz="6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ocial and environmental factors</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lIns="90000" rIns="90000" tIns="46800" bIns="46800"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Cultural, social attitudes, peer behaviour, laws, drug cost and availability</a:t>
            </a: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1. Alcohol and Tobacco</a:t>
            </a:r>
            <a:endParaRPr b="0" lang="en-US" sz="2700" spc="-1" strike="noStrike">
              <a:solidFill>
                <a:srgbClr val="000000"/>
              </a:solidFill>
              <a:latin typeface="Georgia"/>
            </a:endParaRPr>
          </a:p>
          <a:p>
            <a:pPr marL="514440" indent="-51444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rice : </a:t>
            </a:r>
            <a:r>
              <a:rPr b="0" lang="id-ID" sz="2700" spc="-1" strike="noStrike">
                <a:solidFill>
                  <a:srgbClr val="000000"/>
                </a:solidFill>
                <a:latin typeface="Calibri"/>
                <a:ea typeface="Calibri"/>
              </a:rPr>
              <a:t>↑, consumption ↓</a:t>
            </a:r>
            <a:endParaRPr b="0" lang="en-US" sz="2700" spc="-1" strike="noStrike">
              <a:solidFill>
                <a:srgbClr val="000000"/>
              </a:solidFill>
              <a:latin typeface="Georgia"/>
            </a:endParaRPr>
          </a:p>
          <a:p>
            <a:pPr marL="514440" indent="-51444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vailability </a:t>
            </a:r>
            <a:r>
              <a:rPr b="0" lang="id-ID" sz="2700" spc="-1" strike="noStrike">
                <a:solidFill>
                  <a:srgbClr val="000000"/>
                </a:solidFill>
                <a:latin typeface="Calibri"/>
                <a:ea typeface="Calibri"/>
              </a:rPr>
              <a:t>→ cost,  </a:t>
            </a:r>
            <a:r>
              <a:rPr b="0" lang="id-ID" sz="2700" spc="-1" strike="noStrike">
                <a:solidFill>
                  <a:srgbClr val="000000"/>
                </a:solidFill>
                <a:latin typeface="Georgia"/>
                <a:ea typeface="Calibri"/>
              </a:rPr>
              <a:t>↑ consumption ↓</a:t>
            </a:r>
            <a:endParaRPr b="0" lang="en-US" sz="2700" spc="-1" strike="noStrike">
              <a:solidFill>
                <a:srgbClr val="000000"/>
              </a:solidFill>
              <a:latin typeface="Georgia"/>
            </a:endParaRPr>
          </a:p>
          <a:p>
            <a:pPr marL="514440" indent="-514440">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ea typeface="Calibri"/>
              </a:rPr>
              <a:t>in 1980s  awarenes of how alcohol use adversely affects health, consumption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ocial and environmental factors</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lIns="90000" rIns="90000" tIns="46800" bIns="46800" anchor="t">
            <a:normAutofit fontScale="99000"/>
          </a:bodyPr>
          <a:p>
            <a:pPr marL="509040" indent="-5090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2. Ilegal drugs</a:t>
            </a:r>
            <a:r>
              <a:rPr b="0" lang="id-ID" sz="2700" spc="-1" strike="noStrike">
                <a:solidFill>
                  <a:srgbClr val="000000"/>
                </a:solidFill>
                <a:latin typeface="Georgia"/>
              </a:rPr>
              <a:t>	</a:t>
            </a:r>
            <a:endParaRPr b="0" lang="en-US" sz="2700" spc="-1" strike="noStrike">
              <a:solidFill>
                <a:srgbClr val="000000"/>
              </a:solidFill>
              <a:latin typeface="Georgia"/>
            </a:endParaRPr>
          </a:p>
          <a:p>
            <a:pPr marL="509040" indent="-5090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 example, cannabis use increased among high school students from the early 1970s to 1979 and then decreased steadily over the next decade, although use and possession were illegal throughout the entire 18-year period, and nothing indicates that it became more expensive or less available during the 1980s. Some experts believe the decline in use seen during the 1980s was linked to changing perceptions about the toxic effects of cannabis on health</a:t>
            </a:r>
            <a:r>
              <a:rPr b="0" lang="id-ID" sz="2700" spc="-1" strike="noStrike">
                <a:solidFill>
                  <a:srgbClr val="000000"/>
                </a:solidFill>
                <a:latin typeface="Georgia"/>
              </a:rPr>
              <a:t>.</a:t>
            </a:r>
            <a:endParaRPr b="0" lang="en-US" sz="2700" spc="-1" strike="noStrike">
              <a:solidFill>
                <a:srgbClr val="000000"/>
              </a:solidFill>
              <a:latin typeface="Georgia"/>
            </a:endParaRPr>
          </a:p>
          <a:p>
            <a:pPr marL="509040" indent="-5090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ocial and environmental factors</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3. Availability and Health Professional</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a:t>
            </a:r>
            <a:r>
              <a:rPr b="0" lang="id-ID" sz="2700" spc="-1" strike="noStrike">
                <a:solidFill>
                  <a:srgbClr val="000000"/>
                </a:solidFill>
                <a:latin typeface="Georgia"/>
              </a:rPr>
              <a:t>physicians, nurses, and dentists </a:t>
            </a:r>
            <a:r>
              <a:rPr b="0" lang="en-US" sz="2700" spc="-1" strike="noStrike">
                <a:solidFill>
                  <a:srgbClr val="000000"/>
                </a:solidFill>
                <a:latin typeface="Georgia"/>
              </a:rPr>
              <a:t>have such easy access to the drugs.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ared with controls, physicians appear to be four to five times as likely to take sedatives and minor tranquilizers without supervision by a professional other than themselve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Drugs as reinforces</a:t>
            </a:r>
            <a:endParaRPr b="0" lang="en-US" sz="3300" spc="-1" strike="noStrike">
              <a:solidFill>
                <a:srgbClr val="7b9899"/>
              </a:solidFill>
              <a:latin typeface="Georgia"/>
            </a:endParaRPr>
          </a:p>
        </p:txBody>
      </p:sp>
      <p:sp>
        <p:nvSpPr>
          <p:cNvPr id="624" name=""/>
          <p:cNvSpPr txBox="1"/>
          <p:nvPr/>
        </p:nvSpPr>
        <p:spPr>
          <a:xfrm>
            <a:off x="457200" y="1142640"/>
            <a:ext cx="8229600" cy="5429160"/>
          </a:xfrm>
          <a:prstGeom prst="rect">
            <a:avLst/>
          </a:prstGeom>
          <a:noFill/>
          <a:ln w="0">
            <a:noFill/>
          </a:ln>
        </p:spPr>
        <p:txBody>
          <a:bodyPr lIns="90000" rIns="90000" tIns="46800" bIns="46800" anchor="t">
            <a:normAutofit fontScale="98000"/>
          </a:bodyPr>
          <a:p>
            <a:pPr marL="504000" indent="-5040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P</a:t>
            </a:r>
            <a:r>
              <a:rPr b="0" lang="en-US" sz="2500" spc="-1" strike="noStrike">
                <a:solidFill>
                  <a:srgbClr val="000000"/>
                </a:solidFill>
                <a:latin typeface="Georgia"/>
              </a:rPr>
              <a:t>eople with experience can distinguish one drug class from another and can even rank different classes and doses on the basis of how much they like the effects</a:t>
            </a:r>
            <a:endParaRPr b="0" lang="en-US" sz="2500" spc="-1" strike="noStrike">
              <a:solidFill>
                <a:srgbClr val="000000"/>
              </a:solidFill>
              <a:latin typeface="Georgia"/>
            </a:endParaRPr>
          </a:p>
          <a:p>
            <a:pPr marL="504000" indent="-504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Cocaine :</a:t>
            </a:r>
            <a:r>
              <a:rPr b="0" lang="en-US" sz="2500" spc="-1" strike="noStrike">
                <a:solidFill>
                  <a:srgbClr val="000000"/>
                </a:solidFill>
                <a:latin typeface="Georgia"/>
              </a:rPr>
              <a:t>euphorigenic, producing increased self-esteem, alertness, energy, and well-being</a:t>
            </a:r>
            <a:endParaRPr b="0" lang="en-US" sz="2500" spc="-1" strike="noStrike">
              <a:solidFill>
                <a:srgbClr val="000000"/>
              </a:solidFill>
              <a:latin typeface="Georgia"/>
            </a:endParaRPr>
          </a:p>
          <a:p>
            <a:pPr marL="504000" indent="-504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N</a:t>
            </a:r>
            <a:r>
              <a:rPr b="0" lang="en-US" sz="2500" spc="-1" strike="noStrike">
                <a:solidFill>
                  <a:srgbClr val="000000"/>
                </a:solidFill>
                <a:latin typeface="Georgia"/>
              </a:rPr>
              <a:t>icotine, as described by many tobacco </a:t>
            </a:r>
            <a:br>
              <a:rPr sz="2500"/>
            </a:br>
            <a:r>
              <a:rPr b="0" lang="en-US" sz="2500" spc="-1" strike="noStrike">
                <a:solidFill>
                  <a:srgbClr val="000000"/>
                </a:solidFill>
                <a:latin typeface="Georgia"/>
              </a:rPr>
              <a:t>users, are subtler, producing a mix of alerting and relaxing states</a:t>
            </a:r>
            <a:endParaRPr b="0" lang="en-US" sz="2500" spc="-1" strike="noStrike">
              <a:solidFill>
                <a:srgbClr val="000000"/>
              </a:solidFill>
              <a:latin typeface="Georgia"/>
            </a:endParaRPr>
          </a:p>
          <a:p>
            <a:pPr marL="504000" indent="-504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M</a:t>
            </a:r>
            <a:r>
              <a:rPr b="0" lang="en-US" sz="2500" spc="-1" strike="noStrike">
                <a:solidFill>
                  <a:srgbClr val="000000"/>
                </a:solidFill>
                <a:latin typeface="Georgia"/>
              </a:rPr>
              <a:t>ost opioid users quickly develop tolerance to opioid-induced nausea and vomiting</a:t>
            </a:r>
            <a:r>
              <a:rPr b="0" lang="id-ID" sz="2500" spc="-1" strike="noStrike">
                <a:solidFill>
                  <a:srgbClr val="000000"/>
                </a:solidFill>
                <a:latin typeface="Georgia"/>
              </a:rPr>
              <a:t>;</a:t>
            </a:r>
            <a:r>
              <a:rPr b="0" lang="en-US" sz="2500" spc="-1" strike="noStrike">
                <a:solidFill>
                  <a:srgbClr val="000000"/>
                </a:solidFill>
                <a:latin typeface="Georgia"/>
              </a:rPr>
              <a:t> increase the dose and thus experience greater euphoric effects</a:t>
            </a:r>
            <a:endParaRPr b="0" lang="en-US" sz="2500" spc="-1" strike="noStrike">
              <a:solidFill>
                <a:srgbClr val="000000"/>
              </a:solidFill>
              <a:latin typeface="Georgia"/>
            </a:endParaRPr>
          </a:p>
          <a:p>
            <a:pPr marL="504000" indent="-504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Sons of alcoholic fathers</a:t>
            </a:r>
            <a:r>
              <a:rPr b="0" lang="id-ID" sz="2500" spc="-1" strike="noStrike">
                <a:solidFill>
                  <a:srgbClr val="000000"/>
                </a:solidFill>
                <a:latin typeface="Calibri"/>
                <a:ea typeface="Calibri"/>
              </a:rPr>
              <a:t>→</a:t>
            </a:r>
            <a:r>
              <a:rPr b="0" lang="en-US" sz="2500" spc="-1" strike="noStrike">
                <a:solidFill>
                  <a:srgbClr val="000000"/>
                </a:solidFill>
                <a:latin typeface="Georgia"/>
              </a:rPr>
              <a:t> more likely to have developed alcohol dependence at 8 years' follow-up more likely to have developed alcohol dependence at 8 years' follow-up </a:t>
            </a:r>
            <a:endParaRPr b="0" lang="en-US" sz="2500" spc="-1" strike="noStrike">
              <a:solidFill>
                <a:srgbClr val="000000"/>
              </a:solidFill>
              <a:latin typeface="Georgia"/>
            </a:endParaRPr>
          </a:p>
          <a:p>
            <a:pPr marL="504000" indent="-5040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0"/>
            <a:ext cx="822960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Drugs as reinforces</a:t>
            </a:r>
            <a:endParaRPr b="0" lang="en-US" sz="3300" spc="-1" strike="noStrike">
              <a:solidFill>
                <a:srgbClr val="7b9899"/>
              </a:solidFill>
              <a:latin typeface="Georgia"/>
            </a:endParaRPr>
          </a:p>
        </p:txBody>
      </p:sp>
      <p:sp>
        <p:nvSpPr>
          <p:cNvPr id="626" name=""/>
          <p:cNvSpPr txBox="1"/>
          <p:nvPr/>
        </p:nvSpPr>
        <p:spPr>
          <a:xfrm>
            <a:off x="357120" y="1643040"/>
            <a:ext cx="8229600" cy="42148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Knowledge about the neurobiology of drug reinforcement and the mechanisms underlying tolerance and dependence has continued to increase</a:t>
            </a:r>
            <a:endParaRPr b="0" lang="en-US" sz="23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pamine release from mesolimbic dopaminergic neurons may play more than one role in the genesis of drug seeking and drug dependenc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Drugs as reinforces</a:t>
            </a:r>
            <a:endParaRPr b="0" lang="en-US" sz="3300" spc="-1" strike="noStrike">
              <a:solidFill>
                <a:srgbClr val="7b9899"/>
              </a:solidFill>
              <a:latin typeface="Georgia"/>
            </a:endParaRPr>
          </a:p>
        </p:txBody>
      </p:sp>
      <p:sp>
        <p:nvSpPr>
          <p:cNvPr id="628" name=""/>
          <p:cNvSpPr txBox="1"/>
          <p:nvPr/>
        </p:nvSpPr>
        <p:spPr>
          <a:xfrm>
            <a:off x="457200" y="1071720"/>
            <a:ext cx="8229600" cy="5572080"/>
          </a:xfrm>
          <a:prstGeom prst="rect">
            <a:avLst/>
          </a:prstGeom>
          <a:noFill/>
          <a:ln w="0">
            <a:noFill/>
          </a:ln>
        </p:spPr>
        <p:txBody>
          <a:bodyPr lIns="90000" rIns="90000" tIns="46800" bIns="46800" anchor="t">
            <a:normAutofit fontScale="96000"/>
          </a:bodyPr>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all positive reinforcement, including with food reward and sex, critically depends on this dopaminergic circuit</a:t>
            </a: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The VTA dopaminergic neurons have both nicotinic and </a:t>
            </a:r>
            <a:r>
              <a:rPr b="0" lang="el-GR" sz="2500" spc="-1" strike="noStrike">
                <a:solidFill>
                  <a:srgbClr val="000000"/>
                </a:solidFill>
                <a:latin typeface="Georgia"/>
              </a:rPr>
              <a:t>γ-</a:t>
            </a:r>
            <a:r>
              <a:rPr b="0" lang="id-ID" sz="2500" spc="-1" strike="noStrike">
                <a:solidFill>
                  <a:srgbClr val="000000"/>
                </a:solidFill>
                <a:latin typeface="Georgia"/>
              </a:rPr>
              <a:t>aminobutyric acid (GABA) receptors. These neurons normally are inhibited by GABAergic activity. The GABAergic neurons acting on the VTA express µ- and </a:t>
            </a:r>
            <a:r>
              <a:rPr b="0" lang="el-GR" sz="2500" spc="-1" strike="noStrike">
                <a:solidFill>
                  <a:srgbClr val="000000"/>
                </a:solidFill>
                <a:latin typeface="Georgia"/>
              </a:rPr>
              <a:t>δ-</a:t>
            </a:r>
            <a:r>
              <a:rPr b="0" lang="id-ID" sz="2500" spc="-1" strike="noStrike">
                <a:solidFill>
                  <a:srgbClr val="000000"/>
                </a:solidFill>
                <a:latin typeface="Georgia"/>
              </a:rPr>
              <a:t>opioid receptors. When these receptors are activated by µ opioids, GABAergic transmission is inhibited, and the dopaminergic VTA neurons become more active and release dopamine in the nucleus accumbens.</a:t>
            </a: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Evidence now</a:t>
            </a:r>
            <a:r>
              <a:rPr b="0" lang="id-ID" sz="2500" spc="-1" strike="noStrike">
                <a:solidFill>
                  <a:srgbClr val="000000"/>
                </a:solidFill>
                <a:latin typeface="Calibri"/>
                <a:ea typeface="Calibri"/>
              </a:rPr>
              <a:t>→ </a:t>
            </a:r>
            <a:r>
              <a:rPr b="0" lang="en-US" sz="2500" spc="-1" strike="noStrike">
                <a:solidFill>
                  <a:srgbClr val="000000"/>
                </a:solidFill>
                <a:latin typeface="Georgia"/>
              </a:rPr>
              <a:t>the behaviors associated with chronic drug use are typically driven by both the avoidance of dysphoria (negative reinforcement) and the pursuit of euphoria (positive reinforcement</a:t>
            </a:r>
            <a:endParaRPr b="0" lang="en-US" sz="2500" spc="-1" strike="noStrike">
              <a:solidFill>
                <a:srgbClr val="000000"/>
              </a:solidFill>
              <a:latin typeface="Georgia"/>
            </a:endParaRPr>
          </a:p>
          <a:p>
            <a:pPr marL="261720" indent="-2617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Learning and Conditioning</a:t>
            </a:r>
            <a:endParaRPr b="0" lang="en-US" sz="3300" spc="-1" strike="noStrike">
              <a:solidFill>
                <a:srgbClr val="7b9899"/>
              </a:solidFill>
              <a:latin typeface="Georgia"/>
            </a:endParaRPr>
          </a:p>
        </p:txBody>
      </p:sp>
      <p:sp>
        <p:nvSpPr>
          <p:cNvPr id="630" name=""/>
          <p:cNvSpPr txBox="1"/>
          <p:nvPr/>
        </p:nvSpPr>
        <p:spPr>
          <a:xfrm>
            <a:off x="457200" y="1142640"/>
            <a:ext cx="8229600" cy="5429160"/>
          </a:xfrm>
          <a:prstGeom prst="rect">
            <a:avLst/>
          </a:prstGeom>
          <a:noFill/>
          <a:ln w="0">
            <a:noFill/>
          </a:ln>
        </p:spPr>
        <p:txBody>
          <a:bodyPr lIns="90000" rIns="90000" tIns="46800" bIns="46800" anchor="t">
            <a:normAutofit/>
          </a:bodyPr>
          <a:p>
            <a:pPr marL="514440" indent="-514440">
              <a:spcBef>
                <a:spcPts val="850"/>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400" spc="-1" strike="noStrike">
                <a:solidFill>
                  <a:srgbClr val="000000"/>
                </a:solidFill>
                <a:latin typeface="Georgia"/>
              </a:rPr>
              <a:t>Clasiccal conditioning</a:t>
            </a:r>
            <a:endParaRPr b="0" lang="en-US" sz="3400" spc="-1" strike="noStrike">
              <a:solidFill>
                <a:srgbClr val="000000"/>
              </a:solidFill>
              <a:latin typeface="Georgia"/>
            </a:endParaRPr>
          </a:p>
          <a:p>
            <a:pPr marL="514440" indent="-51444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orgia"/>
              </a:rPr>
              <a:t>Opioid and alcohol withdrawal phenomena can be conditioned (in the Pavlovian or classical sense) to environmental or interoceptive stimuli. Such conditioning has been demonstrated in both laboratory animals and abstinent and methadone-dependent human volunteers</a:t>
            </a:r>
            <a:endParaRPr b="0" lang="en-US" sz="3400" spc="-1" strike="noStrike">
              <a:solidFill>
                <a:srgbClr val="000000"/>
              </a:solidFill>
              <a:latin typeface="Georgia"/>
            </a:endParaRPr>
          </a:p>
          <a:p>
            <a:pPr marL="514440" indent="-51444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16:08:39Z</dcterms:created>
  <dc:creator>ASUS</dc:creator>
  <dc:description/>
  <dc:language>en-US</dc:language>
  <cp:lastModifiedBy>ASUS</cp:lastModifiedBy>
  <dcterms:modified xsi:type="dcterms:W3CDTF">2013-11-27T08:21:36Z</dcterms:modified>
  <cp:revision>38</cp:revision>
  <dc:subject/>
  <dc:title>Slide 1</dc:title>
</cp:coreProperties>
</file>