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BDE92-B423-4148-803E-0A75A1A81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AF4AD-48CD-48AF-93D1-E61A2229C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AA03C-CF4B-4D7B-927B-B57D65C1E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3CA31-0F13-4F8F-A994-B6FE156E3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081E1-0DFE-4400-AF41-40F47645B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211C2-5F04-4860-9C73-1187A5680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7A98C-95D9-46F9-AEB7-660E69CDB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1F47B-F5F4-4BD4-8C44-BF17E889A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68EDB-2DF3-46EB-8615-34D9CD8C8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4C4F1-D9B3-4C74-B45A-E35EF73F5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FEA0F-9547-4739-892C-BE4207506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38EDD-7C22-422B-BFCB-774177B70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495F6-8B16-4128-8824-8923738F9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660F8-EC48-4573-95FD-64BFE8BB7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AB018-76D1-44D6-AC24-8568391A5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BA054-476E-41E1-813D-3478684F1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8FB74-92A4-421F-9546-4A4285793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7E624F-B68E-4538-B306-91DBF3FF9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11F7A8-5001-4425-9E89-3605C64A3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FB791C-B9D6-40B7-869A-6A5E27E78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4D3357-9DBC-49D7-9B6F-9C1FBC2A5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D49CC9-5241-4BEF-84C2-A63786C58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B140B-28EC-43A4-A427-7FC9792CE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265CD2-F9B7-4FA0-8219-16A916957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1081D0-1128-4D5C-9489-DF0A2956C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39155D-B922-4814-9AE5-E909D8FA9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C82F15-4EBE-4481-8ADF-A9C2C5E2F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2BE876-3637-49F6-BBEC-9C808A76C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B3A8F8-0ACC-49A8-999B-00C9BA963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0C02D1-2F88-4674-B8B0-D60A0FFC4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34F746-0DB3-4109-A6BE-6F2658324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F1436C-39C4-4FD6-A076-617A5667D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45B2A5-98ED-40E2-9227-55FE21D48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190A6-F498-48C4-937A-86DD86E04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02EB5B-8301-436A-B252-2E4603E48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407697-4166-46A2-A48F-B6BCF3FE8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6C8CF2-132A-40D7-8F4F-D6DD6330E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CE5451-383B-4EF5-AA5B-362EC3F08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F62FD7-AED0-46D1-9F8E-6FA52AB3A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C12558-3100-4097-B413-4ACE5C9D2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94C5DB-7606-4787-BAFD-B4403C992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2F1329-FDAE-4EF1-9B44-1E87A3161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F204FC-8786-492A-A8DD-102E98A66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A84EF-418E-449C-8FB4-8A24C4026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72411-F590-43A2-A484-AB062A9E6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0E3AA-A6C5-45A4-AB26-45DCF9F90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1BC77-B11B-4596-B300-DF5F4D57B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FDD66-6B6D-4BFA-8EE5-43A93D46F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F5BB5-82D4-4C02-810B-FB05B068BB05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59C0D-5075-4F0B-A8A2-6F281FFDC959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B8F09-7AA7-431F-A544-ACEB58D446A3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47E76-6119-4790-90ED-E492878434FF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3" descr=""/>
          <p:cNvPicPr/>
          <p:nvPr/>
        </p:nvPicPr>
        <p:blipFill>
          <a:blip r:embed="rId1"/>
          <a:stretch/>
        </p:blipFill>
        <p:spPr>
          <a:xfrm>
            <a:off x="530280" y="1255680"/>
            <a:ext cx="8327880" cy="201132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457200" y="12193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600" spc="-1" strike="noStrike">
                <a:solidFill>
                  <a:srgbClr val="000000"/>
                </a:solidFill>
                <a:latin typeface="Constantia"/>
              </a:rPr>
              <a:t>Sistem beta adrenergik berperan pada formasi dan konsolidasi memori yang emosional, pre dan post learning stimulation of the ß adrenergic system, memperkuat memori yang mencetuskan pengalaman yang tidak menyenangka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ensupresi gejala somatik pada ansietas, khususnya pada serangan panik, dan SA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TSD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memblok memori emosional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40-160mg/ hari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KI: asthma, insulin-dependent diabetes, CHF, vascular disease, persistent angina, hyperthyroidism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Efek samping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600" spc="-1" strike="noStrike">
                <a:solidFill>
                  <a:srgbClr val="000000"/>
                </a:solidFill>
                <a:latin typeface="Constantia"/>
              </a:rPr>
              <a:t>CV: hipotensi, bradikardi, dizziness, congestive heart failure (pada pasien dengan compromised myocardial functional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600" spc="-1" strike="noStrike">
                <a:solidFill>
                  <a:srgbClr val="000000"/>
                </a:solidFill>
                <a:latin typeface="Constantia"/>
              </a:rPr>
              <a:t>Pernafasan : Astm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600" spc="-1" strike="noStrike">
                <a:solidFill>
                  <a:srgbClr val="000000"/>
                </a:solidFill>
                <a:latin typeface="Constantia"/>
              </a:rPr>
              <a:t>GI : mual, diare, nyeri peru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600" spc="-1" strike="noStrike">
                <a:solidFill>
                  <a:srgbClr val="000000"/>
                </a:solidFill>
                <a:latin typeface="Constantia"/>
              </a:rPr>
              <a:t>Fungsi seksual : impotenc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600" spc="-1" strike="noStrike">
                <a:solidFill>
                  <a:srgbClr val="000000"/>
                </a:solidFill>
                <a:latin typeface="Constantia"/>
              </a:rPr>
              <a:t>Neuropsikiatrik : kelesuan, disforik, insomnia, vivid nightmar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500" spc="-1" strike="noStrike">
                <a:solidFill>
                  <a:srgbClr val="04617b"/>
                </a:solidFill>
                <a:latin typeface="Calibri"/>
              </a:rPr>
              <a:t>α</a:t>
            </a:r>
            <a:r>
              <a:rPr b="0" lang="el-GR" sz="4500" spc="-1" strike="noStrike" baseline="-25000">
                <a:solidFill>
                  <a:srgbClr val="04617b"/>
                </a:solidFill>
                <a:latin typeface="Calibri"/>
              </a:rPr>
              <a:t>2</a:t>
            </a:r>
            <a:r>
              <a:rPr b="0" lang="el-GR" sz="4500" spc="-1" strike="noStrike">
                <a:solidFill>
                  <a:srgbClr val="04617b"/>
                </a:solidFill>
                <a:latin typeface="Calibri"/>
              </a:rPr>
              <a:t>-</a:t>
            </a:r>
            <a:r>
              <a:rPr b="0" lang="id-ID" sz="4500" spc="-1" strike="noStrike">
                <a:solidFill>
                  <a:srgbClr val="04617b"/>
                </a:solidFill>
                <a:latin typeface="Calibri"/>
              </a:rPr>
              <a:t>Adrenergic Receptor Agonists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onidin (0.2-0.6mg/hari), guanfasin (0.5-3mg/hari)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PTS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S: dry mouth &amp; eyes, dizziness, fatigue, drowsiness, sedation, nausea, hypotension, constipation, sexual dysfunc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Antikonvulsa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Obat yang biasa digunakan adalah gabapentin, tiagabine, topiramat, pregabali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ikaitkan dengan aktivitasnya pada GAB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Gabapentin </a:t>
            </a:r>
            <a:r>
              <a:rPr b="0" lang="id-ID" sz="2600" spc="-1" strike="noStrike">
                <a:solidFill>
                  <a:srgbClr val="000000"/>
                </a:solidFill>
                <a:latin typeface="Constantia"/>
              </a:rPr>
              <a:t>: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rangan panik, SA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regabalin </a:t>
            </a:r>
            <a:r>
              <a:rPr b="0" lang="id-ID" sz="2600" spc="-1" strike="noStrike">
                <a:solidFill>
                  <a:srgbClr val="000000"/>
                </a:solidFill>
                <a:latin typeface="Constantia"/>
              </a:rPr>
              <a:t>: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rekomendasi di Eropa untuk GA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opiramat </a:t>
            </a:r>
            <a:r>
              <a:rPr b="0" lang="id-ID" sz="2600" spc="-1" strike="noStrike">
                <a:solidFill>
                  <a:srgbClr val="000000"/>
                </a:solidFill>
                <a:latin typeface="Constantia"/>
              </a:rPr>
              <a:t>: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PTS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iagabine </a:t>
            </a:r>
            <a:r>
              <a:rPr b="0" lang="id-ID" sz="2600" spc="-1" strike="noStrike">
                <a:solidFill>
                  <a:srgbClr val="000000"/>
                </a:solidFill>
                <a:latin typeface="Constantia"/>
              </a:rPr>
              <a:t>: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agen anxiolitik untuk pasien yang tidak respon terhadap pengobatan lainny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osis yang diberikan setara dengan terapi epilepsi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- pregabalin : 150-600mg/hari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- gabapentin: 300-2400mg/hari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- topiramat: 50-400mg/hari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- tiagabin: 4-16mg/hari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fek samping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Gabapentin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dizziness, ataxia, fatigue, and nystagmus, peripheral edema, memory impairment, weight gain, orgasmic dysfunct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regabalin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dizziness, somnolence, blurred vision, peripheral edema, amnesia atau loss of memory, tremor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opiramat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fatigue, nervousness, poor concentration, confusion, taste perversion, depression, anorexia, anxiety, mood problems, weight loss, tremor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fek samping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iagabine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teratogenic (pada percobaan tikus), sedation, cognitive impairment, ataxia, dizziness, tremor, paresthesias, confusion,depression, nausea, abdominal pain, muscle weakness, flushing, 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Stevens-Johnson syndrom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Antipsikotik generasi II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ktivitas pada blokade dopamin, dan reseptor serotonin 5-HT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onstantia"/>
              </a:rPr>
              <a:t>2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S  &lt;  dari tipika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erapi ansietas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- OCD refrakte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- PTS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-GAD, panic disorde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osis setara dengan terapi psikotik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- Risperidone 2-8mg/hari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- olanzapine 10-30mg/hari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- aripiprazol 10-30mg/hari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- quetiapine 300-800mg/hari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S: EPS, tardive dyskinesia, sedasi, somnolen, hipotensi ortostatik dl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SSRI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6 jenis obat : fluoxetine, sertraline, paroxetine, fluvoxamine, citalopram, escitalopram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ekanisme kerja: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blok serotonin reuptake pump (somatodendritik &gt; axon)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desensitisasi dan downregulasi autoreseptor 5HT1A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600" spc="-1" strike="noStrike">
                <a:solidFill>
                  <a:srgbClr val="000000"/>
                </a:solidFill>
                <a:latin typeface="Constantia"/>
              </a:rPr>
              <a:t>5-HT1A agonis : Buspir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600" spc="-1" strike="noStrike">
                <a:solidFill>
                  <a:srgbClr val="000000"/>
                </a:solidFill>
                <a:latin typeface="Constantia"/>
              </a:rPr>
              <a:t>Antihistamin : Difehidramin, hidroksizi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600" spc="-1" strike="noStrike">
                <a:solidFill>
                  <a:srgbClr val="000000"/>
                </a:solidFill>
                <a:latin typeface="Constantia"/>
              </a:rPr>
              <a:t>Beta adrenergik  reseptor antagonis : Propanolo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600" spc="-1" strike="noStrike">
                <a:solidFill>
                  <a:srgbClr val="000000"/>
                </a:solidFill>
                <a:latin typeface="Constantia"/>
              </a:rPr>
              <a:t>Alfa 2 adrenergik reseptor agonis : Clonidi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600" spc="-1" strike="noStrike">
                <a:solidFill>
                  <a:srgbClr val="000000"/>
                </a:solidFill>
                <a:latin typeface="Constantia"/>
              </a:rPr>
              <a:t>Antipsikotik generasi II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600" spc="-1" strike="noStrike">
                <a:solidFill>
                  <a:srgbClr val="000000"/>
                </a:solidFill>
                <a:latin typeface="Constantia"/>
              </a:rPr>
              <a:t>Anti konvulsa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600" spc="-1" strike="noStrike">
                <a:solidFill>
                  <a:srgbClr val="000000"/>
                </a:solidFill>
                <a:latin typeface="Constantia"/>
              </a:rPr>
              <a:t>Antidepresan : TCA, SSRI, SNRI, MAOi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Rekomendasi FDA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GAD: paroxetin, escitalopram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AD : paroxetin,  sertrali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anic disorder: paroxetin, sertrali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OCD: fluvoxamin, fluoxetin, paroxetin, sertrali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TSD: paroxetin,sertrali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osis: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GAD, SAD, panic disorder, PTSD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dosis sama dengan penanganan depresi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- sertralin : 50-2000mg/hari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- paroxetin: 10-50mg/hari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- escitalopram: 10-20mg/hari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- fluoxetin: 20-40mg/hari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OCD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dosis lebih tinggi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- fluvoxamin: 200-300mg/hari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- fluoxetin: 40-80mg/hari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- paroxetin: 40-80mg/hari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- sertralin: 100-200mg/hari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Efek samping: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gitasi, ansietas, disfungsi seksual, weight gain, gangguan tidur, fatigue, gSleep jala kognitif dan memori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nteraksi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idak boleh diberikan bersama MAOI; resiko perdarahan dengan NSAID, aspirin; pemantauan kadar plasma bila bersama TC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SNRI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ekerja dengan menghambat reuptake serotonin dan norepinefri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NRI: venlafaxine, desvenlafaxine, duloxetine, milnacipran, sibutramine, bicifidin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ndikasi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- GAD : venlafaxine, duloxetin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- SAD : venlafaxin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- Panic disorder: venlafaxin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- OCD: venlafaxin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osis: setara dengan pengobatan depresi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- venlafaxine: 75-225mg/hari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- duloxetin: 60-120mg/hari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- desvenlafaxin: 50-100mg/hari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OCD :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Venlafaxine (150-300mg/hari); duloxetine(60-120mg/hari); desvenlafaxine(50-100mg/hari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fek samping: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nsietas, nervousness, nausea, insomnia, sedasi, disfungsi seksual, sakit kepala, tremor, dizziness, konstipasi, keringat berlebih, takikardi, palpitasi, peningkatan T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imetabolisme di hati oleh CYP450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nteraksi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NSAID, aspirin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peningkatan resiko perdaraha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lkohol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peningkatan resiko 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TC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ekerja dengan meningkatkan availabilitas norepinefrin, dan menghambat reuptake serotonin di celah sinap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enggunaan terbatas karena ESnya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bagai antiansietas : imipramine, nortriptilin, clomiprami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ndikasi: panic disorder, GAD, PTSD,OCD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Untuk meminimalisasi efek samping, dilakukan titrasi dosis dari yang sangat rendah, dan ditingkatkan perlaha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Rekomendasi FDA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- GAD : 2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onstantia"/>
              </a:rPr>
              <a:t>nd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lin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- SAD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tidak efektif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- Panic disorder : 2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onstantia"/>
              </a:rPr>
              <a:t>nd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lin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- OCD: clomipramin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osis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GAD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dosis lebih rendah dari terapi depresi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- imipramin: 50-200mg/hari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anic diorder, OCD, PTSD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dosis setara dengan terapi depresi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- imipramin: 100-300mg/hari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- clomipramin: 100-250mg/hari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5000" spc="-1" strike="noStrike">
                <a:solidFill>
                  <a:srgbClr val="04617b"/>
                </a:solidFill>
                <a:latin typeface="Calibri"/>
              </a:rPr>
              <a:t>Buspir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Constantia"/>
              </a:rPr>
              <a:t>Sediaan : tablet 10 mg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Constantia"/>
              </a:rPr>
              <a:t>Dosis awal : 2x5 mg peroral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id-ID" sz="2400" spc="-1" strike="noStrike">
                <a:solidFill>
                  <a:srgbClr val="000000"/>
                </a:solidFill>
                <a:latin typeface="Constantia"/>
              </a:rPr>
              <a:t>dapat dinaikkan 5 mg setiap 3 hari hingga mencapai dosis terapeutik atau berdasarkan respon pasie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Constantia"/>
              </a:rPr>
              <a:t>Dosis terapi : 20-30 mg/hari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Constantia"/>
              </a:rPr>
              <a:t>Dosis maksimal : 60 mg/hari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Constantia"/>
              </a:rPr>
              <a:t>Waktu paruh : 2-11 jam. Tidak ada metabolit aktif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Constantia"/>
              </a:rPr>
              <a:t>Efek ansiolitik buspiron berlangsung lambat; sekitar 2 minggu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Efek samping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edasi, hipotensi postural, efek antikolinergik (dry mouth, constipation, blurred vision, delirium, urinary retention) , penurunan ambang kejang, peningkatan BB, disfungsi seksual, disfungsi ereksi, palpitasi, sedasi,efek pada jantung (tachycardia, flattened T waves, prolonged QT intervals, depressed ST segments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letal pada overdosi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ebelum memulai: riwayat medis dan pemeriksaan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adanya kontra indikasi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gangguan konduksi jantung, usia diatas 40 tahu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enyesuaian dosis pd usia lanju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MAOi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enghambat MAO di beberapa organ , dan efek terbesar pada MAO-A, dimana norepinephrine dan 5-HT adalah substrat utama dibanding MAO-B,yang banyak bekerja pada amine yang lain dan dopamin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enggunaannya terbatas pada SAD dan panic disorder, &lt;  PTS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osis setara dengan terapi depresi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- phenelzine (45-90mg/hari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- moclobemide ( 300-900mg/hari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fek samping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hipotensi ortostatik, krisis hipertensi, hiperpireksia, impotensi, insomnia pada malam hari dan sedasi pada siang hari, kram otot, konstipasi, mulut kering, dan peningkatan berat bada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Overdosis: mabuk, ataksia, kebingungan, dan kadang eufori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nteraksi dengan makanan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diet rendah tirami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120" y="1176120"/>
            <a:ext cx="2212920" cy="30906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4800" spc="-1" strike="noStrike">
                <a:solidFill>
                  <a:srgbClr val="04617b"/>
                </a:solidFill>
                <a:latin typeface="Calibri"/>
              </a:rPr>
              <a:t>TERIMA KASIH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09120" y="4876920"/>
            <a:ext cx="2210040" cy="13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3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7" name="Picture Placeholder 4" descr="laura.jpg"/>
          <p:cNvPicPr/>
          <p:nvPr/>
        </p:nvPicPr>
        <p:blipFill>
          <a:blip r:embed="rId1"/>
          <a:srcRect l="0" t="11916" r="0" b="11916"/>
          <a:stretch/>
        </p:blipFill>
        <p:spPr>
          <a:xfrm rot="420000">
            <a:off x="3485880" y="1199880"/>
            <a:ext cx="4618080" cy="3930480"/>
          </a:xfrm>
          <a:prstGeom prst="rect">
            <a:avLst/>
          </a:prstGeom>
          <a:ln cap="rnd" w="2880">
            <a:solidFill>
              <a:srgbClr val="c0c0c0"/>
            </a:solidFill>
            <a:round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5000" spc="-1" strike="noStrike">
                <a:solidFill>
                  <a:srgbClr val="04617b"/>
                </a:solidFill>
                <a:latin typeface="Calibri"/>
              </a:rPr>
              <a:t>Buspir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5235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600" spc="-1" strike="noStrike">
                <a:solidFill>
                  <a:srgbClr val="000000"/>
                </a:solidFill>
                <a:latin typeface="Constantia"/>
              </a:rPr>
              <a:t>Indikasi : GA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idak efektif untuk OCD, SA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ekerja sebagai  agonis parsial serotonin 5-HT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onstantia"/>
              </a:rPr>
              <a:t>1A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, sedikit afinitas terhadap reseptor dopamin D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onstantia"/>
              </a:rPr>
              <a:t>2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bsorbsi diperlambat oleh makana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enggunaannya direkomendasikan pada GAD terutama pada pasien dengan resiko penyalahgunaan benzodiazepi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idak diindikasikan pada GAD dengan komorbid depresi atau gangguan panik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5000" spc="-1" strike="noStrike">
                <a:solidFill>
                  <a:srgbClr val="04617b"/>
                </a:solidFill>
                <a:latin typeface="Calibri"/>
              </a:rPr>
              <a:t>Buspir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600" spc="-1" strike="noStrike">
                <a:solidFill>
                  <a:srgbClr val="000000"/>
                </a:solidFill>
                <a:latin typeface="Constantia"/>
              </a:rPr>
              <a:t>Perhatian pada efek samping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600" spc="-1" strike="noStrike">
                <a:solidFill>
                  <a:srgbClr val="000000"/>
                </a:solidFill>
                <a:latin typeface="Constantia"/>
              </a:rPr>
              <a:t>SSP : Sakit kepala, dizziness, fatique, penurunan konsentrasi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600" spc="-1" strike="noStrike">
                <a:solidFill>
                  <a:srgbClr val="000000"/>
                </a:solidFill>
                <a:latin typeface="Constantia"/>
              </a:rPr>
              <a:t>GI : dispepsia, diar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600" spc="-1" strike="noStrike">
                <a:solidFill>
                  <a:srgbClr val="000000"/>
                </a:solidFill>
                <a:latin typeface="Constantia"/>
              </a:rPr>
              <a:t>CV : palpitasi,takikardi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600" spc="-1" strike="noStrike">
                <a:solidFill>
                  <a:srgbClr val="000000"/>
                </a:solidFill>
                <a:latin typeface="Constantia"/>
              </a:rPr>
              <a:t>Kulit : skin rash, dry ski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600" spc="-1" strike="noStrike">
                <a:solidFill>
                  <a:srgbClr val="000000"/>
                </a:solidFill>
                <a:latin typeface="Constantia"/>
              </a:rPr>
              <a:t>Endokrin : perubahan libido, menstruasi tidak teratu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5000" spc="-1" strike="noStrike">
                <a:solidFill>
                  <a:srgbClr val="04617b"/>
                </a:solidFill>
                <a:latin typeface="Calibri"/>
              </a:rPr>
              <a:t>Anti histamin - Hidroksizi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600" spc="-1" strike="noStrike">
                <a:solidFill>
                  <a:srgbClr val="000000"/>
                </a:solidFill>
                <a:latin typeface="Constantia"/>
              </a:rPr>
              <a:t>Sediaan : Kaplet 25 mg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600" spc="-1" strike="noStrike">
                <a:solidFill>
                  <a:srgbClr val="000000"/>
                </a:solidFill>
                <a:latin typeface="Constantia"/>
              </a:rPr>
              <a:t>Dosis awal : 3 x 25 mg po per hari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600" spc="-1" strike="noStrike">
                <a:solidFill>
                  <a:srgbClr val="000000"/>
                </a:solidFill>
                <a:latin typeface="Constantia"/>
              </a:rPr>
              <a:t>Dosis maksimal 100 mg po per hari dalam dosis terbagi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600" spc="-1" strike="noStrike" u="sng">
                <a:solidFill>
                  <a:srgbClr val="000000"/>
                </a:solidFill>
                <a:uFillTx/>
                <a:latin typeface="Constantia"/>
              </a:rPr>
              <a:t>Farmakokinetik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600" spc="-1" strike="noStrike">
                <a:solidFill>
                  <a:srgbClr val="000000"/>
                </a:solidFill>
                <a:latin typeface="Constantia"/>
              </a:rPr>
              <a:t>Absorbsi via traktus GI, mencapai plasma level 1-3 jam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600" spc="-1" strike="noStrike">
                <a:solidFill>
                  <a:srgbClr val="000000"/>
                </a:solidFill>
                <a:latin typeface="Constantia"/>
              </a:rPr>
              <a:t>Distribusi : tubuh dan SSP(50-90% di korteks frontal dan temporal, juga ada di hipokampus dan pons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600" spc="-1" strike="noStrike">
                <a:solidFill>
                  <a:srgbClr val="000000"/>
                </a:solidFill>
                <a:latin typeface="Constantia"/>
              </a:rPr>
              <a:t>Metabolisme di hati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600" spc="-1" strike="noStrike">
                <a:solidFill>
                  <a:srgbClr val="000000"/>
                </a:solidFill>
                <a:latin typeface="Constantia"/>
              </a:rPr>
              <a:t>Waktu paruh ±20 jam, durasi aksi ± 2 jam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600" spc="-1" strike="noStrike">
                <a:solidFill>
                  <a:srgbClr val="000000"/>
                </a:solidFill>
                <a:latin typeface="Constantia"/>
              </a:rPr>
              <a:t>Indikasi : GAD, gangguan cemas untuk pemberian dalam jangka waktu singk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600" spc="-1" strike="noStrike">
                <a:solidFill>
                  <a:srgbClr val="000000"/>
                </a:solidFill>
                <a:latin typeface="Constantia"/>
              </a:rPr>
              <a:t>Alternatif pada pasien dengan riwayat penggunaan z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RCT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dosis 50mg/hari sama efektifnya dengan benzodiazepin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S: sedasi, dizziness,hypotension epigastric distress, nausea, vomiting, diarrhea, constipation, dry mouth, urinary retention, blurred vision, and constipa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500" spc="-1" strike="noStrike">
                <a:solidFill>
                  <a:srgbClr val="04617b"/>
                </a:solidFill>
                <a:latin typeface="Calibri"/>
              </a:rPr>
              <a:t>β </a:t>
            </a: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adrenergi</a:t>
            </a:r>
            <a:r>
              <a:rPr b="0" lang="id-ID" sz="4500" spc="-1" strike="noStrike">
                <a:solidFill>
                  <a:srgbClr val="04617b"/>
                </a:solidFill>
                <a:latin typeface="Calibri"/>
              </a:rPr>
              <a:t>c receptor a</a:t>
            </a: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ntagonis</a:t>
            </a:r>
            <a:r>
              <a:rPr b="0" lang="id-ID" sz="4500" spc="-1" strike="noStrike">
                <a:solidFill>
                  <a:srgbClr val="04617b"/>
                </a:solidFill>
                <a:latin typeface="Calibri"/>
              </a:rPr>
              <a:t>ts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Constantia"/>
                <a:ea typeface="Constantia"/>
              </a:rPr>
              <a:t>Obat: propanolol, atenolo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Constantia"/>
                <a:ea typeface="Constantia"/>
              </a:rPr>
              <a:t>selektivitas reseptor </a:t>
            </a:r>
            <a:r>
              <a:rPr b="0" lang="ko-KR" sz="26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ko-KR" sz="2600" spc="-1" strike="noStrike">
                <a:solidFill>
                  <a:srgbClr val="000000"/>
                </a:solidFill>
                <a:latin typeface="Constantia"/>
                <a:ea typeface="Constantia"/>
              </a:rPr>
              <a:t>1=</a:t>
            </a:r>
            <a:r>
              <a:rPr b="0" lang="ko-KR" sz="26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ko-KR" sz="2600" spc="-1" strike="noStrike">
                <a:solidFill>
                  <a:srgbClr val="000000"/>
                </a:solidFill>
                <a:latin typeface="Constantia"/>
                <a:ea typeface="Constantia"/>
              </a:rPr>
              <a:t>2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Constantia"/>
                <a:ea typeface="Constantia"/>
              </a:rPr>
              <a:t>Reseptor </a:t>
            </a:r>
            <a:r>
              <a:rPr b="0" lang="ko-KR" sz="26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ko-KR" sz="2600" spc="-1" strike="noStrike">
                <a:solidFill>
                  <a:srgbClr val="000000"/>
                </a:solidFill>
                <a:latin typeface="Constantia"/>
                <a:ea typeface="Constantia"/>
              </a:rPr>
              <a:t>1 mengatur fungsi kronotropik &amp; inotropik  jantung </a:t>
            </a:r>
            <a:r>
              <a:rPr b="0" lang="ko-KR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ko-KR" sz="2600" spc="-1" strike="noStrike">
                <a:solidFill>
                  <a:srgbClr val="000000"/>
                </a:solidFill>
                <a:latin typeface="Constantia"/>
                <a:ea typeface="Constantia"/>
              </a:rPr>
              <a:t> efek penurunan tekanan darah &amp; bradikardi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Constantia"/>
                <a:ea typeface="Constantia"/>
              </a:rPr>
              <a:t>Reseptor </a:t>
            </a:r>
            <a:r>
              <a:rPr b="0" lang="ko-KR" sz="26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ko-KR" sz="2600" spc="-1" strike="noStrike">
                <a:solidFill>
                  <a:srgbClr val="000000"/>
                </a:solidFill>
                <a:latin typeface="Constantia"/>
                <a:ea typeface="Constantia"/>
              </a:rPr>
              <a:t>2 </a:t>
            </a:r>
            <a:r>
              <a:rPr b="0" lang="ko-KR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ko-KR" sz="2600" spc="-1" strike="noStrike">
                <a:solidFill>
                  <a:srgbClr val="000000"/>
                </a:solidFill>
                <a:latin typeface="Constantia"/>
                <a:ea typeface="Constantia"/>
              </a:rPr>
              <a:t> bronkodilatasi &amp; vasodilatasi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-47160"/>
            <a:ext cx="8229600" cy="808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83808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 u="sng">
                <a:solidFill>
                  <a:srgbClr val="000000"/>
                </a:solidFill>
                <a:uFillTx/>
                <a:latin typeface="Constantia"/>
              </a:rPr>
              <a:t>Propanolol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Constantia"/>
              </a:rPr>
              <a:t>Farmakokinetik 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Constantia"/>
              </a:rPr>
              <a:t>90% terikat protein, lipofilik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Constantia"/>
              </a:rPr>
              <a:t>Metabolisme di hati, CYP 450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Constantia"/>
              </a:rPr>
              <a:t>Distribusi ke seluruh tubuh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Constantia"/>
              </a:rPr>
              <a:t>Eliminasi : waktu paruh 3-6 jam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Constantia"/>
              </a:rPr>
              <a:t>Farmakodinamik 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Constantia"/>
              </a:rPr>
              <a:t>Memblok  aksi endogen katekolamin (tu. NE) pada ß adrenergik reseptor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Dosis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- propanolol 10-40mg, dosis tunggal, 30menit-1jam sebelum anxiety-provoking situat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4T01:13:55Z</dcterms:created>
  <dc:creator>Velly</dc:creator>
  <dc:description/>
  <dc:language>en-US</dc:language>
  <cp:lastModifiedBy>ASUS</cp:lastModifiedBy>
  <dcterms:modified xsi:type="dcterms:W3CDTF">2013-10-10T23:38:42Z</dcterms:modified>
  <cp:revision>86</cp:revision>
  <dc:subject/>
  <dc:title>ANTIANSIETAS  NON BENZODIAZEPIN</dc:title>
</cp:coreProperties>
</file>