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386-46CC-4295-A9BA-11BCCC11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2F3-A3A8-422E-A9A3-3551B70D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2EE-87CA-4556-83EF-2A400E5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533-28B8-4DF0-8099-F72FDA26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C4B-A89A-4600-9561-0E03DBA7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A569-B888-4BCB-A102-9ADC8437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9F8C-1BBD-425F-9F5A-02D7501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AF4C-785F-4F41-A0A1-2C08A345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292C-ED1B-4668-9017-D73A5EE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4D17-A4BE-4765-9116-DA5DE0A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A73F-4516-4A3A-8083-1744809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EC1-0978-4F49-A0D5-9A1C628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550-A6DE-4A4E-879B-B187B24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659B-B63D-4C4C-AC77-C588EAD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B067-F47D-49DD-92AF-F77E53D2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A6D-9AEE-45AC-8C02-B064268B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31F-FDD6-4F0C-8C93-11B47C24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B1A8-78E1-41AF-962D-D3EAA1E2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D469-FD7C-48DA-AAC0-78D6A4F3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384D-F942-4D5C-B849-28B74AA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1E51-B5A7-4611-8561-991A2C33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7EC6-73E9-4CDF-956D-BF40981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4AA-077E-4477-B60B-AB70C74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A170-5DFE-4E37-BEDE-DC8C3C0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0306-A002-4FD2-83BA-9C927DD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BCD5-8668-440E-944A-2E8E3EC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670A-57D5-4CBC-A7F0-95DC0F91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DC28-1C24-4D14-BF51-09890123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152D-CFA8-4CB6-A740-B1A544F1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E405-4541-49F0-B8EF-AD21894A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6A22-00B0-47C7-8939-E2BAB60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69BE-448E-42EB-A411-71873C1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31CB-D965-4583-88B6-253E068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0F3-5D7B-4D0D-A5B4-A6BD0C3A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38C4-58AF-4917-9B6F-6CDF3227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36CA-75EB-47EF-8617-12B6E5D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3BCA1-7661-4C36-B040-4EA2E2E1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C23A-17DD-4E5A-B560-60986C4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C166-3C84-49AC-94AF-FE64E14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D59A-B03E-4EA2-B591-4348105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17FA-828D-4990-9B28-526BED7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640F-356B-4F37-BED2-F5E5DC7D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9FD6-AA0A-41EA-AD50-FE5FE116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12C-3A82-4588-A5CB-1191824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546-8162-4330-9877-D264D91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21C-09BF-4A03-85ED-42D511F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450-14F6-4FFB-9D92-B4CE552C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093-EB08-499C-8089-181844E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E42-2BC8-4C6F-A4C8-9E053D735B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566E-515A-4C76-81AD-30190084B1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16D-A98E-45E6-B272-5690B296990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6260-EAE9-43A8-BAA8-A6DB739C3E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278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istem beta adrenergik berperan pada formasi dan konsolidasi memori yang emosional, pre dan post learning stimulation of the ß adrenergic system, memperkuat memori yang mencetuskan pengalaman yang tidak menyenangk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supresi gejala somatik pada ansietas, khususnya pada serangan panik, dan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mblok memori emosiona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40-160mg/ 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: asthma, insulin-dependent diabetes, CHF, vascular disease, persistent angina, hyperthyroidis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fek samp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CV: hipotensi, bradikardi, dizziness, congestive heart failure (pada pasien dengan compromised myocardial function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nafasan : Ast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I : mual, diare, nyeri per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Fungsi seksual : impot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Neuropsikiatrik : kelesuan, disforik, insomnia, vivid nightm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α</a:t>
            </a:r>
            <a:r>
              <a:rPr b="0" lang="el-GR" sz="4500" spc="-1" strike="noStrike" baseline="-25000">
                <a:solidFill>
                  <a:srgbClr val="04617b"/>
                </a:solidFill>
                <a:latin typeface="Calibri"/>
              </a:rPr>
              <a:t>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Adrenergic Receptor Agonis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onidin (0.2-0.6mg/hari), guanfasin (0.5-3mg/hari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dry mouth &amp; eyes, dizziness, fatigue, drowsiness, sedation, nausea, hypotension, constipation, sexual dys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tikonvuls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at yang biasa digunakan adalah gabapentin, tiagabine, topiramat, pregabal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kaitkan dengan aktivitasnya pada GA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bapenti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angan panik,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gabali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di Eropa untuk G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piramat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agabine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gen anxiolitik untuk pasien yang tidak respon terhadap pengobatan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yang diberikan setara dengan terapi epilep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egabalin : 150-6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bapentin: 300-24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opiramat: 50-4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agabin: 4-16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bapent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zziness, ataxia, fatigue, and nystagmus, peripheral edema, memory impairment, weight gain, orgasmic dys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gabal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zziness, somnolence, blurred vision, peripheral edema, amnesia atau loss of memory, tremo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pira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atigue, nervousness, poor concentration, confusion, taste perversion, depression, anorexia, anxiety, mood problems, weight loss, trem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agabin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eratogenic (pada percobaan tikus), sedation, cognitive impairment, ataxia, dizziness, tremor, paresthesias, confusion,depression, nausea, abdominal pain, muscle weakness, flushing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tevens-Johnson syndr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tipsikotik generasi 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ktivitas pada blokade dopamin, dan reseptor serotonin 5-H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 &lt;  dari tipik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 ansiet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 refrak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GAD, panic dis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setara dengan terapi psikot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Risperidone 2-8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lanzapine 10-3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aripiprazol 10-3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quetiapine 300-8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EPS, tardive dyskinesia, sedasi, somnolen, hipotensi ortostatik d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S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 jenis obat : fluoxetine, sertraline, paroxetine, fluvoxamine, citalopram, escitalop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kanisme kerja: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lok serotonin reuptake pump (somatodendritik &gt; axon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esensitisasi dan downregulasi autoreseptor 5HT1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5-HT1A agonis : Buspi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histamin : Difehidramin, hidroksiz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Beta adrenergik  reseptor antagonis : Propanol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lfa 2 adrenergik reseptor agonis : Clonid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psikotik generasi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 konvuls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ntidepresan : TCA, SSRI, SNRI, MAO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FD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D: paroxetin, escitalopra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D : paroxetin, 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nic disorder: paroxetin,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D: fluvoxamin, fluoxetin, paroxetin, 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TSD: paroxetin,sertral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D, SAD, panic disorder, 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sama dengan penanganan depres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rtralin : 50-20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roxetin: 10-5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escitalopram: 10-2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oxetin: 20-4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lebih tingg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voxamin: 200-3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luoxetin: 40-8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roxetin: 40-8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rtralin: 100-2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ek samp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itasi, ansietas, disfungsi seksual, weight gain, gangguan tidur, fatigue, gSleep jala kognitif dan memo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aksi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dak boleh diberikan bersama MAOI; resiko perdarahan dengan NSAID, aspirin; pemantauan kadar plasma bila bersama T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N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dengan menghambat reuptake serotonin dan norepinefr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NRI: venlafaxine, desvenlafaxine, duloxetine, milnacipran, sibutramine, bicifid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kas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D : venlafaxine, duloxe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AD 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nic disorder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: venlafax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 setara dengan pengobatan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venlafaxine: 75-225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uloxetin: 60-12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svenlafaxin: 50-1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D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nlafaxine (150-300mg/hari); duloxetine(60-120mg/hari); desvenlafaxine(50-100mg/ha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sietas, nervousness, nausea, insomnia, sedasi, disfungsi seksual, sakit kepala, tremor, dizziness, konstipasi, keringat berlebih, takikardi, palpitasi, peningkatan T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metabolisme di hati oleh CYP4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aks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SAID, aspiri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ningkatan resiko perdar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kohol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ningkatan resiko 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dengan meningkatkan availabilitas norepinefrin, dan menghambat reuptake serotonin di celah sina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 terbatas karena ES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antiansietas : imipramine, nortriptilin, clomipra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kasi: panic disorder, GAD, PTSD,OC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minimalisasi efek samping, dilakukan titrasi dosis dari yang sangat rendah, dan ditingkatkan perl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komendasi FD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D 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idak efekt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anic disorder :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OCD: clomipr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lebih rendah dari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mipramin: 50-2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nic diorder, OCD, PTS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setara dengan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imipramin: 100-30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lomipramin: 100-250mg/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Sediaan : tablet 10 m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awal : 2x5 mg pero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apat dinaikkan 5 mg setiap 3 hari hingga mencapai dosis terapeutik atau berdasarkan respon pasi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terapi : 20-30 mg/ha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osis maksimal : 60 mg/ha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Waktu paruh : 2-11 jam. Tidak ada metabolit akt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fek ansiolitik buspiron berlangsung lambat; sekitar 2 mingg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ek samp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dasi, hipotensi postural, efek antikolinergik (dry mouth, constipation, blurred vision, delirium, urinary retention) , penurunan ambang kejang, peningkatan BB, disfungsi seksual, disfungsi ereksi, palpitasi, sedasi,efek pada jantung (tachycardia, flattened T waves, prolonged QT intervals, depressed ST segme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al pada overd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belum memulai: riwayat medis dan pemeriksaa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danya kontra indikas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angguan konduksi jantung, usia diatas 40 tahu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yesuaian dosis pd usia lanj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O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hambat MAO di beberapa organ , dan efek terbesar pada MAO-A, dimana norepinephrine dan 5-HT adalah substrat utama dibanding MAO-B,yang banyak bekerja pada amine yang lain dan dopam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nya terbatas pada SAD dan panic disorder, &lt;  PTS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sis setara dengan terapi depre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henelzine (45-90mg/har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oclobemide ( 300-900mg/ha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fek samp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ipotensi ortostatik, krisis hipertensi, hiperpireksia, impotensi, insomnia pada malam hari dan sedasi pada siang hari, kram otot, konstipasi, mulut kering, dan peningkatan berat bad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dosis: mabuk, ataksia, kebingungan, dan kadang eufo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aksi dengan makana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iet rendah tira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212920" cy="309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04617b"/>
                </a:solidFill>
                <a:latin typeface="Calibri"/>
              </a:rPr>
              <a:t>TERIMA KASIH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4876920"/>
            <a:ext cx="2210040" cy="1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Placeholder 4" descr="laura.jpg"/>
          <p:cNvPicPr/>
          <p:nvPr/>
        </p:nvPicPr>
        <p:blipFill>
          <a:blip r:embed="rId1"/>
          <a:srcRect l="0" t="11916" r="0" b="1191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ndikasi : G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dak efektif untuk OCD, S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kerja sebagai  agonis parsial serotonin 5-H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1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sedikit afinitas terhadap reseptor dopami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rbsi diperlambat oleh maka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gunaannya direkomendasikan pada GAD terutama pada pasien dengan resiko penyalahgunaan benzodiazep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dak diindikasikan pada GAD dengan komorbid depresi atau gangguan pan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Buspir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hatian pada efek samp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SP : Sakit kepala, dizziness, fatique, penurunan konsentr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I : dispepsia, di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CV : palpitasi,takikard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ulit : skin rash, dry sk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ndokrin : perubahan libido, menstruasi tidak terat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Anti histamin - Hidroksiz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ediaan : Kaplet 25 m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osis awal : 3 x 25 mg po per h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osis maksimal 100 mg po per hari dalam dosis terbag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 u="sng">
                <a:solidFill>
                  <a:srgbClr val="000000"/>
                </a:solidFill>
                <a:uFillTx/>
                <a:latin typeface="Constantia"/>
              </a:rPr>
              <a:t>Farmakokineti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bsorbsi via traktus GI, mencapai plasma level 1-3 j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Distribusi : tubuh dan SSP(50-90% di korteks frontal dan temporal, juga ada di hipokampus dan p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tabolisme di h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Waktu paruh ±20 jam, durasi aksi ± 2 j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ndikasi : GAD, gangguan cemas untuk pemberian dalam jangka waktu singk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lternatif pada pasien dengan riwayat penggunaan z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osis 50mg/hari sama efektifnya dengan benzodiazep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: sedasi, dizziness,hypotension epigastric distress, nausea, vomiting, diarrhea, constipation, dry mouth, urinary retention, blurred vision, and consti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β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drenergi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c receptor a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tagonis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Obat: propanolol, atenol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selektivitas 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1=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1 mengatur fungsi kronotropik &amp; inotropik  jantung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 efek penurunan tekanan darah &amp; bradikard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Reseptor 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2 </a:t>
            </a:r>
            <a:r>
              <a:rPr b="0" lang="ko-K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600" spc="-1" strike="noStrike">
                <a:solidFill>
                  <a:srgbClr val="000000"/>
                </a:solidFill>
                <a:latin typeface="Constantia"/>
                <a:ea typeface="Constantia"/>
              </a:rPr>
              <a:t> bronkodilatasi &amp; vasodilata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47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Constantia"/>
              </a:rPr>
              <a:t>Propanol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Farmakokinetik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90% terikat protein, lipofil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Metabolisme di hati, CYP 4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Distribusi ke seluruh tubu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liminasi : waktu paruh 3-6 j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Farmakodinamik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Memblok  aksi endogen katekolamin (tu. NE) pada ß adrenergik resep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s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propanolol 10-40mg, dosis tunggal, 30menit-1jam sebelum anxiety-provoking sit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1:13:55Z</dcterms:created>
  <dc:creator>Velly</dc:creator>
  <dc:description/>
  <dc:language>en-US</dc:language>
  <cp:lastModifiedBy>ASUS</cp:lastModifiedBy>
  <dcterms:modified xsi:type="dcterms:W3CDTF">2013-10-10T23:38:42Z</dcterms:modified>
  <cp:revision>86</cp:revision>
  <dc:subject/>
  <dc:title>ANTIANSIETAS  NON BENZODIAZEPIN</dc:title>
</cp:coreProperties>
</file>