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4E72-D0B7-47E4-B31E-019C32552B3D}"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ksis II plg banyak : gangguan kepribadian amb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Gangguan cemas dan SUD &gt;&gt;komorbid dg bipolar</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73C9-5478-4A89-8F08-A5112ED43BD3}"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Bedakan apakah primer gangguan mood atau karena komorbid lain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Quetiapin &gt; monoterapi utk G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Untuk komorbid COD, perlu antidepresan dosis yang mgdg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BB1D-7D19-4568-A25C-9FA664803347}"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53E96-EBDA-4F40-951F-721E33EB6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B97F-6DCA-44F3-BE0F-1E4EB71B7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8CFC3-A886-4292-92FF-0EC460EC9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092D2-A586-4469-BE34-5B4089E22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8609B-0411-4602-BD8F-20AD954B2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C6342-CE77-4A19-9CA2-96E95A76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482D9-4691-4E49-AE93-C26BB7541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618DB-D04B-4F4B-990B-1AE840B04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2D037-696B-40B4-ADA9-DC9BA64FB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2397F-704E-46FF-82E6-FED3F5DB3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58060-246D-4243-9207-C37D5A8F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9E0F7-8CEA-477C-8AAC-7CD727C8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DBDD0-11A8-4583-928B-2C33295AC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EFEA-3DC0-44FA-BE2F-90BC585EB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422B0-1623-46EF-8631-E187D8C4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B44D5-2821-4B60-9432-25C9FD18A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AF53B-AD56-475B-A0B2-30CD23095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47116-5E6B-48CC-BDA2-86DC766C3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429EE-9E91-41C9-A82F-7F076C57B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3F364-4D12-4576-AED9-46A61E75F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C5216-7ADE-4EC3-867A-BC0A90731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72A98-7302-4CB2-978E-3CFC42F64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1E7BA-5A84-4AFA-850F-5663D18F6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77192-2102-4B88-B0B8-E96E92C0B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9D363-DCFD-4451-979C-3557EE3A5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84669-78F1-42E4-AF12-364C5688F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360F7-1547-45B5-A830-53DBD5AA6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BCF2C-97BD-4F61-9DCF-86C9B16A0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970B5-8EA4-4D9A-9FDC-B3DA51545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948171-0DA8-4FF6-88BD-7382B789D8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E5B82-14AF-42D9-8AC8-A8B478A7F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3FEFF-A810-41B9-932A-68F34760E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44C96-39DF-415E-A5EF-F6B2E2B50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97F2E-FDDA-496D-98A4-D96BEF19D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CFBC5-C044-44A5-9965-94422523B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4B2FC-C275-4F10-A5CB-F2A549F16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A3E14-4179-4923-8A21-ED74E7F3B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D8903-F897-4FF5-A044-144159EBE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4AB8E-4CCA-4AB3-9712-5DDEB5DAC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C8F45-C028-4772-80FE-DF30000A3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7E184-5AC2-4AB1-88B5-54931F70D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900B70-86B6-41E3-A514-2A95267DC0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5002D-6EF1-4DF6-B14B-1907C68CE3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C89C42-5030-496C-A8A4-FAB8C42366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C0F45-1F2A-4B89-A70A-38364057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C68D8-C83D-4D0B-A5FC-ADA0589A4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D614A-A077-4AD5-8BB8-C44CC9184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25FA5-2FBA-44A8-8607-1FA4B65EC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711D4-07E4-4869-A32A-225AA2126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DD005-8C6E-44B9-AC97-80E96AB99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68848-845C-4B69-B791-F1C3F2821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1897B-3512-4675-8157-A904B389D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269BC-7AF1-471A-B86B-7ED3320C7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FE15D2-2034-4BD9-85FB-9047184BF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67950-1E6C-4541-A23D-D2CF85908D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E070-CECF-42BC-91CB-8B21B56F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F69F72-3ED7-42A5-BFAE-38ABE091A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1CD1-E92C-42EC-9C6A-1ACB4C81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9D1D-E98F-4052-98F0-CAA8037F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D04A-034E-4B7A-BA4A-6FA9AE8D6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D487-9114-4DC5-87D3-5F4D4C311E7A}"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CEF5-ADA8-43E4-9AD9-E9DE2A32ED1E}"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A2C7-4BB6-470E-9F61-6B7E0ABFC3C8}"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7107-CABE-4F0C-89EF-7115B8C61FE8}"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0320-8FF5-4F4D-8C04-2B696F648E23}"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500" spc="-1" strike="noStrike">
                <a:solidFill>
                  <a:srgbClr val="ff8d3e"/>
                </a:solidFill>
                <a:latin typeface="Verdana"/>
              </a:rPr>
              <a:t>F.3</a:t>
            </a:r>
            <a:br>
              <a:rPr sz="4500"/>
            </a:br>
            <a:r>
              <a:rPr b="1" lang="id-ID" sz="4500" spc="-1" strike="noStrike">
                <a:solidFill>
                  <a:srgbClr val="ff8d3e"/>
                </a:solidFill>
                <a:latin typeface="Verdana"/>
              </a:rPr>
              <a:t>KOMORBID</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79766f"/>
                </a:solidFill>
                <a:latin typeface="Verdana"/>
              </a:rPr>
              <a:t>Presentan : dr. Meiliana L</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79766f"/>
                </a:solidFill>
                <a:latin typeface="Verdana"/>
              </a:rPr>
              <a:t>Narasumber : Dr. dr. Nurmiati Amir, Sp.Kj(K)</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MDD</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 related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Panic disorder</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OCD </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Anoreksia nervosa</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ulimia nervosa</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orderline personality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8d3e"/>
                </a:solidFill>
                <a:latin typeface="Verdana"/>
              </a:rPr>
              <a:t>Dysthymia (Persistent Depressive Disorder)</a:t>
            </a:r>
            <a:br>
              <a:rPr sz="3200"/>
            </a:br>
            <a:endParaRPr b="1" lang="en-US" sz="3200" spc="-1" strike="noStrike">
              <a:solidFill>
                <a:srgbClr val="ff8d3e"/>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Anxiety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 use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early onset </a:t>
            </a:r>
            <a:r>
              <a:rPr b="0" lang="id-ID" sz="2800" spc="-1" strike="noStrike">
                <a:solidFill>
                  <a:srgbClr val="000000"/>
                </a:solidFill>
                <a:latin typeface="Calibri"/>
                <a:ea typeface="Calibri"/>
              </a:rPr>
              <a:t>→ cluster B and C personality disorder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Cyclothymic Disorder</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related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leep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children ; attention-deficit/hyperactivity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07f09"/>
                </a:solidFill>
                <a:latin typeface="Verdana"/>
              </a:rPr>
              <a:t>Mood </a:t>
            </a:r>
            <a:r>
              <a:rPr b="1" lang="en-CA" sz="3200" spc="-1" strike="noStrike">
                <a:solidFill>
                  <a:srgbClr val="f07f09"/>
                </a:solidFill>
                <a:latin typeface="Verdana"/>
              </a:rPr>
              <a:t>Disorders and Substance Use Disorder</a:t>
            </a:r>
            <a:endParaRPr b="1" lang="en-US" sz="3200" spc="-1" strike="noStrike">
              <a:solidFill>
                <a:srgbClr val="ff8d3e"/>
              </a:solidFill>
              <a:latin typeface="Verdana"/>
            </a:endParaRPr>
          </a:p>
        </p:txBody>
      </p:sp>
      <p:sp>
        <p:nvSpPr>
          <p:cNvPr id="252" name=""/>
          <p:cNvSpPr txBox="1"/>
          <p:nvPr/>
        </p:nvSpPr>
        <p:spPr>
          <a:xfrm>
            <a:off x="503280" y="1428480"/>
            <a:ext cx="8183520" cy="450036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Gangguan mood terutama depresi dan bipolar sering muncul bersamaan dengan SUD </a:t>
            </a:r>
            <a:r>
              <a:rPr b="0" lang="en-CA" sz="2800" spc="-1" strike="noStrike">
                <a:solidFill>
                  <a:srgbClr val="000000"/>
                </a:solidFill>
                <a:latin typeface="Wingdings"/>
                <a:ea typeface="Wingdings"/>
              </a:rPr>
              <a:t></a:t>
            </a:r>
            <a:r>
              <a:rPr b="0" lang="en-CA" sz="2800" spc="-1" strike="noStrike">
                <a:solidFill>
                  <a:srgbClr val="000000"/>
                </a:solidFill>
                <a:latin typeface="Verdana"/>
              </a:rPr>
              <a:t> memperburuk gejala klinis, pengobatan dan prognos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Bukti menunjukkan </a:t>
            </a:r>
            <a:r>
              <a:rPr b="0" lang="en-CA" sz="2800" spc="-1" strike="noStrike">
                <a:solidFill>
                  <a:srgbClr val="000000"/>
                </a:solidFill>
                <a:latin typeface="Wingdings"/>
                <a:ea typeface="Wingdings"/>
              </a:rPr>
              <a:t></a:t>
            </a:r>
            <a:r>
              <a:rPr b="0" lang="en-CA" sz="2800" spc="-1" strike="noStrike">
                <a:solidFill>
                  <a:srgbClr val="000000"/>
                </a:solidFill>
                <a:latin typeface="Verdana"/>
              </a:rPr>
              <a:t> tatalaksana terhadap gangguan mood menurunkan penggunaan zat dan crav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efek patologis dari gangguan mood atau SUD mungkin meningkatkan risiko untuk yang lain. (mis:gangguan mood ini bisa memotivasi individu untuk menggunakan obat-obatan dan alkohol untuk mengatasi gangguan mood </a:t>
            </a:r>
            <a:r>
              <a:rPr b="0" lang="en-CA" sz="2600" spc="-1" strike="noStrike">
                <a:solidFill>
                  <a:srgbClr val="000000"/>
                </a:solidFill>
                <a:latin typeface="Wingdings"/>
                <a:ea typeface="Wingdings"/>
              </a:rPr>
              <a:t></a:t>
            </a:r>
            <a:r>
              <a:rPr b="0" lang="en-CA" sz="2600" spc="-1" strike="noStrike">
                <a:solidFill>
                  <a:srgbClr val="000000"/>
                </a:solidFill>
                <a:latin typeface="Verdana"/>
              </a:rPr>
              <a:t> penghentian zat akan memperburuk suasana hati </a:t>
            </a:r>
            <a:r>
              <a:rPr b="0" lang="en-CA" sz="2600" spc="-1" strike="noStrike">
                <a:solidFill>
                  <a:srgbClr val="000000"/>
                </a:solidFill>
                <a:latin typeface="Wingdings"/>
                <a:ea typeface="Wingdings"/>
              </a:rPr>
              <a:t></a:t>
            </a:r>
            <a:r>
              <a:rPr b="0" lang="en-CA" sz="2600" spc="-1" strike="noStrike">
                <a:solidFill>
                  <a:srgbClr val="000000"/>
                </a:solidFill>
                <a:latin typeface="Verdana"/>
              </a:rPr>
              <a:t> meningkatnya penyalahgunaan dan ketergantung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lfmedication berdasarkan gejala psikiatri yang muncul</a:t>
            </a:r>
            <a:endParaRPr b="0" lang="en-US" sz="2600" spc="-1" strike="noStrike">
              <a:solidFill>
                <a:srgbClr val="000000"/>
              </a:solidFill>
              <a:latin typeface="Verdana"/>
            </a:endParaRPr>
          </a:p>
          <a:p>
            <a:pPr lvl="1" marL="739800" indent="-200160">
              <a:lnSpc>
                <a:spcPct val="80000"/>
              </a:lnSpc>
              <a:spcBef>
                <a:spcPts val="249"/>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Verdana"/>
              </a:rPr>
              <a:t>Gejala agresi </a:t>
            </a:r>
            <a:r>
              <a:rPr b="0" lang="en-CA" sz="2200" spc="-1" strike="noStrike">
                <a:solidFill>
                  <a:srgbClr val="000000"/>
                </a:solidFill>
                <a:latin typeface="Wingdings"/>
                <a:ea typeface="Wingdings"/>
              </a:rPr>
              <a:t></a:t>
            </a:r>
            <a:r>
              <a:rPr b="0" lang="en-CA" sz="2200" spc="-1" strike="noStrike">
                <a:solidFill>
                  <a:srgbClr val="000000"/>
                </a:solidFill>
                <a:latin typeface="Verdana"/>
              </a:rPr>
              <a:t> menggunakan opiate</a:t>
            </a:r>
            <a:endParaRPr b="0" lang="en-US" sz="2200" spc="-1" strike="noStrike">
              <a:solidFill>
                <a:srgbClr val="000000"/>
              </a:solidFill>
              <a:latin typeface="Verdana"/>
            </a:endParaRPr>
          </a:p>
          <a:p>
            <a:pPr lvl="1" marL="739800" indent="-200160">
              <a:lnSpc>
                <a:spcPct val="80000"/>
              </a:lnSpc>
              <a:spcBef>
                <a:spcPts val="249"/>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Verdana"/>
              </a:rPr>
              <a:t>Gejala depresi </a:t>
            </a:r>
            <a:r>
              <a:rPr b="0" lang="en-CA" sz="2200" spc="-1" strike="noStrike">
                <a:solidFill>
                  <a:srgbClr val="000000"/>
                </a:solidFill>
                <a:latin typeface="Wingdings"/>
                <a:ea typeface="Wingdings"/>
              </a:rPr>
              <a:t></a:t>
            </a:r>
            <a:r>
              <a:rPr b="0" lang="en-CA" sz="2200" spc="-1" strike="noStrike">
                <a:solidFill>
                  <a:srgbClr val="000000"/>
                </a:solidFill>
                <a:latin typeface="Verdana"/>
              </a:rPr>
              <a:t> menggunakan cocai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baliknya penggunaan kronik zat dapat mengungkapkan suatu keadaan bipolar atau gangguan mood lainnya</a:t>
            </a:r>
            <a:endParaRPr b="0" lang="en-US" sz="2600" spc="-1" strike="noStrike">
              <a:solidFill>
                <a:srgbClr val="000000"/>
              </a:solidFill>
              <a:latin typeface="Verdana"/>
            </a:endParaRPr>
          </a:p>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memicu peningkatan keparahan gejala dari subklinis ke tingkat yang signifikan secara klinis. Hal ini tampaknya terjadi karena pada individu secara genetik rentan, obat memperburuk perubahan patofisiologi dalam sistem neurotransmitter atau jalur sinyal yang sudah tidak normal dan mendasari gangguan moo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Assessment &amp; diagnosis</a:t>
            </a:r>
            <a:endParaRPr b="1" lang="en-US" sz="3600" spc="-1" strike="noStrike">
              <a:solidFill>
                <a:srgbClr val="ff8d3e"/>
              </a:solidFill>
              <a:latin typeface="Verdana"/>
            </a:endParaRPr>
          </a:p>
        </p:txBody>
      </p:sp>
      <p:sp>
        <p:nvSpPr>
          <p:cNvPr id="25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asien SUD yang menunjukan gejala gangguan mood , mungkin :</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Intoksikasi akut/ withdrawal</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substance-induced mood disorde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preexisting affective disorde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Atau kombinas</a:t>
            </a:r>
            <a:r>
              <a:rPr b="0" lang="id-ID" sz="2400" spc="-1" strike="noStrike">
                <a:solidFill>
                  <a:srgbClr val="000000"/>
                </a:solidFill>
                <a:latin typeface="Verdana"/>
              </a:rPr>
              <a:t>i</a:t>
            </a:r>
            <a:r>
              <a:rPr b="0" lang="en-CA" sz="2400" spc="-1" strike="noStrike">
                <a:solidFill>
                  <a:srgbClr val="000000"/>
                </a:solidFill>
                <a:latin typeface="Verdana"/>
              </a:rPr>
              <a:t> dari gejala2 tersebut</a:t>
            </a:r>
            <a:endParaRPr b="0" lang="en-US" sz="24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Dibutuhkan  metode pendekatan yang tepat untu</a:t>
            </a:r>
            <a:r>
              <a:rPr b="0" lang="id-ID" sz="2400" spc="-1" strike="noStrike">
                <a:solidFill>
                  <a:srgbClr val="000000"/>
                </a:solidFill>
                <a:latin typeface="Verdana"/>
              </a:rPr>
              <a:t>k </a:t>
            </a:r>
            <a:r>
              <a:rPr b="0" lang="en-CA" sz="2400" spc="-1" strike="noStrike">
                <a:solidFill>
                  <a:srgbClr val="000000"/>
                </a:solidFill>
                <a:latin typeface="Verdana"/>
              </a:rPr>
              <a:t>menentukan diagnos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60"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belum membuat diagnosis definitif , sebaiknya menunggu periode abstinen (detoksifikasi) agar gejala intoksikasi atau withdrawal sudah hilang </a:t>
            </a:r>
            <a:r>
              <a:rPr b="0" lang="en-CA" sz="2600" spc="-1" strike="noStrike">
                <a:solidFill>
                  <a:srgbClr val="000000"/>
                </a:solidFill>
                <a:latin typeface="Wingdings"/>
                <a:ea typeface="Wingdings"/>
              </a:rPr>
              <a:t></a:t>
            </a:r>
            <a:r>
              <a:rPr b="0" lang="en-CA" sz="2600" spc="-1" strike="noStrike">
                <a:solidFill>
                  <a:srgbClr val="000000"/>
                </a:solidFill>
                <a:latin typeface="Verdana"/>
              </a:rPr>
              <a:t> sesuai dengan jenis zat yang digunak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lama periode abstinen (detoksifikasi) dibutuhkan observasi dan pengawasan karena gejala psikiatrik seperti bunuh diri atau mania</a:t>
            </a:r>
            <a:r>
              <a:rPr b="0" lang="id-ID" sz="2600" spc="-1" strike="noStrike">
                <a:solidFill>
                  <a:srgbClr val="000000"/>
                </a:solidFill>
                <a:latin typeface="Verdana"/>
              </a:rPr>
              <a:t> bisa muncul</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Gejala depresi berat, mania atau hipomania membutuhkan tatalaksana segera untuk </a:t>
            </a:r>
            <a:r>
              <a:rPr b="0" lang="id-ID" sz="2600" spc="-1" strike="noStrike">
                <a:solidFill>
                  <a:srgbClr val="000000"/>
                </a:solidFill>
                <a:latin typeface="Verdana"/>
              </a:rPr>
              <a:t>mengurangi</a:t>
            </a:r>
            <a:r>
              <a:rPr b="0" lang="en-CA" sz="2600" spc="-1" strike="noStrike">
                <a:solidFill>
                  <a:srgbClr val="000000"/>
                </a:solidFill>
                <a:latin typeface="Verdana"/>
              </a:rPr>
              <a:t> penderita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Guiding principles</a:t>
            </a:r>
            <a:r>
              <a:rPr b="1" lang="en-CA" sz="3600" spc="-1" strike="noStrike">
                <a:solidFill>
                  <a:srgbClr val="323232"/>
                </a:solidFill>
                <a:latin typeface="Verdana"/>
              </a:rPr>
              <a:t> </a:t>
            </a:r>
            <a:endParaRPr b="1" lang="en-US" sz="3600" spc="-1" strike="noStrike">
              <a:solidFill>
                <a:srgbClr val="ff8d3e"/>
              </a:solidFill>
              <a:latin typeface="Verdana"/>
            </a:endParaRPr>
          </a:p>
        </p:txBody>
      </p:sp>
      <p:sp>
        <p:nvSpPr>
          <p:cNvPr id="262"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Jika gejala yang terlihat adalah gejala tipikal intoksikasi atau withdrawal , tanpa riwayat psikiatrik </a:t>
            </a:r>
            <a:r>
              <a:rPr b="0" lang="en-CA" sz="2600" spc="-1" strike="noStrike">
                <a:solidFill>
                  <a:srgbClr val="000000"/>
                </a:solidFill>
                <a:latin typeface="Wingdings"/>
                <a:ea typeface="Wingdings"/>
              </a:rPr>
              <a:t></a:t>
            </a:r>
            <a:r>
              <a:rPr b="0" lang="en-CA" sz="2600" spc="-1" strike="noStrike">
                <a:solidFill>
                  <a:srgbClr val="000000"/>
                </a:solidFill>
                <a:latin typeface="Verdana"/>
              </a:rPr>
              <a:t> diharapkan gejala akan menghilang dalam beberapa hari</a:t>
            </a:r>
            <a:endParaRPr b="0" lang="en-US" sz="2600" spc="-1" strike="noStrike">
              <a:solidFill>
                <a:srgbClr val="000000"/>
              </a:solidFill>
              <a:latin typeface="Verdana"/>
            </a:endParaRPr>
          </a:p>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Pasien dengan  substance-induced mood disorders memperlihatkan gejala sebagai akibat langsung  fisiologis SUD. Gejala afektif muncul dalam 4 minggu dari paparan terakhir  dari zat, namun lebih bertahan dan lebih berat dibanding dengan gejala yg ditimbulkan oleh intoxication /withdraw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64"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Pasien dengan gangguan mood yang mendasari, mungkin mengalami gejala yang berbeda jenis dan intensitas selama intoksikasi/withdrawal. Adanya riwayat gangguan mood dalam keluarga dan gejala gangguan mood sebelum penggunaan zat memungkinkan diagnosa gangguan mood primer. Gejala gangguan mood terlihat lebih berat saat intoksikasi/withdrawal dan bertahan setelah melewati periode abstinens</a:t>
            </a:r>
            <a:endParaRPr b="0" lang="en-US" sz="2600" spc="-1" strike="noStrike">
              <a:solidFill>
                <a:srgbClr val="000000"/>
              </a:solidFill>
              <a:latin typeface="Verdana"/>
            </a:endParaRPr>
          </a:p>
          <a:p>
            <a:pPr marL="41112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545400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ff8d3e"/>
              </a:solidFill>
              <a:latin typeface="Verdana"/>
            </a:endParaRPr>
          </a:p>
        </p:txBody>
      </p:sp>
      <p:sp>
        <p:nvSpPr>
          <p:cNvPr id="230" name=""/>
          <p:cNvSpPr txBox="1"/>
          <p:nvPr/>
        </p:nvSpPr>
        <p:spPr>
          <a:xfrm>
            <a:off x="503280" y="529920"/>
            <a:ext cx="8183520" cy="5041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dividu2 dengan </a:t>
            </a:r>
            <a:r>
              <a:rPr b="0" i="1" lang="id-ID" sz="2800" spc="-1" strike="noStrike">
                <a:solidFill>
                  <a:srgbClr val="000000"/>
                </a:solidFill>
                <a:latin typeface="Verdana"/>
              </a:rPr>
              <a:t>major mood disorders</a:t>
            </a:r>
            <a:r>
              <a:rPr b="0" lang="id-ID" sz="2800" spc="-1" strike="noStrike">
                <a:solidFill>
                  <a:srgbClr val="000000"/>
                </a:solidFill>
                <a:latin typeface="Verdana"/>
              </a:rPr>
              <a:t>  memiliki risiko satu atau lebih komorbid yang menyertai gangguan di Aksis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Yang paling sering adalah</a:t>
            </a:r>
            <a:r>
              <a:rPr b="0" i="1" lang="id-ID" sz="2800" spc="-1" strike="noStrike">
                <a:solidFill>
                  <a:srgbClr val="000000"/>
                </a:solidFill>
                <a:latin typeface="Verdana"/>
              </a:rPr>
              <a:t> alcohol abuse or dependence, panic disorder, obsessive–compulsive disorder (OCD), and social anxiety disorder</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ebaliknya, individu dengan </a:t>
            </a:r>
            <a:r>
              <a:rPr b="0" i="1" lang="id-ID" sz="2800" spc="-1" strike="noStrike">
                <a:solidFill>
                  <a:srgbClr val="000000"/>
                </a:solidFill>
                <a:latin typeface="Verdana"/>
              </a:rPr>
              <a:t>substance use disorders and anxiety disorders</a:t>
            </a:r>
            <a:r>
              <a:rPr b="0" lang="id-ID" sz="2800" spc="-1" strike="noStrike">
                <a:solidFill>
                  <a:srgbClr val="000000"/>
                </a:solidFill>
                <a:latin typeface="Verdana"/>
              </a:rPr>
              <a:t> juga memiliki peningkatan risiko terjadinya komorbid gangguan m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Tatalaksan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Farmakoterap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sikoterapi</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	</a:t>
            </a:r>
            <a:r>
              <a:rPr b="0" lang="id-ID" sz="2800" spc="-1" strike="noStrike">
                <a:solidFill>
                  <a:srgbClr val="000000"/>
                </a:solidFill>
                <a:latin typeface="Verdana"/>
              </a:rPr>
              <a:t>- Suportif</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	</a:t>
            </a:r>
            <a:r>
              <a:rPr b="0" lang="id-ID" sz="2800" spc="-1" strike="noStrike">
                <a:solidFill>
                  <a:srgbClr val="000000"/>
                </a:solidFill>
                <a:latin typeface="Verdana"/>
              </a:rPr>
              <a:t>- CB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Penelitian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ipolar 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 61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panic disorder : 21 </a:t>
            </a:r>
            <a:r>
              <a:rPr b="0" lang="id-ID" sz="2800" spc="-1" strike="noStrike">
                <a:solidFill>
                  <a:srgbClr val="000000"/>
                </a:solidFill>
                <a:latin typeface="Verdana"/>
              </a:rPr>
              <a:t>%</a:t>
            </a:r>
            <a:r>
              <a:rPr b="0" i="1" lang="id-ID"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OCD : 21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Unipolar Major Depress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 27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panic disorder : 10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OCD : 12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and anxiety disorders</a:t>
            </a:r>
            <a:r>
              <a:rPr b="0" lang="id-ID" sz="2800" spc="-1" strike="noStrike">
                <a:solidFill>
                  <a:srgbClr val="000000"/>
                </a:solidFill>
                <a:latin typeface="Verdana"/>
              </a:rPr>
              <a:t> </a:t>
            </a:r>
            <a:r>
              <a:rPr b="0" lang="id-ID" sz="2800" spc="-1" strike="noStrike">
                <a:solidFill>
                  <a:srgbClr val="000000"/>
                </a:solidFill>
                <a:latin typeface="Calibri"/>
                <a:ea typeface="Calibri"/>
              </a:rPr>
              <a:t>→lebih banyak pada bipolar dibanding unipolar</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Calibri"/>
              </a:rPr>
              <a:t>	</a:t>
            </a:r>
            <a:r>
              <a:rPr b="0" lang="id-ID" sz="2800" spc="-1" strike="noStrike">
                <a:solidFill>
                  <a:srgbClr val="000000"/>
                </a:solidFill>
                <a:latin typeface="Calibri"/>
                <a:ea typeface="Calibri"/>
              </a:rPr>
              <a:t>	</a:t>
            </a:r>
            <a:r>
              <a:rPr b="0" lang="id-ID" sz="2800" spc="-1" strike="noStrike">
                <a:solidFill>
                  <a:srgbClr val="000000"/>
                </a:solidFill>
                <a:latin typeface="Calibri"/>
                <a:ea typeface="Calibri"/>
              </a:rPr>
              <a:t>tertinggi pada bipolar I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and anxiety</a:t>
            </a:r>
            <a:r>
              <a:rPr b="0" lang="id-ID" sz="2800" spc="-1" strike="noStrike">
                <a:solidFill>
                  <a:srgbClr val="000000"/>
                </a:solidFill>
                <a:latin typeface="Verdana"/>
              </a:rPr>
              <a:t> </a:t>
            </a:r>
            <a:r>
              <a:rPr b="0" i="1" lang="id-ID" sz="2800" spc="-1" strike="noStrike">
                <a:solidFill>
                  <a:srgbClr val="000000"/>
                </a:solidFill>
                <a:latin typeface="Verdana"/>
              </a:rPr>
              <a:t>disorders</a:t>
            </a:r>
            <a:r>
              <a:rPr b="0" lang="id-ID" sz="2800" spc="-1" strike="noStrike">
                <a:solidFill>
                  <a:srgbClr val="000000"/>
                </a:solidFill>
                <a:latin typeface="Verdana"/>
              </a:rPr>
              <a:t> memperburuk prognosis dan meningkatkan risiko bunuh dir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Risiko bunuh diri tertinggi pd bipolar I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Kriminalitas, terutama pada laki2  tertinggi pada bipol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ff8d3e"/>
              </a:solidFill>
              <a:latin typeface="Verdana"/>
            </a:endParaRPr>
          </a:p>
        </p:txBody>
      </p:sp>
      <p:sp>
        <p:nvSpPr>
          <p:cNvPr id="238" name=""/>
          <p:cNvSpPr txBox="1"/>
          <p:nvPr/>
        </p:nvSpPr>
        <p:spPr>
          <a:xfrm>
            <a:off x="285840" y="1000080"/>
            <a:ext cx="8229600" cy="5454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 contrast to suicidal behavior which is typically seen during major depression violence is strongly related to manic episode in bipolar I patie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dividuals with substance use disorders and anxiety disorders also have an elevated risk of lifetime or current comorbid mood disorder. In both unipolar and bipolar disorder, men more frequently present with substance use disorder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women more frequently present with comorbid anxiety and eating disorder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Bipolar I Disorder</a:t>
            </a:r>
            <a:endParaRPr b="1" lang="en-US" sz="3600" spc="-1" strike="noStrike">
              <a:solidFill>
                <a:srgbClr val="ff8d3e"/>
              </a:solidFill>
              <a:latin typeface="Verdana"/>
            </a:endParaRPr>
          </a:p>
        </p:txBody>
      </p:sp>
      <p:sp>
        <p:nvSpPr>
          <p:cNvPr id="242" name=""/>
          <p:cNvSpPr txBox="1"/>
          <p:nvPr/>
        </p:nvSpPr>
        <p:spPr>
          <a:xfrm>
            <a:off x="457200" y="1285560"/>
            <a:ext cx="8229600" cy="48402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Anxiety disorder (panic attacks, social anxiety disorder, specific phobi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ccurring in approximately three-fourths of individuals; ADHD, any disruptive, impulse</a:t>
            </a:r>
            <a:r>
              <a:rPr b="0" lang="id-ID" sz="2600" spc="-1" strike="noStrike">
                <a:solidFill>
                  <a:srgbClr val="000000"/>
                </a:solidFill>
                <a:latin typeface="Verdana"/>
              </a:rPr>
              <a:t>-control</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conduct disorder (e.g., intermittent explosive disorder, oppositional defiant disorder, conduct disorder)</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bstance use disorder (e.g., alcohol use disorder)</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	</a:t>
            </a:r>
            <a:r>
              <a:rPr b="0" lang="en-US" sz="2600" spc="-1" strike="noStrike">
                <a:solidFill>
                  <a:srgbClr val="000000"/>
                </a:solidFill>
                <a:latin typeface="Verdana"/>
              </a:rPr>
              <a:t>occur in over half of individuals with bipolar I disorder</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Bipolar II</a:t>
            </a:r>
            <a:endParaRPr b="1" lang="en-US" sz="3600" spc="-1" strike="noStrike">
              <a:solidFill>
                <a:srgbClr val="ff8d3e"/>
              </a:solidFill>
              <a:latin typeface="Verdana"/>
            </a:endParaRPr>
          </a:p>
        </p:txBody>
      </p:sp>
      <p:sp>
        <p:nvSpPr>
          <p:cNvPr id="244" name=""/>
          <p:cNvSpPr txBox="1"/>
          <p:nvPr/>
        </p:nvSpPr>
        <p:spPr>
          <a:xfrm>
            <a:off x="457200" y="1071720"/>
            <a:ext cx="8229600" cy="505440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60% of individuals </a:t>
            </a:r>
            <a:r>
              <a:rPr b="0" lang="en-US" sz="2800" spc="-1" strike="noStrike">
                <a:solidFill>
                  <a:srgbClr val="000000"/>
                </a:solidFill>
                <a:latin typeface="Verdana"/>
              </a:rPr>
              <a:t>with bipolar II disorder have three or more co-occurring mental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75%  anxiety disorder</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7%  substance use disorder</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Children and adolescents </a:t>
            </a:r>
            <a:r>
              <a:rPr b="0" lang="en-US" sz="2800" spc="-1" strike="noStrike">
                <a:solidFill>
                  <a:srgbClr val="000000"/>
                </a:solidFill>
                <a:latin typeface="Verdana"/>
              </a:rPr>
              <a:t>with bipolar II disorder have a higher rate of co-occurring anxiety disorders compared</a:t>
            </a:r>
            <a:r>
              <a:rPr b="0" lang="id-ID" sz="2800" spc="-1" strike="noStrike">
                <a:solidFill>
                  <a:srgbClr val="000000"/>
                </a:solidFill>
                <a:latin typeface="Verdana"/>
              </a:rPr>
              <a:t> </a:t>
            </a:r>
            <a:r>
              <a:rPr b="0" lang="en-US" sz="2800" spc="-1" strike="noStrike">
                <a:solidFill>
                  <a:srgbClr val="000000"/>
                </a:solidFill>
                <a:latin typeface="Verdana"/>
              </a:rPr>
              <a:t>with those with bipolar I disorder, and the anxiety disorder most often predates the bipolar</a:t>
            </a:r>
            <a:r>
              <a:rPr b="0" lang="id-ID" sz="2800" spc="-1" strike="noStrike">
                <a:solidFill>
                  <a:srgbClr val="000000"/>
                </a:solidFill>
                <a:latin typeface="Verdana"/>
              </a:rPr>
              <a:t>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7:40:19Z</dcterms:created>
  <dc:creator>ASUS</dc:creator>
  <dc:description/>
  <dc:language>en-US</dc:language>
  <cp:lastModifiedBy>ASUS</cp:lastModifiedBy>
  <dcterms:modified xsi:type="dcterms:W3CDTF">2013-11-26T07:53:18Z</dcterms:modified>
  <cp:revision>22</cp:revision>
  <dc:subject/>
  <dc:title>NEUROPSIKIATRI KOMORBID</dc:title>
</cp:coreProperties>
</file>