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CA12-DCB6-4A8A-A751-1AF7AF4F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0E8E-B695-4187-BB29-209EDC82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5B1-8F10-446A-BDF7-DF1FA1CF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6A2-D682-4327-A174-5F706C71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F684-859A-4452-BC2A-B1E073D2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C1AB-AE65-40D7-8CD3-3E1D0F62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35E-FA2F-48D8-B290-6D6A3D70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45F-5866-48CC-9E29-9E16BE9C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71D-582A-44CC-8A7C-4C7DF876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6A7-5972-4158-8090-69D5E82C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55E6-A38D-4AFF-BB59-1EFA5239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6EE-367D-4CCE-A363-D5D74FED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8431-510E-4B73-B312-F9F71EEE3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ITATION MANAGEMENT STRATE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Y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Pharmacologic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ed l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5991120" y="6172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bia Bilici, et al,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VEN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Pharmacologic Management and Restraint Reduction Strate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rmacologic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n-Pharmacologic Management and Restraint Reduction Strateg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e to increased regulations related to restraint us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Joint Commission,2012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various strategies to manage agitation and reduce restraint 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traints can be associated wit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ju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tient righ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tient dig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atal medical complication such as deep vein thrombosi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De Hert, et al, 20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Strategies to Improve Patient Viol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apeutic communication with the pati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 concise when addressing an agitated pati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etition is essential whenever setting limits, offering choices or proposing alternativ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Fishkind, 200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 asking “why” questions ( “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why did you throw that glass?”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ak with “I” statements rather than “You” statements (“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I would be happy to assist you in eating your lunch, as long as you do not throw the food at me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stead of: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“You must not throw food”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ur-step Approach in Treating Aggressive Pati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Re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lation and Restra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rmacological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601992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bia Bilici, et al,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Environmental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sure the safety of other patients and work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fort the pati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ove patient’s relativ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duce waiting peri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move external stimulations around the pati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vide a quite ro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y the patient on b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vide a glass of water or ju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5991120" y="6172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bia Bilici, et al,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Environmental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stay alone in an unsafe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all potentially objects from the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safety distance with the agitated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ning: direct gaze, placing hands behin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y be perceived as th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 any changes in mood, speech and psychomotor activity of the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5991120" y="6172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bia Bilici, et al,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Cal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rst method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verbal calm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ress the patient in  a calm, controlled, non-provocative manner with a reassuring vo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ample of phrases that can be us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I understand that you feel not well and experienced difficult time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You are suffering and you seem to be confused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You are here to receive help and we are trying to help you and solve your problem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lease let us help and don’t be afraid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5991120" y="6172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bia Bilici, et al,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Isolation and Restra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last ch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use for punishment or comfort for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ways shield the rights, dignity and confidentiality of the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be applied by adequate and trained personn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5991120" y="6172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bia Bilici, et al,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02:45:12Z</dcterms:created>
  <dc:creator>ACER</dc:creator>
  <dc:description/>
  <dc:language>en-US</dc:language>
  <cp:lastModifiedBy>ACER</cp:lastModifiedBy>
  <dcterms:modified xsi:type="dcterms:W3CDTF">2013-10-25T03:51:57Z</dcterms:modified>
  <cp:revision>7</cp:revision>
  <dc:subject/>
  <dc:title>PowerPoint Presentation</dc:title>
</cp:coreProperties>
</file>