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ACE-6B35-45A0-BCD6-A58F959F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D2E-A697-44AB-80CE-76A3DA5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FB9-C08F-40BF-8AA6-00A0654D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03C-81AE-4EA2-B939-E96550C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D75-70B9-4E33-8FF8-35B859CA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68F-083F-4EA5-9A1D-A0B8076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532-1731-40D8-95A5-3082516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EC3-1C6D-48C3-A63D-BF733315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FC6-7AD5-4ADF-BF50-25CEF9A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B0F-7094-43D3-A83E-67AC094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3DE-0470-48F6-87AF-287E0F1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106-7A35-4019-B099-72F27ADD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3FA2-4FBA-4EAB-B4B2-E55DF314F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ITATION MANAGEMENT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Y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Pharmacologic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ed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Pharmacologic Management and Restraint Reduc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olog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harmacologic Management and Restraint Reductio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increased regulations related to restraint 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Joint Commission,2012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arious strategies to manage agitation and reduce restraint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traints can be associated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 dig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tal medical complication such as deep vein thrombo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 Hert, et al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Strategies to Improve Patient Viol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apeutic communication with the pat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cise when addressing an agitated pat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etition is essential whenever setting limits, offering choices or proposing alternativ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ishkind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asking “why” questions ( 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hy did you throw that glass?”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ak with “I” statements rather than “You” statements (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 would be happy to assist you in eating your lunch, as long as you do not throw the food at me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stead of: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You must not throw food”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-step Approach in Treating Aggressive Pati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and Restra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olog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0199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Environment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the safety of other patients and work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fort the pat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patient’s rela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uce waiting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xternal stimulations around the pat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quite ro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 the patient on b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glass of water or ju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Environment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stay alone in an unsaf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ll potentially objects from th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afety distance with the agitated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ning: direct gaze, placing hands behi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y be perceived as 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 any changes in mood, speech and psychomotor activity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Cal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metho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erbal calm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the patient in  a calm, controlled, non-provocative manner with a reassuring vo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mple of phrases that can be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 understand that you feel not well and experienced difficult time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ou are suffering and you seem to be confuse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ou are here to receive help and we are trying to help you and solve your problem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lease let us help and don’t be afrai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Isolation and Re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last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use for punishment or comfort for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shield the rights, dignity and confidentiality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applied by adequate and trained personn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2:45:12Z</dcterms:created>
  <dc:creator>ACER</dc:creator>
  <dc:description/>
  <dc:language>en-US</dc:language>
  <cp:lastModifiedBy>ACER</cp:lastModifiedBy>
  <dcterms:modified xsi:type="dcterms:W3CDTF">2013-10-25T03:51:57Z</dcterms:modified>
  <cp:revision>7</cp:revision>
  <dc:subject/>
  <dc:title>PowerPoint Presentation</dc:title>
</cp:coreProperties>
</file>