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E03-5EB1-44C8-8807-E0675FC8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2FC-1AC1-4154-8D66-E59BF9C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441-BBC5-40AF-A253-03B94728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A48-DEA9-45EA-9F30-625054F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DD9E-7AC7-44CC-87B7-1F5BF39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489-B33D-4F75-B72D-7101E935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3F53-B390-4C18-937E-D5BCD19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2297-E85B-44DD-B9D3-CD20046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151-B755-46D8-B9CD-C673338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24BE-213D-4816-B80C-5567928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C769-DEF1-4EBB-B383-1BC165D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E80-57EB-4B57-A752-5611F27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066-5C0C-4A29-A7A7-0754233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3F5-A50D-4205-9F37-4DC349F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F911-DD8E-4B7F-8A50-44403DD3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B027-5415-4481-9DA0-CA4B662C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4D8-F35E-4A6D-8482-D9E247B2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7C46-C772-4FB3-848A-F77BFCA6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2BAD-0CB5-4390-9096-A367BA4F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0813-DFBE-4735-B50E-98E3CADD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B00C-BE06-487B-BF47-275FED55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BFF8-7A37-4E51-B813-0861A9C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553-5248-4A07-822E-6D6BAA9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4AF0-E982-4CB3-8FA3-E79D8193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3E70-EA0A-4A29-98C9-B5D20EB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FF00-9307-4CDD-8E18-91E22AE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370B-B3ED-4D49-94AD-F383679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2065-4568-42A2-8A9D-B69DBB4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B271-3CE9-4C54-8B9C-E949CC47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566A-D885-40E2-9F99-DA39C917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0CE2-CD1E-44E7-993D-7F9004CF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8B62-F099-4B75-A732-6BF4BFB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3022-C02E-4D9C-907C-C4E1CEA1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82D-B7D5-436A-B671-C1CDAB7F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BD45-D4F9-4D81-BF39-17A5B489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AE42-EE99-438F-AFF3-D132150D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6046-6D0C-4347-9B8A-5B91839F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F7AD-9C1C-4DB8-841F-F02C333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535D-7AA3-4964-A310-1759634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03F6-3487-43F7-A4DC-F7D1F6F4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A92C-BFBD-4A7E-BBFE-13B25A2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26DF-EF8F-4D69-AA47-4141EEF6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ACA9-466C-4031-9160-47718FB4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2D38-CAD3-42B7-8E38-1EBA25B1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510-156D-47FE-B329-C9D87A67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4B3E-8DF8-42E6-908E-EE636582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8F47-AEBC-42E3-B907-D1B61F2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E1DA-C084-4C36-858C-9BBDD5D7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70CF-1902-49B9-A89B-CB6A2A39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281E-6C89-4D58-8DA9-2B56829D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EA5F-CBC8-490A-BEEE-D4EAE631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7ABA-2C3D-4025-8A0B-4BF8FDF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EA31-5961-4ED8-A883-F912125E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1373-811C-4C3E-8530-F5F0959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4E11-A235-49AA-8FCC-78C8B395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BFF-3B17-4055-982D-8BA834E9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4031E-7E03-4D7D-9E4D-50363CCC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8FB-56C4-4870-A9FF-213B44D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B11-9418-46DE-A9D8-C852EC9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FC1-4729-4712-A59C-F28D2264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88C5-EF11-4500-8651-91E47B9B3D07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DDAF-0B39-4973-96B2-85693CA1EC4C}" type="slidenum">
              <a:rPr b="0" lang="id-ID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664-0231-4F6B-B075-A05D37736E90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0C61-D054-4F21-96FD-7F1E0A1ABF70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eeece1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100" spc="-1" strike="noStrike">
                <a:solidFill>
                  <a:srgbClr val="eeece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EDD-7E7D-4F11-A07A-6349264F009E}" type="slidenum">
              <a:rPr b="0" lang="id-ID" sz="1100" spc="-1" strike="noStrike">
                <a:solidFill>
                  <a:srgbClr val="eeece1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94080" y="3638520"/>
            <a:ext cx="67658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643120" y="928800"/>
            <a:ext cx="61437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ffffff"/>
                </a:solidFill>
                <a:latin typeface="Trebuchet MS"/>
              </a:rPr>
              <a:t>GESTALT THERAPY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ffffff"/>
                </a:solidFill>
                <a:latin typeface="Trebuchet MS"/>
              </a:rPr>
              <a:t>-lanjutan-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60112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28400" y="1653840"/>
            <a:ext cx="82580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urnal profesional gestalt tidak menempatkan penilaian yg tegas ttg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n hubungan multikultural sebagai fokus utam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oyce dan Sills : mendiskusikan langsung tentang keberagaman budaya pada  penerapan gestal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ada judul jurnal ilmiah adalah penting dan perlu untuk menyebutkan dan menekankan tentang keberagaman budaya, proses yang akan datang,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906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estalt lebih sesuai untuk wanita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fokuskan pada emosi ; mkn lebih mudah dilakukan oleh wanita, lebih tertarik dan nyam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Journal yg ada hanya sedikit memfokuskan pada satu gend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lum ada usaha yang jelas dan sistematis oleh komunitas profesi pengguna gestalt untuk lebih menekankan kebutuhan dan pertimbangan penggunaan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57736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Fritz dan Lura Perls : berargumen bahwa outcome dari Gestalt tidak dapat diukur secara ilmiah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rls menentang penelitian pada keluar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(outcome)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ri terapi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ntuk menentukan keefektifan dari pendekatan terapi, lebih terfokus pada individu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e present nothing that you cannot verify for yourself in terms of your own behavior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9377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.L Smith dkk  th 1980– metaanalisis dari 475 penelitian ; penelitian empiris yg terstandarisasi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reenberg dkk  th 1994:Pendekatan gestalt lebih efektif dibandingkan dengan plasebo, tp kurang efektif dibandingkan CB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ldrup dkk : efektif pada klien yg pendiam dan internalisa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lliot dkk th 2002: bias pada CBT yang menyebabkan hasil tsb di ata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ori dan terapi gestalt merupakan pendekatan eksperimental yang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powerful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ada konseling dan psikoterapi yang dikembangkan oleh Fritz dan Laura Perl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ori gestalt merupakan gabungan atau campuran dari berbagai sudut pandang teoriti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 membuat relasi “saya dan anda” terhadap klien,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“here and now session” ,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n men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nyakan klien “what and how”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ntang pengalaman-pengalaman “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moment to moment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Inti gestalt : relasi dengan orang lain dan pengalaman hidu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Ada juga orang yang resisten atau gangguan pada pola hubung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Introy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Proy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Retrofleks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Defleks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Confluen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Pada budaya tertentu, eksperimen pada gestalt bisa membuat kurang nyaman thd seseorang ataupun kelompok, terutama budaya yang tidak mengekspresikan emosi secara langsung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Lebih disukai oleh wanita karena mudah mengekspresikan emos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Meskipun gestalt dikatakan efektif tapi masih minim peneliti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Terapi yang berfokus pada emosi, pendekatan yang menggabungkan </a:t>
            </a:r>
            <a:r>
              <a:rPr b="0" i="1" lang="id-ID" sz="2400" spc="-1" strike="noStrike">
                <a:solidFill>
                  <a:srgbClr val="ffffff"/>
                </a:solidFill>
                <a:latin typeface="Trebuchet MS"/>
              </a:rPr>
              <a:t>person centered therapy</a:t>
            </a: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 dengan dialog </a:t>
            </a:r>
            <a:r>
              <a:rPr b="0" i="1" lang="id-ID" sz="2400" spc="-1" strike="noStrike">
                <a:solidFill>
                  <a:srgbClr val="ffffff"/>
                </a:solidFill>
                <a:latin typeface="Trebuchet MS"/>
              </a:rPr>
              <a:t>empty chair </a:t>
            </a:r>
            <a:r>
              <a:rPr b="0" lang="id-ID" sz="2400" spc="-1" strike="noStrike">
                <a:solidFill>
                  <a:srgbClr val="ffffff"/>
                </a:solidFill>
                <a:latin typeface="Trebuchet MS"/>
              </a:rPr>
              <a:t>secara empiris merupakan terapi yang menjanjik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nerapan gestalt sangat mengaktivasi emosi pasien oleh karena itu terapis harus melakukan secara kolaboratif dan mengikuti pedoman psikoterapi dan konseling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nfinished busi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masa lalu pasien; dibawa ke masa kin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mencarikan bagaimana mempertahankan relasi yang nyata, memfasilitasi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klien , ikut serta dalam eksperimen Gestalt klie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atson dkk “Case studies in emotion-focused  treatment of depression : a comparison of good and poor outcome”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eskripsi rinci tentang 6 kasus terapi standa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3 kasus dg hasil positif, 3 kasus dg hasil netral atau negatif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njelaskan dengan baik rangkaian tugas terapeutik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nulis menggunakan sebuah pengukuran psikologis yang terstandarisasi untuk melakukan penanganan dan memantau keluar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(outcome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Kasus dg positif outcome: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Gale, wanita 37 tahun, menikah dengan dua anak, diagnosis depresi mayor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FT sbg pendekatan utama berbasis diri (person centered), dg menggunakan tehnik Gestalt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empty chair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utk memfokuskan emo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buat Daftar Masalah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tresor diidentifika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kasus Gay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etidakmampuan merawat ana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onflik dengan keluarga (org tua,saudara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kurangnya dukung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2. Perumusan Masalah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berapa tahapan spesifi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Bonding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dan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awarenes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Membangkitkan dan mengeksplorasi perasa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eeece1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erubaha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Pd kasus Gayle, sesi awal sgt emosional, pada sesi ke-3 baru terbentuk ikatan dr-psn dan mampu lebih fokus utk berkolaborasi sehingga bs lanjut ke tahap berikut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3. Intervens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esi ke-3, terapis memperkenalkan tehnik empty chai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Setelah sebelumnya mendiskusikan tentang gambaran tehnik yang akan dipakai, kemudian dilaksanakan sesi intervensi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erapis berfungsi sebagai fasilitator dan suporter selama proses dialog ‘empty chair’</a:t>
            </a:r>
            <a:r>
              <a:rPr b="0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→ mengekspresikan empati, memprakarsai dialog berulang </a:t>
            </a:r>
            <a:r>
              <a:rPr b="0" i="1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empty chai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Calibri"/>
                <a:ea typeface="Calibri"/>
              </a:rPr>
              <a:t>Dialog membantu pasien untuk memfokuskan pada emosi dan membuat pencerahan pada pasien untuk mengetahui darimana asalnya perasaannya, dan bagaimana cara pasien menyikapi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4. Mengukur Hasi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Berdasarkan masalahn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Untuk Gayle dg depresi : BDI Beck Depression Invento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861840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Wheeler th 2006 : pendekatan gestalt dapat disesuaikan dengan berbagai macam buday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Eksperimen Gestalt secara umum dan tehnik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empty chair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pat digunakan  pada bermacam budaya untuk memperdalam </a:t>
            </a:r>
            <a:r>
              <a:rPr b="0" i="1" lang="id-ID" sz="2600" spc="-1" strike="noStrike">
                <a:solidFill>
                  <a:srgbClr val="ffffff"/>
                </a:solidFill>
                <a:latin typeface="Trebuchet MS"/>
              </a:rPr>
              <a:t>self awareness </a:t>
            </a: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dan kehidupan di situasi budaya tertentu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eeece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Tantangan :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rebuchet MS"/>
              </a:rPr>
              <a:t>- Ada yg enggan untuk mengikuti model terapi yg memfokuskan pd emosi dan terapi eksperimenta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7:49:49Z</dcterms:created>
  <dc:creator>ASUS</dc:creator>
  <dc:description/>
  <dc:language>en-US</dc:language>
  <cp:lastModifiedBy>ASUS</cp:lastModifiedBy>
  <dcterms:modified xsi:type="dcterms:W3CDTF">2014-09-30T07:51:59Z</dcterms:modified>
  <cp:revision>5</cp:revision>
  <dc:subject/>
  <dc:title>Presentan : Meiliana lindawaty Narasumber : dr. AAAA Kusumawardhani Sp.KJ(K) </dc:title>
</cp:coreProperties>
</file>