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6F7-661F-423F-9405-D412C566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BC8-6BA9-4CAA-A48D-D2F8FF40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CCF6-01F1-4435-9EE8-E3041ECA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39D-719A-41FF-A8CA-FEBDB42E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17BE-DBA5-4E06-8942-A6055BC9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65AA-2C6B-4BD1-8B97-A0EBD17E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CAEE-C4CC-4F16-9CBD-A5E5C6C0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B9B2-DF83-4393-B5D4-34D116D8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648B-9D8E-47E3-A212-74EDFFE2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8E66-A369-4621-8AE7-1474BC9D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B916-9308-4EB7-A53C-6A17033C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4D3-B59C-4D63-AEAE-1947297B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DE85-72E4-43E1-B98D-B9201600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1C19-51B8-453E-8054-896DF9F3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6136-D23E-4584-B892-738B971E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200C-CD40-4088-A8B1-F3A441E8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F724-C77C-43FD-A6B7-4AAF8C71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032DE-50C0-4CB0-9DFB-B5DF4552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2C69-4609-4143-8DB0-8D9FF448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A2E1D-614F-48F9-B915-70D0305B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960AA-E49F-4DD9-B298-78CC2B8C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F5314-E136-4EB1-A73E-7B6F985F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3E83-B1AA-433D-A09F-43CC3C2C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EACD8-482D-4CC8-8422-53C381A6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88938-B336-49AF-871D-98B14D3A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28F33-5D41-4CB7-AFB9-DEA55CBB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8760D-BD3F-4DDE-8427-0F18B19A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D95AD-18C7-41E8-BC92-91C6B12B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54231-CD43-416A-8D9B-3689D7E2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31BFA-23EF-401A-B937-91029A38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0BBB5-3947-402B-88EC-FF4C248C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4E715-B282-46CD-A8F2-17810F96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E1F8B-F42F-425E-99EB-643C9CA9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6E9E-53E4-4343-B225-8E822E23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B90C0-CDA0-453C-BF1D-BE8CCF64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A6FA9-18E5-42D4-AD62-F953259C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057D6-EDC1-402D-88C2-53330479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41086-1EF4-4AA7-B81F-686B4312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343FB-4B46-4B92-ADF7-39253870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20810-4CD7-4ACB-850B-E55586D0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240BF-915F-4836-BC74-C0EA170D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B7180-D0C1-4FD3-953E-1D3DBE25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43CBD-FEA2-425A-AD6B-E4F28E16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DCDEC-489B-4CF5-A451-9CD3AB29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497-9D2C-4531-ADD1-EC492CD1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3FEF8-BF57-4F78-B0C6-73AA2206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371CB-9790-4517-8A12-C18DE115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01250-1BF5-47A7-AD7A-9ED2B58C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8F030-10D8-440D-945D-4C736D43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894B8-2902-4358-B7E3-857C606D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A88D5-AC25-40AC-8A8C-C6B5FA36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F04D6-72DC-4377-9C6D-27082254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D0BE9-6475-45DD-81B0-91F99EF6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623EE-2C22-4D2E-BB5F-9A11996B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98CCC-C099-40B1-99CA-B8FC63E2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D78-AB3B-46B4-A6E7-741388CC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71A8C-2276-408D-8AAB-991FE9ED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7C8-174F-458A-A567-F72A1426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D3C-9A3D-4151-BE24-E31BF4F0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1EE-7894-44D5-B99A-9BC0325E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eeece1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3429-FDD0-4467-AB62-244C2F09FBEE}" type="slidenum">
              <a:rPr b="0" lang="id-ID" sz="11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DA4B-B4AC-4FD5-8F64-B7370F59F452}" type="slidenum">
              <a:rPr b="0" lang="id-ID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eeece1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3D7F-05A4-49C0-BCAB-377E97901C69}" type="slidenum">
              <a:rPr b="0" lang="id-ID" sz="11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eeece1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28A1-D8C1-43C5-AC5E-23613BAB34C0}" type="slidenum">
              <a:rPr b="0" lang="id-ID" sz="11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eeece1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6900-51E2-4947-B3D9-37834BFD2564}" type="slidenum">
              <a:rPr b="0" lang="id-ID" sz="11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494080" y="3638520"/>
            <a:ext cx="67658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643120" y="928800"/>
            <a:ext cx="61437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400" spc="-1" strike="noStrike">
                <a:solidFill>
                  <a:srgbClr val="ffffff"/>
                </a:solidFill>
                <a:latin typeface="Trebuchet MS"/>
              </a:rPr>
              <a:t>GESTALT THERAPY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400" spc="-1" strike="noStrike">
                <a:solidFill>
                  <a:srgbClr val="ffffff"/>
                </a:solidFill>
                <a:latin typeface="Trebuchet MS"/>
              </a:rPr>
              <a:t>-lanjutan-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860112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28400" y="1653840"/>
            <a:ext cx="82580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Jurnal profesional gestalt tidak menempatkan penilaian yg tegas ttg 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awareness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 dan hubungan multikultural sebagai fokus utam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Joyce dan Sills : mendiskusikan langsung tentang keberagaman budaya pada  penerapan gestal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Pada judul jurnal ilmiah adalah penting dan perlu untuk menyebutkan dan menekankan tentang keberagaman budaya, proses yang akan datang,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8906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Gestalt lebih sesuai untuk wanita?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Memfokuskan pada emosi ; mkn lebih mudah dilakukan oleh wanita, lebih tertarik dan nyaman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Journal yg ada hanya sedikit memfokuskan pada satu gende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Belum ada usaha yang jelas dan sistematis oleh komunitas profesi pengguna gestalt untuk lebih menekankan kebutuhan dan pertimbangan penggunaanny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57736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Fritz dan Lura Perls : berargumen bahwa outcome dari Gestalt tidak dapat diukur secara ilmiah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Perls menentang penelitian pada keluaran 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(outcome)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 dari terapi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Untuk menentukan keefektifan dari pendekatan terapi, lebih terfokus pada individuny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We present nothing that you cannot verify for yourself in terms of your own behavior”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93772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M.L Smith dkk  th 1980– metaanalisis dari 475 penelitian ; penelitian empiris yg terstandarisasi.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Greenberg dkk  th 1994:Pendekatan gestalt lebih efektif dibandingkan dengan plasebo, tp kurang efektif dibandingkan CB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Daldrup dkk : efektif pada klien yg pendiam dan internalisas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Elliot dkk th 2002: bias pada CBT yang menyebabkan hasil tsb di ata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Teori dan terapi gestalt merupakan pendekatan eksperimental yang 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powerful 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pada konseling dan psikoterapi yang dikembangkan oleh Fritz dan Laura Perl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Teori gestalt merupakan gabungan atau campuran dari berbagai sudut pandang teoriti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Terapis  membuat relasi “saya dan anda” terhadap klien, 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“here and now session” , 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dan men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anyakan klien “what and how” 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tentang pengalaman-pengalaman “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moment to moment”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Inti gestalt : relasi dengan orang lain dan pengalaman hidup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Ada juga orang yang resisten atau gangguan pada pola hubunga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Introyeksi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Proyeksi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Retrofleks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Defleksi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Confluenc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Pada budaya tertentu, eksperimen pada gestalt bisa membuat kurang nyaman thd seseorang ataupun kelompok, terutama budaya yang tidak mengekspresikan emosi secara langsung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Lebih disukai oleh wanita karena mudah mengekspresikan emos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Meskipun gestalt dikatakan efektif tapi masih minim penelitia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Terapi yang berfokus pada emosi, pendekatan yang menggabungkan </a:t>
            </a:r>
            <a:r>
              <a:rPr b="0" i="1" lang="id-ID" sz="2400" spc="-1" strike="noStrike">
                <a:solidFill>
                  <a:srgbClr val="ffffff"/>
                </a:solidFill>
                <a:latin typeface="Trebuchet MS"/>
              </a:rPr>
              <a:t>person centered therapy</a:t>
            </a: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 dengan dialog </a:t>
            </a:r>
            <a:r>
              <a:rPr b="0" i="1" lang="id-ID" sz="2400" spc="-1" strike="noStrike">
                <a:solidFill>
                  <a:srgbClr val="ffffff"/>
                </a:solidFill>
                <a:latin typeface="Trebuchet MS"/>
              </a:rPr>
              <a:t>empty chair </a:t>
            </a: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secara empiris merupakan terapi yang menjanjika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Penerapan gestalt sangat mengaktivasi emosi pasien oleh karena itu terapis harus melakukan secara kolaboratif dan mengikuti pedoman psikoterapi dan konseling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U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nfinished business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 masa lalu pasien; dibawa ke masa kin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Terapis mencarikan bagaimana mempertahankan relasi yang nyata, memfasilitasi 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awareness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 klien , ikut serta dalam eksperimen Gestalt klien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Watson dkk “Case studies in emotion-focused  treatment of depression : a comparison of good and poor outcome”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Deskripsi rinci tentang 6 kasus terapi standa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3 kasus dg hasil positif, 3 kasus dg hasil netral atau negatif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Menjelaskan dengan baik rangkaian tugas terapeutikny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Penulis menggunakan sebuah pengukuran psikologis yang terstandarisasi untuk melakukan penanganan dan memantau keluaran 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(outcome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Kasus dg positif outcome: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Gale, wanita 37 tahun, menikah dengan dua anak, diagnosis depresi mayor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EFT sbg pendekatan utama berbasis diri (person centered), dg menggunakan tehnik Gestalt 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empty chair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 utk memfokuskan emos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Membuat Daftar Masalah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stresor diidentifikas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kasus Gayl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- ketidakmampuan merawat anak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- konflik dengan keluarga (org tua,saudara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- kurangnya dukungan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2. Perumusan Masalah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Beberapa tahapan spesifik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Bonding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 dan 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awarenes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Membangkitkan dan mengeksplorasi perasaan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Perubahan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Pd kasus Gayle, sesi awal sgt emosional, pada sesi ke-3 baru terbentuk ikatan dr-psn dan mampu lebih fokus utk berkolaborasi sehingga bs lanjut ke tahap berikutny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3. Intervens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Sesi ke-3, terapis memperkenalkan tehnik empty chai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Setelah sebelumnya mendiskusikan tentang gambaran tehnik yang akan dipakai, kemudian dilaksanakan sesi intervensi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Terapis berfungsi sebagai fasilitator dan suporter selama proses dialog ‘empty chair’</a:t>
            </a:r>
            <a:r>
              <a:rPr b="0" lang="id-ID" sz="2600" spc="-1" strike="noStrike">
                <a:solidFill>
                  <a:srgbClr val="ffffff"/>
                </a:solidFill>
                <a:latin typeface="Calibri"/>
                <a:ea typeface="Calibri"/>
              </a:rPr>
              <a:t>→ mengekspresikan empati, memprakarsai dialog berulang </a:t>
            </a:r>
            <a:r>
              <a:rPr b="0" i="1" lang="id-ID" sz="2600" spc="-1" strike="noStrike">
                <a:solidFill>
                  <a:srgbClr val="ffffff"/>
                </a:solidFill>
                <a:latin typeface="Calibri"/>
                <a:ea typeface="Calibri"/>
              </a:rPr>
              <a:t>empty chai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alibri"/>
                <a:ea typeface="Calibri"/>
              </a:rPr>
              <a:t>Dialog membantu pasien untuk memfokuskan pada emosi dan membuat pencerahan pada pasien untuk mengetahui darimana asalnya perasaannya, dan bagaimana cara pasien menyikapiny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4. Mengukur Hasi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Berdasarkan masalahny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Untuk Gayle dg depresi : BDI Beck Depression Inventory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861840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Wheeler th 2006 : pendekatan gestalt dapat disesuaikan dengan berbagai macam buday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Eksperimen Gestalt secara umum dan tehnik 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empty chair 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dapat digunakan  pada bermacam budaya untuk memperdalam 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self awareness 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dan kehidupan di situasi budaya tertentu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Tantangan :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- Ada yg enggan untuk mengikuti model terapi yg memfokuskan pd emosi dan terapi eksperimenta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9T17:49:49Z</dcterms:created>
  <dc:creator>ASUS</dc:creator>
  <dc:description/>
  <dc:language>en-US</dc:language>
  <cp:lastModifiedBy>ASUS</cp:lastModifiedBy>
  <dcterms:modified xsi:type="dcterms:W3CDTF">2014-09-30T07:51:59Z</dcterms:modified>
  <cp:revision>5</cp:revision>
  <dc:subject/>
  <dc:title>Presentan : Meiliana lindawaty Narasumber : dr. AAAA Kusumawardhani Sp.KJ(K) </dc:title>
</cp:coreProperties>
</file>