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443-E7E3-4339-B75B-AFD35A6D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9A7-F1E5-4E28-B799-B7DB7631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F50-077E-4CD9-9852-EFB4E464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2E6-5165-47EA-B3D5-04F97AD0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B652-2555-4377-9352-5DFD6ADF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99C8-9C70-4590-B2E5-711465C8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4F64-ABE7-45C8-8D60-3F4B7D78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ABDC-849A-4914-BC59-258C7826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4DD5-3F93-40EE-AAD2-79040086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1CCD-B0FC-4CC8-BD8C-0CE16AD3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EB30-4197-4B3B-9B03-5128BBAA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28E-BD15-4A6A-AC47-9F06D6E4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5CBB-F381-4FDD-9019-6CE0F677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9F43-551A-47A6-B429-329F9A23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8951-9C0B-4AAA-81A8-F24722A7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FDF4-FB0B-4479-9990-8B3DDC22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E44F-55B0-4560-B5F7-F547AE2C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120EC-F894-42EF-A1A8-73B892C0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CE13D-DD77-4AEB-ADA3-40557F5F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BEB12-60A3-462A-8B71-95CAA9CA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FA6BC-C94F-4179-A1AD-8EE1CBF4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48C34-D3A5-4252-BC3A-C0434BEC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E79-E5B2-42AA-91DE-ADB3EC0C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21889-C311-44A0-B086-C8CBCBFB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8D7EB-E029-49FA-85D2-AB7A4426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34E4E-FB55-4957-94A1-71E1FC6E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A5DFE-B626-4EAC-8BF7-CE429538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21B78-7D96-4099-9E20-9C936428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42540-70D8-4509-B22F-1459ACC9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B1E3C-624B-4281-820F-C16FF9B4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3C24C-7301-43CC-82C6-42B42090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6D65A-2D54-4304-AF0D-2B6446E2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03D8D6-8B2B-4E03-BD28-02C55701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31E-11C0-4BA6-A989-9C04B33A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463A0-C937-4FDD-94CE-0884C17B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F3A20-1F80-4D60-B2FB-604447F6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D3E28-1C7D-48A3-A85A-570DDFE1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A80A5-5806-4DF4-A21E-1E34ED39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AC410-7B1B-4CB0-9636-AC589976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8535C2-4765-4321-879F-621912F1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F488FE-813A-413F-88A5-D449B03B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DB80BC-E5E9-4064-9F8C-934DF283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7AE40-9CA7-489A-BB02-B8ADC13F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E1881-FD7E-41EE-98BC-977C7E35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3B4-8A05-4ED8-B90F-349F79E9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1BE77-414F-4E7E-956D-7D10DF33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B6BB7-EF6E-4419-93F1-2869ED1F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1C1AA-8300-46DD-AC78-164CB2A4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A982C-6E15-4841-8F37-A1C1B5EB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8BB6A-DAD5-4587-B97F-A49D1DD5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C7AAA-2EF6-43F8-AAD1-6CDADBDD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36E829-B6DB-4BE7-9AE7-E621327B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097A3-10CB-4789-A07B-1E27B7A0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369DD-B9EB-4B60-8A3A-BA3DA734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F9B39-AD1C-45B0-A78F-0CB9341B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875-8C8F-4716-B785-B590761A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39D2E-7B79-4C40-8687-4C12752B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A89A-4E57-47F3-BBC3-473782CA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CA3EF-34B1-48F4-B3FD-A36C0D3E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4ECF9-DCDC-41B8-B0D3-B8F5ED11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8B328-FC63-4C71-9205-8DE35E26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F7969-1CE7-4B1D-B77D-297F611D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6DDD7-B762-4985-BAF0-042B6E84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3F499-5ABC-4CA0-A913-45C2059C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0223C-093E-4107-A224-1AFCC3CC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D37EF-4078-4687-A06B-A0CFB607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490-244A-4CE3-9ECD-F3F1382D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47F4F-222E-43DD-91FB-8CCBE66A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73473-9B49-419E-BF05-1999F53D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2A235-167A-4389-9039-5A0BABBC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02344-CA8B-4AB5-BAA5-5DD36899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BC070-20C9-48C6-950A-A2E9A2B3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9EA205-920B-4698-A221-DB3F1EAB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ACDD5A-4885-4BDA-8E99-38920C83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FF301-CF89-4213-B833-CD95F1ED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0D0733-487A-47EF-821A-A332B483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5B76C-D948-4D60-94EF-F3152B91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8C3-1737-499B-A317-F851151C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DA58A-34FD-4B43-8642-EFDB6309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C53F4-4C24-474A-84CE-FAFD4085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19114-360F-43F4-A6D9-9569E682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9BA83B-360F-4CF8-BA65-4AC7AF85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D8F69-DA3F-45A9-9AA9-7115CACE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42A75-4EFE-498B-86C1-D53EA4EE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9B4B3-BF05-45F1-9851-92F6DD0F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BDE2B-87F1-4757-91E4-60F4B464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00F91-71EA-4D28-9066-4146599E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E4A5F-E987-4D71-AC70-384BAC30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8F8-DDC1-4AE7-ABDA-740A3CF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DBCCE-05FE-4CBA-88EE-D48C6398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C68F8-025F-4D37-B0FE-9D29F236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C7787-C5D6-4F39-95FF-175CA5B6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03411-3F84-4E91-AB67-A24971B0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99A83-29C1-4386-922A-54C2765E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3B030-892E-47AE-9E0A-106BC365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40358-18A8-4009-9E7E-C5B0DAE4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3C05-E85D-49DE-9EBA-664CDD57316F}" type="slidenum">
              <a:rPr b="1" lang="id-ID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9062-03AB-4AC0-9F1A-31E9190658CD}" type="slidenum">
              <a:rPr b="1" lang="id-ID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4950-1DC7-4327-A402-5CD6BCC05FCA}" type="slidenum">
              <a:rPr b="1" lang="id-ID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A314-2F7A-4C9B-B7B6-9C82FD745F0B}" type="slidenum">
              <a:rPr b="1" lang="id-ID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F2AE-621E-4734-A86F-6C8781D0A0D1}" type="slidenum">
              <a:rPr b="1" lang="id-ID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61FF-A376-4307-8533-783B67F5DB60}" type="slidenum">
              <a:rPr b="1" lang="id-ID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85DF-922A-47D0-A58C-C93A8B0D269F}" type="slidenum">
              <a:rPr b="1" lang="id-ID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D442-0DC9-4002-B99F-D07801141D49}" type="slidenum">
              <a:rPr b="1" lang="id-ID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ch.ca/psychiatry/bcnp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4386240" cy="26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300" spc="-1" strike="noStrike">
                <a:solidFill>
                  <a:srgbClr val="ff0000"/>
                </a:solidFill>
                <a:latin typeface="Tw Cen MT"/>
              </a:rPr>
              <a:t>GANGGUAN SOMATOFORM</a:t>
            </a:r>
            <a:br>
              <a:rPr sz="4000"/>
            </a:br>
            <a:r>
              <a:rPr b="0" lang="id-ID" sz="3200" spc="-1" strike="noStrike">
                <a:solidFill>
                  <a:srgbClr val="0070c0"/>
                </a:solidFill>
                <a:latin typeface="Tw Cen MT"/>
              </a:rPr>
              <a:t>DIAGNOSIS DAN MANIFESTASI KLINI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42600" y="3886200"/>
            <a:ext cx="7929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b050"/>
                </a:solidFill>
                <a:latin typeface="Tw Cen MT"/>
              </a:rPr>
              <a:t>Presentan : Meiliana Lindawa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b050"/>
                </a:solidFill>
                <a:latin typeface="Tw Cen MT"/>
              </a:rPr>
              <a:t>Narasumber : dr. Irmia Kusumadewi, Sp.KJ(K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5715000" y="214200"/>
            <a:ext cx="2786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DIAGNOSIS BANDING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Kondisi medis lain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danya gejala somatik tanpa etiologi yang jelas tidak cukup untuk diagnosis gangguan gejala somatik (contoh: irritable bowel syndrome, fibromyalgia). Adanya gangguan medis tertentu tidak menyingkirkan diagnosis GGS kalau kriteria terpenuh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Gangguan panik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pisod</a:t>
            </a:r>
            <a:r>
              <a:rPr b="0" lang="id-ID" sz="22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aku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Gangguan ansietas menyeluruh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juga khawatir tentang berbagai kejadian, situasi, kegiatan, di luar kesehata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Gangguan depresif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ejala inti mood disforik dan anhedoni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Gangguan ansietas penyakit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khawatir tanpa gejala yang jel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Gangguan konversi (</a:t>
            </a:r>
            <a:r>
              <a:rPr b="1" i="1" lang="en-US" sz="2200" spc="-1" strike="noStrike">
                <a:solidFill>
                  <a:srgbClr val="000000"/>
                </a:solidFill>
                <a:latin typeface="Tw Cen MT"/>
              </a:rPr>
              <a:t>functional neurological symptom disorder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)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ilang fung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Gangguan waham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tens, dengan keyakinan dan perilaku terkai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w Cen MT"/>
              </a:rPr>
              <a:t>Body dysmorphic disorder: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eokupasi (rasa) cacat pada penampila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OCD: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trusif, perilaku berulang untuk menghilangkan ansiet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40120" indent="-2401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8001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II. GANGGUAN KONVERS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500120" y="1600200"/>
            <a:ext cx="6858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1141560" y="2809800"/>
            <a:ext cx="70959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III. 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FAKTOR2 PSIKOLOGIS YG MEMPENGARUHI KONDISI MEDIS LAI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928800" y="1714680"/>
            <a:ext cx="7715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IV. GANGGUAN YANG DIBUAT-BU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612720" y="1762200"/>
            <a:ext cx="8153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612720" y="2049480"/>
            <a:ext cx="81532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V. GANGGUAN GEJALA SOMATIK YG SPESIFIK LAINNY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704880" y="1600200"/>
            <a:ext cx="7969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VI. 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GANGGUAN GEJALA SOMATIK YG TDK SPESIFIK LAINNY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12720" y="2270160"/>
            <a:ext cx="81532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Sumber Rujuka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575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merican Psychiatric Association: Diagnostic and Statistical Manual of Mental Disorders, Fifth Edition. Arlington, VA, American Psychiatric Association, 2013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88520" indent="-488520">
              <a:spcBef>
                <a:spcPts val="575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merican Psychiatric Association: Diagnostic and Statistical Manual of Mental Disorders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Edition, Text Revision.Washington, DC, American Psychiatric Association, 2000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88520" indent="-488520">
              <a:spcBef>
                <a:spcPts val="575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scobar, Javier I. Somatoform Disorders. In Sadock, Benjamin J. Sadock, Virginia A. Puiz, Pedro. Kaplan &amp; Sadock's Comprehensive Textbook of Psychiatry, 9th Edition, Lippincott Williams &amp; Wilkins. 2009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88520" indent="-488520">
              <a:spcBef>
                <a:spcPts val="575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w Cen MT"/>
              </a:rPr>
              <a:t>BC Neuropsychiatry Program. Somatoform disorder, Coping with chronic, disabling, unexplained physical symptom. Vancouver. 2008. </a:t>
            </a:r>
            <a:r>
              <a:rPr b="0" lang="id-ID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ww.vch.ca/psychiatry/bcnp.ht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88520" indent="-488520">
              <a:spcBef>
                <a:spcPts val="575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w Cen MT"/>
              </a:rPr>
              <a:t>American Psychiatric Association.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ighlights of Changes from DSM-IV-TR to DSM-5</a:t>
            </a:r>
            <a:r>
              <a:rPr b="0" lang="id-ID" sz="2000" spc="-1" strike="noStrike">
                <a:solidFill>
                  <a:srgbClr val="000000"/>
                </a:solidFill>
                <a:latin typeface="Tw Cen MT"/>
              </a:rPr>
              <a:t>. 2013. </a:t>
            </a:r>
            <a:r>
              <a:rPr b="0" lang="id-ID" sz="2000" spc="-1" strike="noStrike" u="sng">
                <a:solidFill>
                  <a:srgbClr val="000000"/>
                </a:solidFill>
                <a:uFillTx/>
                <a:latin typeface="Tw Cen MT"/>
              </a:rPr>
              <a:t>www.psychiatry.or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DSM IV-T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Gangguan Somatisas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Gangguan Konvers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Hipokondria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Gangguan Dismorfik tubu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Gangguan Nyer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Gangguan Somatoform yg tdk tergolongk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Gangguan Somatoform yg tdk Spesifi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TERIMA KASI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2214720" y="1571760"/>
            <a:ext cx="5143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78580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stilah “somatoform”  pada DSM-IV dianggap membingungkan, sehingga diubah menjadi “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somatic symptom and related disorders” 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(gangguan gejala somatik dan gangguan terkait) pada DSM-5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iri-ciri yang sama dalam kelompok klasifikasi DSM-5: gejala somatis menonjol, dengan distres dan hendaya yang bermakna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penderitaan yang otenti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ngguan ditandai fokus pada masalah somatik: awalnya datang (berkali-kali) ke dokter umum</a:t>
            </a:r>
            <a:r>
              <a:rPr b="0" lang="id-ID" sz="2700" spc="-1" strike="noStrike">
                <a:solidFill>
                  <a:srgbClr val="000000"/>
                </a:solidFill>
                <a:latin typeface="Tw Cen MT"/>
              </a:rPr>
              <a:t> atau fasilitas pelayanan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on-psikiatri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DSM 5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nekanan pada gejala dan tanda positif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gejala somatik yang menyebabkan distres ditambah pikiran, perasaan, dan perilaku sebagai respons terhadap gejala tersebut) dan bukan tidak adanya penjelasan medis untuk gejala somati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5520" indent="-245520"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ukan gejala somatiknya itu sendiri, melainkan cara gejala tersebut disampaikan dan diinterpretas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5520" indent="-245520"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ncakup komponen afektif, kognitif, dan perilaku (komprehensif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552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DSM 5 (G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gguan 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G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ejala 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S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omatik dan 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G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gguan 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T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erkait</a:t>
            </a:r>
            <a:r>
              <a:rPr b="0" lang="id-ID" sz="4000" spc="-1" strike="noStrike">
                <a:solidFill>
                  <a:srgbClr val="775f55"/>
                </a:solidFill>
                <a:latin typeface="Tw Cen MT"/>
              </a:rPr>
              <a:t>)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Gangguan gejala somatik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somatic symptom disorder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) termasuk nyeri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ngguan ansietas penyakit (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illness anxiety disorder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)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ngguan konversi (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functional neurological symptom disorder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)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aktor psikologis yang mempengaruhi kondisi medis lai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ngguan buatan (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factitious disorder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ejala somatik spesifik lai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ngguan gejala somatik yang tidak spesifi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ejala somatik yang tidak spesifik dan gangguan yang terkai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50920" indent="-2509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I. GANGGUAN GEJALA SOMATI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. Satu atau lebih gejala somatik yang menyebabkan distres atau sangat mengganggu kehidupan sehari-hari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. Pikiran, perasaan, atau perilaku yang berlebihan terkait dengan gejala somatik atau masalah kesehatan terkait yang tampil dalam bentuk minimal satu dari berikut ini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. Pikiran yang tidak proporsional dan persisten tentang keseriusan gejal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2. Tingkat ansietas yang tinggi secara menetap tentang kesehatan atau gejal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3. Dedikasi waktu dan tenaga yang berlebih untuk gejala atau masalah kesehatan tersebut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. Sekalipun gejala somatik tertentu tidak harus selalu ada, keadaan bergejala menetap (biasanya selama lebih dari 6 bulan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SPESIFIKAS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ngan predominan</a:t>
            </a:r>
            <a:r>
              <a:rPr b="0" lang="id-ID" sz="2900" spc="-1" strike="noStrike">
                <a:solidFill>
                  <a:srgbClr val="000000"/>
                </a:solidFill>
                <a:latin typeface="Tw Cen MT"/>
              </a:rPr>
              <a:t> nyeri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(sebelumnya gangguan nyeri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sisten: Gejala</a:t>
            </a:r>
            <a:r>
              <a:rPr b="0" lang="id-ID" sz="2900" spc="-1" strike="noStrike">
                <a:solidFill>
                  <a:srgbClr val="000000"/>
                </a:solidFill>
                <a:latin typeface="Tw Cen MT"/>
              </a:rPr>
              <a:t> dan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hendaya berat, durasi panjang (lebih dari 6 bulan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000000"/>
                </a:solidFill>
                <a:latin typeface="Tw Cen MT"/>
              </a:rPr>
              <a:t>Menurut tingkat keparah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ingan: Hanya memenuhi 1 gejala Kriteria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dang: 2 atau lebih gejala Kriteria 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rat: 2 atau lebih gejala Kriteria B di tambah keluhan somatik multipel (atau 1 yang sangat bera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775f55"/>
                </a:solidFill>
                <a:latin typeface="Tw Cen MT"/>
              </a:rPr>
              <a:t>Ciri khusu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asanya banyak gejala, bisa 1 berat (biasanya nyeri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sa spesifik (nyeri terlokalisir) atau tidak (fatigue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idak menandakan penyakit yang seriu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kedar gejala somatik tanpa penjelasan medis tidak cukup untuk menetapkan diagnosis in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sa ada penyakit medis (contoh: hendaya berat setelah infark miokard ringan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salah kesehatan bisa menjadi pusat kehidupan, ciri identitas, dan mendominasi relasi interpersona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Tw Cen MT"/>
              </a:rPr>
              <a:t>Menjalani pemeriksaan oleh b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nyak dokter untuk gejala yang sama. Tidak responsif terhadap intervensi medi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bisa memperparah, sensitif terhadap efek samp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merasa penanganan medis selama ini tidak memada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Tw Cen MT"/>
              </a:rPr>
              <a:t>Risiko bunuh diri meningkat </a:t>
            </a:r>
            <a:r>
              <a:rPr b="0" lang="id-ID" sz="2200" spc="-1" strike="noStrike">
                <a:solidFill>
                  <a:srgbClr val="000000"/>
                </a:solidFill>
                <a:latin typeface="Calibri"/>
                <a:ea typeface="Calibri"/>
              </a:rPr>
              <a:t>→ erat dengan gejala depre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6T14:19:04Z</dcterms:created>
  <dc:creator>ASUS</dc:creator>
  <dc:description/>
  <dc:language>en-US</dc:language>
  <cp:lastModifiedBy>ASUS</cp:lastModifiedBy>
  <dcterms:modified xsi:type="dcterms:W3CDTF">2014-03-20T00:34:25Z</dcterms:modified>
  <cp:revision>15</cp:revision>
  <dc:subject/>
  <dc:title>GANGGUAN SOMATOFORM DIAGNOSIS DAN GEJALA KLINIS</dc:title>
</cp:coreProperties>
</file>