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7DC-F470-4AF4-BE52-9378BABC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FCD-5A30-49A8-9BF6-714F19FE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67F-552A-41DD-825E-6CAFFF5B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231-80EF-4D84-98DB-4F26826F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698A-C611-481B-A944-33D67BD5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09DA-D365-4D5F-9682-A9A34677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90FD-4071-4A87-BDA2-90A8D0F3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012A-192A-42B2-B37B-68EF166B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B0EA-31EC-4A1D-987E-4369512A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C4DD-32A3-4A23-9A76-44446B89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CABE-2A38-4D63-A320-7CBCBB2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2E0-C20F-426C-968B-9EA9FA2C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CA01-79A8-47B7-A3D7-01DF0BB3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7509-59DA-4CDB-9027-A0A2871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CED5-2D7F-41C8-B59A-63AD0A49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90FE-DBF2-49C6-A688-7347FF6D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DDD0-D403-4704-B515-28BE6A7E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ABCEB-1174-4B95-B96A-B328A5FB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7A491-9A42-4E0D-8FCF-0B84A0CB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B86C5-770B-4C18-8601-24EF517B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F5505-B38E-4D93-ADD3-AA4EB564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41CAB-C75E-43CE-9FD7-B9EDC043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ABB-7244-4ED1-B442-5AE8F80F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3BABD-C619-4365-90F0-56A661DA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F1FD7-7828-4822-9133-9E6C9940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1C23E-F149-4CC8-BC97-DE6BB324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513E2-7B1E-489A-B326-B3F7DAD9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54487-354A-4FE2-893D-82BF0591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EA4E5-4327-4021-9534-A75BB08E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9EBC6-3BED-4EF1-B9AD-C6AE4D45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EF50A-E1F8-4272-9AA8-415B94E5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415834-7A0A-4786-8B70-24A5FF13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35D32-0047-48C9-A403-131A070C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87D-4DF8-4150-94B5-39DE2713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79020-CF61-43C6-BEE6-14871B5F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999F0-372F-43BE-A61E-F7210A60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1FAD9-89AD-476A-9AB9-C7953C86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DC041-6B98-4F84-9FF6-83938563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319718-749C-4164-B694-69FE89AF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91BD2-F63A-4D03-86C6-CBBC8D4C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1DA1C-5751-43B8-BBCC-242D7C63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889CF-ABFB-42D1-B9EF-34CE4AD6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9F4B6-4217-40B7-A330-7176BEB8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234D8-CF8E-4889-A3CE-E7F05B51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467-752B-49E8-B45C-77F33CD5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7420B-54DD-47D7-9A09-71DF9AA8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2CFB1-635D-4E8C-A206-09D73807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D7E50-E20F-4948-8EF7-C81D53AE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AA797-BB2C-4078-ADD5-AFA9756A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109DD-2819-4BF4-B812-F6417C8E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124B5-01E8-4827-B4E6-BB6BDDC3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43A93-B37F-486A-ADDA-945950C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B85D2-26F7-418B-A860-3D95EEB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03175-38F6-4820-8DCF-6998BCB0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2EEE06-A89F-49EA-8D91-0B47DEF5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C91-55E5-4A1F-9775-97377F7B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2F3C1-671C-4F77-9598-5BFB9BCE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ED930-A767-4230-8C5B-3BC6D7BE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F236D-63BB-44E0-8D28-FBC38FBE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8938E-D2C3-4043-94EE-58CABAE6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0F4CC-884A-4F1C-8AB0-A44C8DEF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B5649-E75C-4AA2-9C44-23C160BB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FD16F-03B6-483E-9210-A66E34FF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4FC4E-A5B3-4139-825F-9983259F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310F-F1AC-4AD6-8049-49CD665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829BC-E980-45F2-9986-C309D818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2DB-48AD-4192-A96D-3E0EEBA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3B14-CC90-488F-9520-AEC4CA61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7A0C6-70E2-435F-816A-8970275E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D6BE3-1CDE-417E-9BD6-E7EB98F1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58722-B227-4657-891C-9F9EB54E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BB51B-2AE9-4C90-B82A-A3EADFFC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D4E71-8E4B-45D0-93D7-03F9B28E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98B994-1F78-45E8-8067-2CCE4A5C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55867-6210-4FA7-8720-8D80F14A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5A12B-A6FC-4F1A-A894-AA822699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69A1E-3D97-4717-A736-CD6026A0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F92-03A2-4CD0-8CDB-E1BF96E5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DD0E6-E817-40B5-9CC3-47C7C83A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B9D3F-B0DF-457E-904C-C1E49C53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4904B-DF62-49D6-AD32-E062D462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2D108-2F1F-449B-8A56-ABD1D0A3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0D2D3-9636-4FA4-9CB7-1924EDEE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D0921-22B1-4766-BF0F-89930692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DE6B2-8BEC-415A-B061-42E79CE8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8D2A5-AA5C-480D-B8F7-5E2BC7B3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4886F-9386-4121-A457-2F45D6D0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A60EF-4279-4F6C-B3EA-FED8C388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89B-7944-4C7D-9EA0-D7DAE098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0CCBC-0DC6-4788-9D5D-225D44E1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4AD33-9093-4848-9974-0EDE813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56FC8-5A9B-42FC-9C23-D50383C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8C888-D58B-469A-9E1B-32B83EC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5D3F9-A473-4E49-9E02-152D2529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D06AF-A953-4FB2-A30B-C0A29E75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5DCF6-605C-430B-8A4B-1FAEF607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5D6A-AAE9-425D-A2B5-5475F407A832}" type="slidenum">
              <a:rPr b="1" lang="id-ID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476C-EDDD-4853-A425-FFBC8B1E1529}" type="slidenum">
              <a:rPr b="1" lang="id-ID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74A2-1618-4D81-8C47-EAFEF72BC624}" type="slidenum">
              <a:rPr b="1" lang="id-ID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5E06-0AD7-49DE-9410-E81A8A1080FE}" type="slidenum">
              <a:rPr b="1" lang="id-ID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3F53-A57E-4075-B36C-B52B78BB2A32}" type="slidenum">
              <a:rPr b="1" lang="id-ID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794C-A878-453A-95DA-E0526D45D7DF}" type="slidenum">
              <a:rPr b="1" lang="id-ID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87B5-8C52-4282-B7CE-986F3A5293C9}" type="slidenum">
              <a:rPr b="1" lang="id-ID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AD65-D3B6-4F7F-B215-4A2FDBC8FD9F}" type="slidenum">
              <a:rPr b="1" lang="id-ID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ch.ca/psychiatry/bcnp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4386240" cy="26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300" spc="-1" strike="noStrike">
                <a:solidFill>
                  <a:srgbClr val="ff0000"/>
                </a:solidFill>
                <a:latin typeface="Tw Cen MT"/>
              </a:rPr>
              <a:t>GANGGUAN SOMATOFORM</a:t>
            </a:r>
            <a:br>
              <a:rPr sz="4000"/>
            </a:br>
            <a:r>
              <a:rPr b="0" lang="id-ID" sz="3200" spc="-1" strike="noStrike">
                <a:solidFill>
                  <a:srgbClr val="0070c0"/>
                </a:solidFill>
                <a:latin typeface="Tw Cen MT"/>
              </a:rPr>
              <a:t>DIAGNOSIS DAN MANIFESTASI KLINI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42600" y="3886200"/>
            <a:ext cx="7929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b050"/>
                </a:solidFill>
                <a:latin typeface="Tw Cen MT"/>
              </a:rPr>
              <a:t>Presentan : Meiliana Lindawa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b050"/>
                </a:solidFill>
                <a:latin typeface="Tw Cen MT"/>
              </a:rPr>
              <a:t>Narasumber : dr. Irmia Kusumadewi, Sp.KJ(K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5715000" y="21420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DIAGNOSIS BANDING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Kondisi medis lain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danya gejala somatik tanpa etiologi yang jelas tidak cukup untuk diagnosis gangguan gejala somatik (contoh: irritable bowel syndrome, fibromyalgia). Adanya gangguan medis tertentu tidak menyingkirkan diagnosis GGS kalau kriteria terpenuh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panik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pisod</a:t>
            </a:r>
            <a:r>
              <a:rPr b="0" lang="id-ID" sz="22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aku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ansietas menyeluruh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juga khawatir tentang berbagai kejadian, situasi, kegiatan, di luar kesehata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depresif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ejala inti mood disforik dan anhedoni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ansietas penyakit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khawatir tanpa gejala yang jel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konversi (</a:t>
            </a:r>
            <a:r>
              <a:rPr b="1" i="1" lang="en-US" sz="2200" spc="-1" strike="noStrike">
                <a:solidFill>
                  <a:srgbClr val="000000"/>
                </a:solidFill>
                <a:latin typeface="Tw Cen MT"/>
              </a:rPr>
              <a:t>functional neurological symptom disorder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)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ilang fung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waham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tens, dengan keyakinan dan perilaku terka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w Cen MT"/>
              </a:rPr>
              <a:t>Body dysmorphic disorder: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eokupasi (rasa) cacat pada penampila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OCD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trusif, perilaku berulang untuk menghilangkan ansiet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8001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II. GANGGUAN KONVERS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500120" y="1600200"/>
            <a:ext cx="6858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141560" y="2809800"/>
            <a:ext cx="7095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III.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FAKTOR2 PSIKOLOGIS YG MEMPENGARUHI KONDISI MEDIS LAI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928800" y="1714680"/>
            <a:ext cx="7715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IV. GANGGUAN YANG DIBUAT-BU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612720" y="1762200"/>
            <a:ext cx="8153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612720" y="2049480"/>
            <a:ext cx="81532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V. GANGGUAN GEJALA SOMATIK YG SPESIFIK LAINNY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7969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VI.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GANGGUAN GEJALA SOMATIK YG TDK SPESIFIK LAINNY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12720" y="2270160"/>
            <a:ext cx="81532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Sumber Rujuka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575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merican Psychiatric Association: Diagnostic and Statistical Manual of Mental Disorders, Fifth Edition. Arlington, VA, American Psychiatric Association, 2013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88520" indent="-488520">
              <a:spcBef>
                <a:spcPts val="575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merican Psychiatric Association: Diagnostic and Statistical Manual of Mental Disorders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Edition, Text Revision.Washington, DC, American Psychiatric Association, 2000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88520" indent="-488520">
              <a:spcBef>
                <a:spcPts val="575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scobar, Javier I. Somatoform Disorders. In Sadock, Benjamin J. Sadock, Virginia A. Puiz, Pedro. Kaplan &amp; Sadock's Comprehensive Textbook of Psychiatry, 9th Edition, Lippincott Williams &amp; Wilkins. 2009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88520" indent="-488520">
              <a:spcBef>
                <a:spcPts val="575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w Cen MT"/>
              </a:rPr>
              <a:t>BC Neuropsychiatry Program. Somatoform disorder, Coping with chronic, disabling, unexplained physical symptom. Vancouver. 2008. </a:t>
            </a:r>
            <a:r>
              <a:rPr b="0" lang="id-ID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vch.ca/psychiatry/bcnp.ht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88520" indent="-488520">
              <a:spcBef>
                <a:spcPts val="575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w Cen MT"/>
              </a:rPr>
              <a:t>American Psychiatric Association.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ighlights of Changes from DSM-IV-TR to DSM-5</a:t>
            </a:r>
            <a:r>
              <a:rPr b="0" lang="id-ID" sz="2000" spc="-1" strike="noStrike">
                <a:solidFill>
                  <a:srgbClr val="000000"/>
                </a:solidFill>
                <a:latin typeface="Tw Cen MT"/>
              </a:rPr>
              <a:t>. 2013. </a:t>
            </a:r>
            <a:r>
              <a:rPr b="0" lang="id-ID" sz="2000" spc="-1" strike="noStrike" u="sng">
                <a:solidFill>
                  <a:srgbClr val="000000"/>
                </a:solidFill>
                <a:uFillTx/>
                <a:latin typeface="Tw Cen MT"/>
              </a:rPr>
              <a:t>www.psychiatry.or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DSM IV-T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Somatisas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Konvers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Hipokondria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Dismorfik tubu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Nyer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Somatoform yg tdk tergolongk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Somatoform yg tdk Spesifi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TERIMA KASI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2214720" y="1571760"/>
            <a:ext cx="5143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78580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stilah “somatoform”  pada DSM-IV dianggap membingungkan, sehingga diubah menjadi “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somatic symptom and related disorders” 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(gangguan gejala somatik dan gangguan terkait) pada DSM-5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iri-ciri yang sama dalam kelompok klasifikasi DSM-5: gejala somatis menonjol, dengan distres dan hendaya yang bermakna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penderitaan yang otenti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ngguan ditandai fokus pada masalah somatik: awalnya datang (berkali-kali) ke dokter umum</a:t>
            </a:r>
            <a:r>
              <a:rPr b="0" lang="id-ID" sz="2700" spc="-1" strike="noStrike">
                <a:solidFill>
                  <a:srgbClr val="000000"/>
                </a:solidFill>
                <a:latin typeface="Tw Cen MT"/>
              </a:rPr>
              <a:t> atau fasilitas pelayanan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on-psikiatri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DSM 5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nekanan pada gejala dan tanda positif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gejala somatik yang menyebabkan distres ditambah pikiran, perasaan, dan perilaku sebagai respons terhadap gejala tersebut) dan bukan tidak adanya penjelasan medis untuk gejala somati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5520" indent="-245520"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ukan gejala somatiknya itu sendiri, melainkan cara gejala tersebut disampaikan dan diinterpretas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5520" indent="-245520"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ncakup komponen afektif, kognitif, dan perilaku (komprehensif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552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DSM 5 (G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gguan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G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ejala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S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omatik dan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G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gguan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T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erkait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)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Gangguan gejala somatik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somatic symptom disorder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) termasuk nyeri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ngguan ansietas penyakit (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illness anxiety disorder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ngguan konversi (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functional neurological symptom disorder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aktor psikologis yang mempengaruhi kondisi medis lai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ngguan buatan (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factitious disorder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ejala somatik spesifik lai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ngguan gejala somatik yang tidak spesifi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ejala somatik yang tidak spesifik dan gangguan yang terkai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I. GANGGUAN GEJALA SOMATI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. Satu atau lebih gejala somatik yang menyebabkan distres atau sangat mengganggu kehidupan sehari-hari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. Pikiran, perasaan, atau perilaku yang berlebihan terkait dengan gejala somatik atau masalah kesehatan terkait yang tampil dalam bentuk minimal satu dari berikut ini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. Pikiran yang tidak proporsional dan persisten tentang keseriusan gejal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2. Tingkat ansietas yang tinggi secara menetap tentang kesehatan atau gejal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3. Dedikasi waktu dan tenaga yang berlebih untuk gejala atau masalah kesehatan tersebu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. Sekalipun gejala somatik tertentu tidak harus selalu ada, keadaan bergejala menetap (biasanya selama lebih dari 6 bulan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SPESIFIKAS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ngan predominan</a:t>
            </a: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 nyeri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sebelumnya gangguan nyeri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sisten: Gejala</a:t>
            </a: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 da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hendaya berat, durasi panjang (lebih dari 6 bulan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Menurut tingkat keparah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ingan: Hanya memenuhi 1 gejala Kriteria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dang: 2 atau lebih gejala Kriteria 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rat: 2 atau lebih gejala Kriteria B di tambah keluhan somatik multipel (atau 1 yang sangat bera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Ciri khusu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asanya banyak gejala, bisa 1 berat (biasanya nyeri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sa spesifik (nyeri terlokalisir) atau tidak (fatigue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idak menandakan penyakit yang seriu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kedar gejala somatik tanpa penjelasan medis tidak cukup untuk menetapkan diagnosis in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sa ada penyakit medis (contoh: hendaya berat setelah infark miokard ringan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salah kesehatan bisa menjadi pusat kehidupan, ciri identitas, dan mendominasi relasi interpersona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Tw Cen MT"/>
              </a:rPr>
              <a:t>Menjalani pemeriksaan oleh b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nyak dokter untuk gejala yang sama. Tidak responsif terhadap intervensi medi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bisa memperparah, sensitif terhadap efek samp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merasa penanganan medis selama ini tidak memada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Tw Cen MT"/>
              </a:rPr>
              <a:t>Risiko bunuh diri meningkat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  <a:ea typeface="Calibri"/>
              </a:rPr>
              <a:t>→ erat dengan gejala depre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14:19:04Z</dcterms:created>
  <dc:creator>ASUS</dc:creator>
  <dc:description/>
  <dc:language>en-US</dc:language>
  <cp:lastModifiedBy>ASUS</cp:lastModifiedBy>
  <dcterms:modified xsi:type="dcterms:W3CDTF">2014-03-20T00:34:25Z</dcterms:modified>
  <cp:revision>15</cp:revision>
  <dc:subject/>
  <dc:title>GANGGUAN SOMATOFORM DIAGNOSIS DAN GEJALA KLINIS</dc:title>
</cp:coreProperties>
</file>