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28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7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2D07-601F-4AF2-BADC-404573E39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D162-F617-4D2D-8831-7672F87D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5414-0E5D-4B4C-864F-76B88D7C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0727-7C9F-4ADD-8E34-BDE0B4A0E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F1F2-29DB-4AB6-B981-BA468A5E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8266-A1F7-4EEC-B43A-B9405437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B025-1A2E-4279-9F58-0F8AA8BD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E63B-F0D2-4195-A9C6-4723478E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04E5-5E85-4735-A80D-E01C6812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AAF1-038E-48B4-BE43-BB81EFEF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D499-D5DE-42E4-8596-1A9A71A1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4C10-5EEB-467C-843C-54711140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BDB9-B29C-482F-B4AF-66E721ABD4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HOTO_10544346_21864_25407920_ap.jpg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PHOTO_10544346_21864_25407920_ap.jpg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3" descr=""/>
          <p:cNvPicPr/>
          <p:nvPr/>
        </p:nvPicPr>
        <p:blipFill>
          <a:blip r:embed="rId3"/>
          <a:stretch/>
        </p:blipFill>
        <p:spPr>
          <a:xfrm>
            <a:off x="1779480" y="2981160"/>
            <a:ext cx="5614920" cy="981360"/>
          </a:xfrm>
          <a:prstGeom prst="rect">
            <a:avLst/>
          </a:prstGeom>
          <a:ln w="0">
            <a:noFill/>
          </a:ln>
        </p:spPr>
      </p:pic>
      <p:pic>
        <p:nvPicPr>
          <p:cNvPr id="44" name="Pavarotti - Caruso.wav" descr=""/>
          <p:cNvPicPr/>
          <p:nvPr/>
        </p:nvPicPr>
        <p:blipFill>
          <a:blip r:embed="rId4"/>
          <a:stretch/>
        </p:blipFill>
        <p:spPr>
          <a:xfrm>
            <a:off x="-1219320" y="6735600"/>
            <a:ext cx="244440" cy="2448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Cannobio_panoram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" descr="Cannobio_panoram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304920" y="2286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000000"/>
                </a:solidFill>
                <a:latin typeface="Arial"/>
              </a:rPr>
              <a:t>Cannob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cannobio-waterfron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7467480" y="3049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000000"/>
                </a:solidFill>
                <a:latin typeface="Arial"/>
              </a:rPr>
              <a:t>Canno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42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Cannobio (Lago Maggiore)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7543800" y="304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000000"/>
                </a:solidFill>
                <a:latin typeface="Arial"/>
              </a:rPr>
              <a:t>Canno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Lago_Maggiore_P2_351221955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6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splendid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splendid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MnnS_SWD___Italy___Lake_Maggiore_Borromeo_Gulf___Piedmont.jpg"/>
          <p:cNvPicPr/>
          <p:nvPr/>
        </p:nvPicPr>
        <p:blipFill>
          <a:blip r:embed="rId1"/>
          <a:srcRect l="0" t="0" r="15" b="2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83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Lago_Maggiore_Locarno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73" name="TextBox 2"/>
          <p:cNvSpPr/>
          <p:nvPr/>
        </p:nvSpPr>
        <p:spPr>
          <a:xfrm>
            <a:off x="457200" y="304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Locarno=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457200" y="304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2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Stresa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Box 3"/>
          <p:cNvSpPr/>
          <p:nvPr/>
        </p:nvSpPr>
        <p:spPr>
          <a:xfrm>
            <a:off x="228600" y="3049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000000"/>
                </a:solidFill>
                <a:latin typeface="Arial"/>
              </a:rPr>
              <a:t>St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14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Stresa.jpe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>
            <a:off x="304920" y="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000000"/>
                </a:solidFill>
                <a:latin typeface="Arial"/>
              </a:rPr>
              <a:t>St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1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LAgo Maggiore.gif"/>
          <p:cNvPicPr/>
          <p:nvPr/>
        </p:nvPicPr>
        <p:blipFill>
          <a:blip r:embed="rId1"/>
          <a:stretch/>
        </p:blipFill>
        <p:spPr>
          <a:xfrm>
            <a:off x="0" y="84240"/>
            <a:ext cx="4937040" cy="66895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5105520" y="228600"/>
            <a:ext cx="3733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ake Maggiore (or</a:t>
            </a:r>
            <a:r>
              <a:rPr b="1" lang="sq-AL" sz="2000" spc="-1" strike="noStrike">
                <a:solidFill>
                  <a:srgbClr val="000000"/>
                </a:solidFill>
                <a:latin typeface="Calibri"/>
              </a:rPr>
              <a:t> Verbano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) is at a height of 193 m and covers an area of 212 square km. Its western shore is in Piedmont, its eastern shore in Lombardy, and in the north it enters the Swiss canton of Tici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"/>
          <p:cNvSpPr/>
          <p:nvPr/>
        </p:nvSpPr>
        <p:spPr>
          <a:xfrm>
            <a:off x="5181480" y="3290040"/>
            <a:ext cx="3733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alibri"/>
              </a:rPr>
              <a:t>Lake Maggiore is the most westerly of the three great prealpine lakes of Italy. It extends for about 70 km between Locarno and Arona.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ake Maggiore is 68 km long, with a breadth which varies from 3 to 5 km, except at the bay opening westward between </a:t>
            </a:r>
            <a:r>
              <a:rPr b="1" lang="sq-AL" sz="2000" spc="-1" strike="noStrike">
                <a:solidFill>
                  <a:srgbClr val="ffffff"/>
                </a:solidFill>
                <a:latin typeface="Calibri"/>
              </a:rPr>
              <a:t>Pallanza and Stresa, where this reaches 10 k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regina-palace-stresa-italy.JPG"/>
          <p:cNvPicPr/>
          <p:nvPr/>
        </p:nvPicPr>
        <p:blipFill>
          <a:blip r:embed="rId1"/>
          <a:stretch/>
        </p:blipFill>
        <p:spPr>
          <a:xfrm>
            <a:off x="0" y="0"/>
            <a:ext cx="923616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3886200" y="457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000000"/>
                </a:solidFill>
                <a:latin typeface="Arial"/>
              </a:rPr>
              <a:t>St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8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grand-hotel-bristol-in-stresa-stresa-italy+1152_12827630306-tpfil02aw-807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7848720" y="228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000000"/>
                </a:solidFill>
                <a:latin typeface="Arial"/>
              </a:rPr>
              <a:t>St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0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StresaItalyJune2009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" descr="StresaItalyJune2009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2"/>
          <p:cNvSpPr/>
          <p:nvPr/>
        </p:nvSpPr>
        <p:spPr>
          <a:xfrm>
            <a:off x="304920" y="228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000000"/>
                </a:solidFill>
                <a:latin typeface="Arial"/>
              </a:rPr>
              <a:t>St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5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Stresa - Villa Pallavicino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Box 2"/>
          <p:cNvSpPr/>
          <p:nvPr/>
        </p:nvSpPr>
        <p:spPr>
          <a:xfrm>
            <a:off x="601992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000000"/>
                </a:solidFill>
                <a:latin typeface="Arial"/>
              </a:rPr>
              <a:t>Stresa – Villa P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q-AL" sz="1800" spc="-1" strike="noStrike">
                <a:solidFill>
                  <a:srgbClr val="000000"/>
                </a:solidFill>
                <a:latin typeface="Arial"/>
              </a:rPr>
              <a:t>avic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77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00 Lago-Maggiore_11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152280" y="2286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000000"/>
                </a:solidFill>
                <a:latin typeface="Arial"/>
              </a:rPr>
              <a:t>Stre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9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000"/>
                            </p:stCondLst>
                            <p:childTnLst>
                              <p:par>
                                <p:cTn id="2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IMG_127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304920" y="62485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1800" spc="-1" strike="noStrike">
                <a:solidFill>
                  <a:srgbClr val="000000"/>
                </a:solidFill>
                <a:latin typeface="Arial"/>
              </a:rPr>
              <a:t>St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1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Pallanza - Villa Taranto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Pallanza - Villa Taranto.jpe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/>
          <p:cNvSpPr/>
          <p:nvPr/>
        </p:nvSpPr>
        <p:spPr>
          <a:xfrm>
            <a:off x="6400800" y="6172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ffffff"/>
                </a:solidFill>
                <a:latin typeface="Arial"/>
              </a:rPr>
              <a:t>Pallan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q-AL" sz="1800" spc="-1" strike="noStrike">
                <a:solidFill>
                  <a:srgbClr val="ffffff"/>
                </a:solidFill>
                <a:latin typeface="Arial"/>
              </a:rPr>
              <a:t> – Villa Tar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sq-AL" sz="1800" spc="-1" strike="noStrike">
                <a:solidFill>
                  <a:srgbClr val="ffffff"/>
                </a:solidFill>
                <a:latin typeface="Arial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6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Pallanza- Villa Taranto2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Box 2"/>
          <p:cNvSpPr/>
          <p:nvPr/>
        </p:nvSpPr>
        <p:spPr>
          <a:xfrm>
            <a:off x="380880" y="228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000000"/>
                </a:solidFill>
                <a:latin typeface="Arial"/>
              </a:rPr>
              <a:t>Pallan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q-AL" sz="1800" spc="-1" strike="noStrike">
                <a:solidFill>
                  <a:srgbClr val="000000"/>
                </a:solidFill>
                <a:latin typeface="Arial"/>
              </a:rPr>
              <a:t> – Villa Ta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q-AL" sz="18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28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0La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304920" y="30492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stery of Santa </a:t>
            </a:r>
            <a:r>
              <a:rPr b="0" lang="sq-AL" sz="1800" spc="-1" strike="noStrike">
                <a:solidFill>
                  <a:srgbClr val="ffffff"/>
                </a:solidFill>
                <a:latin typeface="Arial"/>
              </a:rPr>
              <a:t>Caterin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l </a:t>
            </a:r>
            <a:r>
              <a:rPr b="0" lang="sq-AL" sz="1800" spc="-1" strike="noStrike">
                <a:solidFill>
                  <a:srgbClr val="ffffff"/>
                </a:solidFill>
                <a:latin typeface="Arial"/>
              </a:rPr>
              <a:t>Sa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0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eremo_di_santa_caterina_del_sasso2.jpg"/>
          <p:cNvPicPr/>
          <p:nvPr/>
        </p:nvPicPr>
        <p:blipFill>
          <a:blip r:embed="rId1"/>
          <a:stretch/>
        </p:blipFill>
        <p:spPr>
          <a:xfrm>
            <a:off x="0" y="0"/>
            <a:ext cx="92124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380880" y="4572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stery of </a:t>
            </a:r>
            <a:r>
              <a:rPr b="0" lang="sq-AL" sz="1800" spc="-1" strike="noStrike">
                <a:solidFill>
                  <a:srgbClr val="ffffff"/>
                </a:solidFill>
                <a:latin typeface="Arial"/>
              </a:rPr>
              <a:t>Santa Caterina del Sas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2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Aron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228600" y="228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000000"/>
                </a:solidFill>
                <a:latin typeface="Arial"/>
              </a:rPr>
              <a:t>A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1 lago%20dalla%20camera%20giall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64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PHOTO_13653570_65101_31897823_ap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1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ronco-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"/>
          <p:cNvSpPr/>
          <p:nvPr/>
        </p:nvSpPr>
        <p:spPr>
          <a:xfrm>
            <a:off x="5181480" y="3657600"/>
            <a:ext cx="3505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Monotype Corsiva"/>
              </a:rPr>
              <a:t>Images and text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Monotype Corsiva"/>
              </a:rPr>
              <a:t>Music: </a:t>
            </a:r>
            <a:r>
              <a:rPr b="1" lang="sq-AL" sz="2000" spc="-1" strike="noStrike">
                <a:solidFill>
                  <a:srgbClr val="e46c0a"/>
                </a:solidFill>
                <a:latin typeface="Monotype Corsiva"/>
              </a:rPr>
              <a:t>Luciano </a:t>
            </a:r>
            <a:r>
              <a:rPr b="1" lang="en-US" sz="2000" spc="-1" strike="noStrike">
                <a:solidFill>
                  <a:srgbClr val="e46c0a"/>
                </a:solidFill>
                <a:latin typeface="Monotype Corsiva"/>
              </a:rPr>
              <a:t>Pavarotti  “Carus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7620120" y="5791320"/>
            <a:ext cx="99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Monotype Corsiva"/>
              </a:rPr>
              <a:t>Adr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TextBox 4" descr=""/>
          <p:cNvPicPr/>
          <p:nvPr/>
        </p:nvPicPr>
        <p:blipFill>
          <a:blip r:embed="rId2"/>
          <a:stretch/>
        </p:blipFill>
        <p:spPr>
          <a:xfrm>
            <a:off x="1066680" y="914400"/>
            <a:ext cx="6851880" cy="9748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8"/>
          <p:cNvSpPr/>
          <p:nvPr/>
        </p:nvSpPr>
        <p:spPr>
          <a:xfrm>
            <a:off x="380880" y="3808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000000"/>
                </a:solidFill>
                <a:latin typeface="Arial"/>
              </a:rPr>
              <a:t>Ro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fade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70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9000"/>
                            </p:stCondLst>
                            <p:childTnLst>
                              <p:par>
                                <p:cTn id="3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Arona_9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380880" y="304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000000"/>
                </a:solidFill>
                <a:latin typeface="Arial"/>
              </a:rPr>
              <a:t>A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Baveno_3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685800" y="533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ffffff"/>
                </a:solidFill>
                <a:latin typeface="Arial"/>
              </a:rPr>
              <a:t>Bav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BavenoLakeMaggioreItal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228600" y="152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ffffff"/>
                </a:solidFill>
                <a:latin typeface="Arial"/>
              </a:rPr>
              <a:t>Bav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00-0-Brissag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228600" y="304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000000"/>
                </a:solidFill>
                <a:latin typeface="Arial"/>
              </a:rPr>
              <a:t>Briss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bg-Brissag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457200" y="380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ffffff"/>
                </a:solidFill>
                <a:latin typeface="Arial"/>
              </a:rPr>
              <a:t>Briss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Hotel%20on%20Lake%20Maggio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0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8T05:28:34Z</dcterms:created>
  <dc:creator>Adriana Nastase</dc:creator>
  <dc:description/>
  <dc:language>en-US</dc:language>
  <cp:lastModifiedBy>Adriana Nastase</cp:lastModifiedBy>
  <dcterms:modified xsi:type="dcterms:W3CDTF">2011-05-28T05:29:12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2867249</vt:lpwstr>
  </property>
  <property fmtid="{D5CDD505-2E9C-101B-9397-08002B2CF9AE}" pid="3" name="NXPowerLiteVersion">
    <vt:lpwstr>D4.1.2</vt:lpwstr>
  </property>
  <property fmtid="{D5CDD505-2E9C-101B-9397-08002B2CF9AE}" pid="4" name="NXTAG2">
    <vt:lpwstr>0008003c45000000000001024120</vt:lpwstr>
  </property>
</Properties>
</file>